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EA8F-BB09-4DC1-9DD7-C14606290F9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5514-C2F4-42D4-BC86-B54EEEAB444C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1894-A06F-4345-AB02-0D76DCB0D916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3210-1D5D-43EA-9ABA-F4DBCA711FF6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77B9-42BE-4251-9099-44DBD287B7A0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9B0-9C8B-4F0C-94BF-B4260C41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E22-D1CB-4F4B-BAD2-9DB013C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761-423E-4104-95E2-9975363D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D0C-4ED4-4B12-85AB-EEA07D7A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45475-7AB8-4298-B424-B396CF53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FAE77-6D59-42AF-A6A9-30E8E967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B59D9-49B2-4CE5-948F-615C14D6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2AFC7-0106-497A-9C15-2CEC1CCD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309AB-0084-49E1-BD98-A82E6EAD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CB424-6A57-4D89-B6D7-6A02D7D5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6D989-3037-40BC-8A6B-56347AE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570-181A-45B5-9243-FE0A23E2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41933-BE1F-4F8E-92D1-1274CA3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FA99A-0387-442A-B9F0-4B540A2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A3441-5A48-429A-9421-AEEB6874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E221E-DC9F-4E30-9E21-5006A2FC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71206-2301-451F-9B04-EC0C3A64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2C62-19B9-4F98-8A50-06951918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F36F9-1936-4B43-AACA-311CF7F5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EA20-7D70-40C9-A206-92182DC4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5DED-A54A-4B47-B7D8-75569C50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712D-2E4C-4285-83A9-C0DD6397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59E-9B2A-4F63-8312-2DD7D3C6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8074-E7F6-4151-AEEA-924E222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5561-4F8C-4886-8279-E035E945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6E85-6E50-4892-8C31-3A0C192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A691-6C15-41C2-BCC1-ACB0C986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CF62-3152-4241-AE01-E4856939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8E0E-EEF6-4DA2-9950-6F006B4F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41A3-635A-4890-830F-D8FB2A79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36B99-A546-40DC-9BC1-863DDFD6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334BE-D42C-469A-8550-D83451A5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E1674B-4F43-48D3-BA48-A112FB68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038-2479-4C8B-932F-7C9E93DF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C65E2-56B1-4024-8FA2-D71BDD17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D2CEF-8213-4DEB-BB71-07D8D75D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0B00D-35B4-434F-9B17-88F8884B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1196B-F761-4763-9C89-49C5EBC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7A8C1-8EAD-4B30-931D-C299EC2E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A0B50F-F0BD-4583-8E24-1876608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31EC5-DFC4-4AF5-AE54-390DF677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99CFE4-78B6-4EBC-8339-F2A37354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A31F9-C84C-47B8-8968-DBF7533E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69F-640F-4AA4-8B6D-16E2833B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914-41E5-402E-ACFD-C5AAC737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A7D-5E2B-4A04-A88D-66AA87C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C60-2134-4FB9-85AC-0DBC7263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F11-EE19-4677-9A1C-8A91F40A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A03D-6EE8-45F6-A074-DC914CE6C880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C6F-A825-48CD-85C7-80CF69F780BB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CCAF-FD24-42F2-91F7-29F54E36A7CF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1BEC-F209-4901-9143-6C676FCEA101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hora trabajas en una importante empresa en un cargo de nivel medio y se presentan oportunida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Y debes tomar decisió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efac9"/>
                </a:solidFill>
                <a:latin typeface="Constantia"/>
              </a:rPr>
              <a:t>Por cuál oportunidad dejarías tu trabajo?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Hacer crecer las compras por Interne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uesta que la gente quiera transar en internet con su tarjeta de crédito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Y cuando lo hacen no quieren gastar mucho, mejor no tenerla tan a mano, mejor medirse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na importante y reconocida estrella de Hollywood se interesó y comprometió a full su publicidad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rear una moneda virtual para transar en Interne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 para vivir, mientras se levanta capit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Viña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De una hectárea, la mitad de uvas se exporta y la mitad se vende en el mercado local(jugos, etc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En cierto momento suben las exportaciones de uvas, y por lo tanto, sobra mucha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, hay sobreoferta loc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Los agricultores regalaban uvas a sus trabajadores para hacer pasas (son las uvas de mala calidad 0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Profesionalizar la exportación de pasa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ienda quebr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Los tres últimos dueños quebrar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Relativamente mala ubicación, pero con una notaría al lad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Tienda de helado tiene mala venta en inviern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Comprar la tienda y seguir con los helado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USD 10.000 la primera cuot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06:10Z</dcterms:created>
  <dc:creator>dalvo</dc:creator>
  <dc:description/>
  <dc:language>en-US</dc:language>
  <cp:lastModifiedBy>Cristián Cofré</cp:lastModifiedBy>
  <dcterms:modified xsi:type="dcterms:W3CDTF">2012-03-19T13:04:17Z</dcterms:modified>
  <cp:revision>17</cp:revision>
  <dc:subject/>
  <dc:title>No Somos Emprendedores…</dc:title>
</cp:coreProperties>
</file>