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557-81B0-4830-B155-79EABCD184F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05BB-4F4D-482C-AF52-C46C3E6EB214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4E5F-3771-4B3D-9EE7-FDCA2240A069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322A-CF51-44D8-B657-16F1F8F5DBB6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5F3A-3230-46FC-B1AE-643DD78EA784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097-256C-45AD-8EED-70D8F768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034-2C6E-46AF-980A-5BF36749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943-3C51-4E85-9FB0-9B8121F2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8F1-B6CF-4155-8CF1-A3831F1D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9433C-DF4B-47CB-A43B-A044B400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7572A-3436-4A97-9746-886C4D03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D3E3-752E-4E77-A8B9-9E414924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6E40B-E2F8-4B43-8511-7D153BA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2FEE9-E9DE-4A6C-9F04-30EC08D3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7111A-FCA4-41B5-9ED6-01DF8493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27CD5-2D62-463A-AB73-EE3239B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16C-0705-4273-AD14-D217F25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A0A77-A9FB-41F4-A9B4-3384CCF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89A58-FC49-4E61-8F0E-A27EEA8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B0768-1F7B-4631-AA83-E6953573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CBA4E-29BB-4972-B707-835E8B4D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FB083-8FB9-4C2E-8B1D-F346EDB7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D933-432F-4BDE-9A97-787F58E4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F749-D11C-4DC7-BF9B-001E3FD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AB1F-ACD7-479B-9EC2-6C4C5D4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4832-89F0-4887-8375-10A8545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6684-932A-4DF3-890C-8E90AA3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915-F0DC-49DE-BC21-DF499EB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14F7-7050-4780-ABDB-23E57CD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037B-96BA-4A40-9899-5925C10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AAB5-F121-4E6C-AAF0-11482FD8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6F65-AE3C-4949-980B-CB1CD1D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3174-0E68-4232-805A-8A42A7C7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B910-E3EF-46CA-9E44-05893AB4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74F8-FE40-453D-80E3-CCF55845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9D3B8-E840-4907-B946-5CCFE0D8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AF7A0-12F8-4E4D-950E-DB709213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67A74-8948-4175-9EC2-740E23E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FDA-C330-4294-B3F4-12B2AEE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28C4E-FB9F-454D-9324-E5F9E15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06719-61EA-4BE7-BF1F-486190D7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782FD-56E7-4441-BFF2-DF4B48C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32718-CD4A-4FF9-9D2E-17519C6C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5C8FA-BCE0-4547-90AF-825C569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1DF20-B203-4237-A198-DCAB9A9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4D4F0-83D4-44B4-934D-7AA598A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77A01-0542-4DAD-BCC3-5D2E59FC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1A2FF-3767-494A-80A4-2C9EFB91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EB6-A1ED-4BA5-A1D7-CB058EF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659-AF3A-466A-AF2E-87FD86AC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022-968D-4B18-B6A1-5001A47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C76-CC2B-4BAC-A73F-056B725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D34-F504-4B11-8E46-EEF65F21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A8AE-D1DD-43FD-A915-A4C0DCEC0414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CB18-7E9A-4034-906F-3D835733FAC5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28C-FB0B-4FBB-8C94-C8BBCEFB63F7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2D5F-D497-4BFB-A8FE-8F50557F0B4D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hora trabajas en una importante empresa en un cargo de nivel medio y se presentan oportunida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Y debes tomar decisió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efac9"/>
                </a:solidFill>
                <a:latin typeface="Constantia"/>
              </a:rPr>
              <a:t>Por cuál oportunidad dejarías tu trabajo?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cer crecer las compras por Inter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uesta que la gente quiera transar en internet con su tarjeta de crédito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Y cuando lo hacen no quieren gastar mucho, mejor no tenerla tan a mano, mejor medirs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na importante y reconocida estrella de Hollywood se interesó y comprometió a full su publicidad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rear una moneda virtual para transar en Interne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 para vivir, mientras se levanta capit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Viñ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De una hectárea, la mitad de uvas se exporta y la mitad se vende en el mercado local(jugos, etc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En cierto momento suben las exportaciones de uvas, y por lo tanto, sobra mucha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, hay sobreoferta loc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Los agricultores regalaban uvas a sus trabajadores para hacer pasas (son las uvas de mala calidad 0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Profesionalizar la exportación de pasa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ienda queb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Los tres últimos dueños quebrar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Relativamente mala ubicación, pero con una notaría al lad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Tienda de helado tiene mala venta en inviern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Comprar la tienda y seguir con los helado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USD 10.000 la primera cuot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06:10Z</dcterms:created>
  <dc:creator>dalvo</dc:creator>
  <dc:description/>
  <dc:language>en-US</dc:language>
  <cp:lastModifiedBy>Cristián Cofré</cp:lastModifiedBy>
  <dcterms:modified xsi:type="dcterms:W3CDTF">2012-03-19T13:04:17Z</dcterms:modified>
  <cp:revision>17</cp:revision>
  <dc:subject/>
  <dc:title>No Somos Emprendedores…</dc:title>
</cp:coreProperties>
</file>