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6040-BA51-4C4B-A246-A5DDA78A51F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206-E7C5-42C7-AE72-90B987779F3D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A326-5553-4B1C-B3E3-26216129AE62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D79-5909-45A2-BDA0-434007A1C28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9707-880A-43E7-8556-EFE87CC4DBB5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3C9-416D-4FB7-95AC-E56A64A8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140-C6C4-4BFF-BABE-B5CE340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243-27E6-41BF-82DF-745A2775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23E-88B8-4293-B931-BA330ED9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ADEC0-FD10-4897-BD07-509D9177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1F080-399F-4780-8F26-3EDBED7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8923-009B-4E3A-9D91-7AC87F10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8883E-770D-4325-9E4E-8D04175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C53D-FE66-4FD4-BE1A-7B1FDB5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A61B3-1046-45F9-B5DC-569E7C2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B712-FA47-453C-B729-EE6FC83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23C-A173-40BF-8D1F-B2D48F7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B0152-33E4-4C8E-8576-90FCAF4C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14AFB-81AC-444B-882B-845BA3B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04AB-ACA5-4602-A82E-F01E7C0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747B1-FEC6-479B-8F0D-6DBC97FF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E168B-9564-4E5F-8473-6D75DE0E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6F2A-D491-421A-BD9F-47812B6A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9C61-262D-42FC-B083-662D0F27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2B91-AB0B-475F-AA8C-B3CD30B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F3BF-D7E3-4ADF-9FFB-15FCA3DD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8B3C-C277-493D-A7E7-CBF353F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F2D-FE38-44AF-9077-2E117FB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E015-C32D-4041-8DAA-B7D9527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0840-DFD2-4B65-8568-C5532ED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8E45-1FE2-4D57-877C-FEEF2B7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8247-3D26-4AEC-AB67-F7B8DFF7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533D-C76B-4ABA-B96B-1CF6EB49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39EA-E785-431D-B9CF-C3E0B18E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6A1B-5712-48A1-A440-BEC52F99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A9FB7-7555-4B72-BBAF-EE7D9D19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3B71A-6F9A-4EAF-82FE-F71A7E2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9FB202-17AA-4775-B3FB-BAC01D42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C92-5F7E-4589-B4D5-B0EC7C7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66D9D-D782-4405-9474-24262D4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B0B29-46DA-4D6D-B6A1-1567C2E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EEFF6-5B9D-41C2-9399-B358B394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8464A-5BDC-4116-9A0F-57FFFF0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9D29C-41B6-4E0D-BEF6-8C00BBE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56DB5-9546-40C5-981C-4A60EA70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54FF9-4BDE-4CF1-8B47-2BB1C9BB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3810C-814E-4D0C-A222-D846F960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43A5A-B304-4EA1-B951-092E43E4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505-989C-4184-8C0C-A532A8B0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0FF-7F59-4796-9BAE-F994FEC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8C4-01B5-493A-A9F2-258508C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87E-D483-446D-B146-BE3E995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744-AD26-4813-A4AA-00148D07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A0C-B33F-411C-9595-E5712457951B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B1F-5F5C-4BB1-A4A0-5E2D3E025E4B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4BED-2C92-4B02-813D-01DB5AEED8FB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D653-D53F-4EB0-A526-3885569B0AF4}" type="slidenum">
              <a:rPr b="0" lang="es-C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hora trabajas en una importante empresa en un cargo de nivel medio y se presentan oportunida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Y debes tomar decisió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efac9"/>
                </a:solidFill>
                <a:latin typeface="Constantia"/>
              </a:rPr>
              <a:t>Por cuál oportunidad dejarías tu trabajo?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Hacer crecer las compras por Inter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uesta que la gente quiera transar en internet con su tarjeta de crédito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Y cuando lo hacen no quieren gastar mucho, mejor no tenerla tan a mano, mejor medirse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na importante y reconocida estrella de Hollywood se interesó y comprometió a full su publicidad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Crear una moneda virtual para transar en Interne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 para vivir, mientras se levanta capit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Viñ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De una hectárea, la mitad de uvas se exporta y la mitad se vende en el mercado local(jugos, etc)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En cierto momento suben las exportaciones de uvas, y por lo tanto, sobra mucha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, hay sobreoferta local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Los agricultores regalaban uvas a sus trabajadores para hacer pasas (son las uvas de mala calidad 0 </a:t>
            </a:r>
            <a:r>
              <a:rPr b="0" i="1" lang="es-CL" sz="2200" spc="-1" strike="noStrike">
                <a:solidFill>
                  <a:srgbClr val="fefac9"/>
                </a:solidFill>
                <a:latin typeface="Constantia"/>
              </a:rPr>
              <a:t>basura</a:t>
            </a: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Profesionalizar la exportación de pasa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efac9"/>
                </a:solidFill>
                <a:latin typeface="Constantia"/>
              </a:rPr>
              <a:t>USD 10.000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OPORTUNID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ienda quebrad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Los tres últimos dueños quebrar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Relativamente mala ubicación, pero con una notaría al lad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Tienda de helado tiene mala venta en inviern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OLUC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Comprar la tienda y seguir con los helado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INVER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efac9"/>
                </a:solidFill>
                <a:latin typeface="Constantia"/>
              </a:rPr>
              <a:t>USD 10.000 la primera cuot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06:10Z</dcterms:created>
  <dc:creator>dalvo</dc:creator>
  <dc:description/>
  <dc:language>en-US</dc:language>
  <cp:lastModifiedBy>Cristián Cofré</cp:lastModifiedBy>
  <dcterms:modified xsi:type="dcterms:W3CDTF">2012-03-19T13:04:17Z</dcterms:modified>
  <cp:revision>17</cp:revision>
  <dc:subject/>
  <dc:title>No Somos Emprendedores…</dc:title>
</cp:coreProperties>
</file>