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5E99-CCFE-4E33-A35A-94BFA79F1B5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7A9F-B860-46DF-8951-50335F57519A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B754-E7FD-4098-A529-7AC652F62CB5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3455-2E94-4EE3-8E7E-C807F8D98725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593B-0340-4726-9C7E-61F1953872F4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103-91E7-48A0-9DF7-84BB85E8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63B-7102-43EF-A867-840E4A6F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E2A-894A-4C7A-A29A-D41385F9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208-5DF0-44E7-A8EE-E84684AE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F179B-38B1-4E43-856E-6709245A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3D3F9-7DF5-4DA6-8DE2-E5448362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104CD-CB65-4168-A604-C0E2644A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3E35B-00A1-4DC4-A0D4-75BFBE20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33FBE-06AC-4905-998E-EFE7D392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EC81E-D957-44A6-8757-37F8BF3A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754FE-414A-411C-A99D-3974319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70F-CFA1-4D37-A3CE-3761BB04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4F528-7645-4AA9-93EE-19CF8E2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0B5AC-6501-4908-BEBE-859C29A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95EEB-FA8B-4D5E-AF38-49F74B12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18076-142A-4DF8-AFB2-50F1A344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64328-9FF4-4CD5-8D8F-003B15FA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D808-7BFE-4818-8D39-4B40A285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E461C-CAA2-415C-920D-B0C8343B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57FAD-2EBB-4A43-8009-40F3D138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22F0-9ED3-48B6-9CDD-627DAF15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D77E-187C-4528-A391-EC91A197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B07-E9C7-4BAB-A55C-3EB65672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5ED1-A9C3-45E4-9216-305DD6C5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FB7C-13AF-426B-835C-E4C6B70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59DE-16F8-4383-AC26-7547E80C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B023-D9EE-43D9-A9F1-CB213635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3B71-73F2-46F8-AFF9-F13E35DF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B1EC-8D28-461F-8A6E-12CA8DF4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E8A2-BB93-4E0F-87F7-42BD4F3A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4FF93-F9C6-45FB-86C2-4F48F1B5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64447-EF9C-45DD-9901-567EEF0B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4BA87-5CCC-4852-A3A9-0778CE25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AA4-4BC0-47C6-9949-131D76D9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567072-3E00-4B25-94C5-65274D6B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9238CB-E9AA-4A1F-820B-C1B5EAFD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3460B-9B60-4314-AE07-8394FB4E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00825-F63C-4278-8900-E721D86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B775E-406B-4929-9944-46E3EB68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66B2BE-D1D5-417E-8777-86BBC3B7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86F8D-E72B-4635-AA1D-7F9DE5A4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0D80AA-0952-46DF-81F2-416824BC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5B55B-9CAF-4EE0-8EE0-1809844F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250-6289-4F34-AC6D-03BA06F9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91D-CFE4-4B02-B87B-EF8997E2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388-B1D9-4B82-A4CE-791333E3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0C1-CC2E-4FB4-B980-CB440701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68A-4B47-4CA7-93EB-C72EA8EC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50E2-5406-45B0-90C4-44F129276BE4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448B-5C61-40BE-AFB8-2728D359A3A7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AF41-14C0-441E-891D-E828A37201E0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FA26-0AAC-45EC-94AB-19B45CDB308F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hora trabajas en una importante empresa en un cargo de nivel medio y se presentan oportunida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Y debes tomar decisió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efac9"/>
                </a:solidFill>
                <a:latin typeface="Constantia"/>
              </a:rPr>
              <a:t>Por cuál oportunidad dejarías tu trabajo?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Hacer crecer las compras por Interne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Cuesta que la gente quiera transar en internet con su tarjeta de crédito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Y cuando lo hacen no quieren gastar mucho, mejor no tenerla tan a mano, mejor medirse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na importante y reconocida estrella de Hollywood se interesó y comprometió a full su publicidad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Crear una moneda virtual para transar en Internet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SD 10.000 para vivir, mientras se levanta capital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Viña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De una hectárea, la mitad de uvas se exporta y la mitad se vende en el mercado local(jugos, etc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En cierto momento suben las exportaciones de uvas, y por lo tanto, sobra mucha </a:t>
            </a:r>
            <a:r>
              <a:rPr b="0" i="1" lang="es-CL" sz="2200" spc="-1" strike="noStrike">
                <a:solidFill>
                  <a:srgbClr val="fefac9"/>
                </a:solidFill>
                <a:latin typeface="Constantia"/>
              </a:rPr>
              <a:t>basura</a:t>
            </a: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, hay sobreoferta local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Los agricultores regalaban uvas a sus trabajadores para hacer pasas (son las uvas de mala calidad 0 </a:t>
            </a:r>
            <a:r>
              <a:rPr b="0" i="1" lang="es-CL" sz="2200" spc="-1" strike="noStrike">
                <a:solidFill>
                  <a:srgbClr val="fefac9"/>
                </a:solidFill>
                <a:latin typeface="Constantia"/>
              </a:rPr>
              <a:t>basura</a:t>
            </a: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Profesionalizar la exportación de pasas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SD 10.000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ienda quebr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Los tres últimos dueños quebrar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Relativamente mala ubicación, pero con una notaría al lad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Tienda de helado tiene mala venta en inviern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Comprar la tienda y seguir con los helado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USD 10.000 la primera cuot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1:06:10Z</dcterms:created>
  <dc:creator>dalvo</dc:creator>
  <dc:description/>
  <dc:language>en-US</dc:language>
  <cp:lastModifiedBy>Cristián Cofré</cp:lastModifiedBy>
  <dcterms:modified xsi:type="dcterms:W3CDTF">2012-03-19T13:04:17Z</dcterms:modified>
  <cp:revision>17</cp:revision>
  <dc:subject/>
  <dc:title>No Somos Emprendedores…</dc:title>
</cp:coreProperties>
</file>