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B77-08E9-40D3-A296-3C60345653D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040-4FA8-42A6-8993-C07B854153D2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016A-B099-4595-A020-6AC1DEE358AD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4A62-CF78-4263-88A3-4822C6674934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8376-2205-4C1B-8F2B-5249B3E7879D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548-9A5B-41EC-BC59-3B67668D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66B-6A2E-43CE-8D87-A21552E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AE0-9213-4E96-8251-27CA3F4A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F2D-E825-46F6-827D-96659019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5E10-3714-487A-A886-F7CE3FDD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FBE16-5705-4213-9E7D-3ECABC9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1B17-6AE8-412B-B72B-461FA86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221F7-5F9D-45D6-B097-38939BE3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AB1A8-0B92-4750-AF85-591FB8B6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113D-56F0-4DB6-8604-9E6B800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FF365-6A3B-4B6A-A224-B356F57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D3C-CD8D-48FD-9816-F3BB94A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FCF1-31F0-4EB3-809D-C993D3EC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DB85D-5180-45D6-B3C0-F513976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48E93-2DF4-4844-B49D-CB9E9A24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45D27-A098-4A14-AB97-0CED3FE0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D346-9937-4E95-A51E-23576339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8E06-532D-4384-99D4-82B75707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E055-B521-4753-BA4B-EC5452CC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2F38-FB9C-45EB-B4BF-096238AB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E0C7-CFB6-41C8-8ADB-7B1FFE5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0E03-ABA8-4026-AD58-DB6C53E9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783-AF43-4E60-B579-89121BD6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6BC2-9CD0-4860-8F73-681C3A5F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D42C-DB69-414F-9463-6687C27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FA06-3052-4D2B-9F6B-C3A6D3F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8A9E-31FE-41BA-859B-CF7ED5E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C35F-F507-462F-8134-9B087570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D40F-9863-4094-8BCF-5CE079DC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3327-0338-40FA-9882-CF28A1E5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29F21-DD35-42D7-89AE-0D99BBE8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016D3-B8D0-4C0A-95BE-0597F19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AE52D-D218-442C-80D9-1DE98FD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963-90F4-4053-9A7E-0D58369D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55345-D4D9-461E-9FBD-36003931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EC1B9-F9E5-4CDD-A3DC-E4D9ED0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A7A16-64CA-4D90-971C-D2F74C2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2D427-09F6-4C05-9C73-5EF0881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D06ED-1C07-4B13-9DA5-30612B9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76F4A-536C-4A69-AE22-5724209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C430A-0BE0-478B-9D84-A9088CF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43CC8-0DCF-454A-A473-31AB976F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84BFC-9F13-47BB-B7C6-1770992A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118-0C0D-465D-A087-013ED80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B7E-DC79-459E-ADD5-91658428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8AF-4BB9-4F76-8773-274EA01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309-6A48-4934-8B29-9D53EDF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FE6-71C9-4E34-895E-1ABF6DF3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C12-AB54-4F3E-BCD5-0E42705B7DEE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D8C-EAA6-4AC0-9BED-54E8905FA8A1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7D4-4E92-405B-A77A-3C3EFCD745E1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ED04-44C9-4881-BC06-85BFE80B7E0E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hora trabajas en una importante empresa en un cargo de nivel medio y se presentan oportunida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Y debes tomar decisió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efac9"/>
                </a:solidFill>
                <a:latin typeface="Constantia"/>
              </a:rPr>
              <a:t>Por cuál oportunidad dejarías tu trabajo?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cer crecer las compras por Inter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uesta que la gente quiera transar en internet con su tarjeta de crédito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Y cuando lo hacen no quieren gastar mucho, mejor no tenerla tan a mano, mejor medirs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na importante y reconocida estrella de Hollywood se interesó y comprometió a full su publicidad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rear una moneda virtual para transar en Interne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 para vivir, mientras se levanta capit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Viñ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De una hectárea, la mitad de uvas se exporta y la mitad se vende en el mercado local(jugos, etc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En cierto momento suben las exportaciones de uvas, y por lo tanto, sobra mucha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, hay sobreoferta loc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Los agricultores regalaban uvas a sus trabajadores para hacer pasas (son las uvas de mala calidad 0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Profesionalizar la exportación de pasa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ienda queb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Los tres últimos dueños quebrar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Relativamente mala ubicación, pero con una notaría al lad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Tienda de helado tiene mala venta en inviern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Comprar la tienda y seguir con los helado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USD 10.000 la primera cuot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06:10Z</dcterms:created>
  <dc:creator>dalvo</dc:creator>
  <dc:description/>
  <dc:language>en-US</dc:language>
  <cp:lastModifiedBy>Cristián Cofré</cp:lastModifiedBy>
  <dcterms:modified xsi:type="dcterms:W3CDTF">2012-03-19T13:04:17Z</dcterms:modified>
  <cp:revision>17</cp:revision>
  <dc:subject/>
  <dc:title>No Somos Emprendedores…</dc:title>
</cp:coreProperties>
</file>