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C8913B-1649-4451-AACB-61EEA887FF8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A45610-286F-486F-BD67-040C5C5928A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5AFF5E-1A93-48B3-83D0-FB4DC165154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23E36D-37B7-46CB-B2A4-1210D968432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237509-C48A-43FC-8A29-0D776AA203D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1ABF11-E568-45A7-A02D-C3B29980611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AEE55D-565E-4586-ACF3-19294E3FB79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E0684E-758F-49A5-97C6-08BF16A1BD0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EB3060-CDF4-4811-AEBB-80E73A77E20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FAA01F-C78C-445D-89ED-CA519A72313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dt" idx="10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dt" idx="1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dt" idx="1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dt" idx="3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dt" idx="4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5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dt" idx="6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dt" idx="7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dt" idx="8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dt" idx="9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Taller de Proyect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4" name="Picture 7" descr=""/>
          <p:cNvPicPr/>
          <p:nvPr/>
        </p:nvPicPr>
        <p:blipFill>
          <a:blip r:embed="rId1"/>
          <a:stretch/>
        </p:blipFill>
        <p:spPr>
          <a:xfrm>
            <a:off x="3505320" y="1606680"/>
            <a:ext cx="2286000" cy="174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5" name="Picture 8" descr=""/>
          <p:cNvPicPr/>
          <p:nvPr/>
        </p:nvPicPr>
        <p:blipFill>
          <a:blip r:embed="rId2"/>
          <a:stretch/>
        </p:blipFill>
        <p:spPr>
          <a:xfrm>
            <a:off x="5956200" y="1600200"/>
            <a:ext cx="2349720" cy="178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6" name="Text Box 9"/>
          <p:cNvSpPr/>
          <p:nvPr/>
        </p:nvSpPr>
        <p:spPr>
          <a:xfrm>
            <a:off x="15692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40384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61736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12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2286000" cy="175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0" name="Rectangle 14"/>
          <p:cNvSpPr/>
          <p:nvPr/>
        </p:nvSpPr>
        <p:spPr>
          <a:xfrm>
            <a:off x="1563840" y="3902040"/>
            <a:ext cx="66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EI2A1 Taller de Proyecto 2012, Semestre Primaver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5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2" name="Object 6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4" name="Text Box 7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8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9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0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11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2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13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14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15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16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17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8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19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22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23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24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25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26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27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28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29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783000" y="2476440"/>
            <a:ext cx="592848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Comic Sans MS"/>
              </a:rPr>
              <a:t>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1538640" y="19623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522720" y="13719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0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1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4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6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0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21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22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4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25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6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8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9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30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1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2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33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4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35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36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37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38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39"/>
          <p:cNvSpPr/>
          <p:nvPr/>
        </p:nvSpPr>
        <p:spPr>
          <a:xfrm>
            <a:off x="7677000" y="1873080"/>
            <a:ext cx="200160" cy="38160"/>
          </a:xfrm>
          <a:custGeom>
            <a:avLst/>
            <a:gdLst>
              <a:gd name="textAreaLeft" fmla="*/ 0 w 200160"/>
              <a:gd name="textAreaRight" fmla="*/ 200520 w 2001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40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1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42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43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44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45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6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7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8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49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0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51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52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3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54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55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56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7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Line 10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2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3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4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15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6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7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8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Group 19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607" name="Picture 20" descr=""/>
            <p:cNvPicPr/>
            <p:nvPr/>
          </p:nvPicPr>
          <p:blipFill>
            <a:blip r:embed="rId1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Oval 21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22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AutoShape 23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98280 w 455400"/>
                <a:gd name="textAreaRight" fmla="*/ 357120 w 455400"/>
                <a:gd name="textAreaTop" fmla="*/ 36360 h 167040"/>
                <a:gd name="textAreaBottom" fmla="*/ 1306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719" y="21600"/>
                  </a:lnTo>
                  <a:lnTo>
                    <a:pt x="1588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4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25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613" name="Rectangle 26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27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28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29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Line 30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AutoShape 31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48960 w 341280"/>
                <a:gd name="textAreaRight" fmla="*/ 292320 w 341280"/>
                <a:gd name="textAreaTop" fmla="*/ 33480 h 232920"/>
                <a:gd name="textAreaBottom" fmla="*/ 19944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32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33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34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622" name="Group 35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623" name="Rectangle 36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37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38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Text Box 39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Group 40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628" name="Rectangle 41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Line 42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43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Text Box 44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Line 45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46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47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48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49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50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51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52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Rectangle 53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4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55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56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644" name="Line 57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Group 58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646" name="Rectangle 59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60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Text Box 61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62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63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4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65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Oval 66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Oval 67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68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656" name="Line 69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Group 70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658" name="Rectangle 71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72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73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663" name="Rectangle 76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77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78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79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Line 80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81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82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83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84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85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86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87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88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Oval 89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90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91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679" name="Line 92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Group 93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681" name="Oval 94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2" name="Group 95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683" name="Line 96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4" name="Group 97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685" name="Line 98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Line 99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7" name="Group 100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688" name="Oval 101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Oval 102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Text Box 103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Oval 104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Oval 105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Line 106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AutoShape 107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45360 w 314640"/>
                        <a:gd name="textAreaRight" fmla="*/ 269280 w 314640"/>
                        <a:gd name="textAreaTop" fmla="*/ 36360 h 252360"/>
                        <a:gd name="textAreaBottom" fmla="*/ 21600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17182" y="5167"/>
                          </a:moveTo>
                          <a:cubicBezTo>
                            <a:pt x="15566" y="3335"/>
                            <a:pt x="13242" y="2287"/>
                            <a:pt x="10800" y="2287"/>
                          </a:cubicBezTo>
                          <a:cubicBezTo>
                            <a:pt x="6855" y="2286"/>
                            <a:pt x="3427" y="4996"/>
                            <a:pt x="2517" y="8834"/>
                          </a:cubicBezTo>
                          <a:lnTo>
                            <a:pt x="291" y="8306"/>
                          </a:lnTo>
                          <a:cubicBezTo>
                            <a:pt x="1447" y="3437"/>
                            <a:pt x="5795" y="-1"/>
                            <a:pt x="10800" y="0"/>
                          </a:cubicBezTo>
                          <a:cubicBezTo>
                            <a:pt x="13898" y="0"/>
                            <a:pt x="16847" y="1330"/>
                            <a:pt x="18897" y="3653"/>
                          </a:cubicBezTo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3"/>
                          </a:lnTo>
                          <a:lnTo>
                            <a:pt x="17182" y="51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95" name="Group 108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696" name="Rectangle 109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7" name="Line 110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8" name="Text Box 111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9" name="Text Box 112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00" name="Line 113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Line 114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Oval 115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Line 116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Line 117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05" name="Group 118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706" name="Rectangle 119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7" name="Line 120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8" name="Text Box 121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9" name="Text Box 122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10" name="Line 123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Line 124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Oval 125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Text Box 126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Text Box 127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15" name="Text Box 128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129" descr="ciudad"/>
          <p:cNvPicPr/>
          <p:nvPr/>
        </p:nvPicPr>
        <p:blipFill>
          <a:blip r:embed="rId2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30" descr="consumo3"/>
          <p:cNvPicPr/>
          <p:nvPr/>
        </p:nvPicPr>
        <p:blipFill>
          <a:blip r:embed="rId3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31" descr="tren"/>
          <p:cNvPicPr/>
          <p:nvPr/>
        </p:nvPicPr>
        <p:blipFill>
          <a:blip r:embed="rId4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132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Group 133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721" name="Rectangle 134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2" name="Picture 135" descr=""/>
            <p:cNvPicPr/>
            <p:nvPr/>
          </p:nvPicPr>
          <p:blipFill>
            <a:blip r:embed="rId5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Line 136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Group 137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725" name="Rectangle 138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Line 139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Text Box 140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Text Box 141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Group 142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730" name="Rectangle 143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144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Text Box 145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Text Box 146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Line 147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48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149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150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151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152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Text Box 153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Text Box 154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155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 Box 156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57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158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59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747" name="Oval 160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161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Group 162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750" name="Line 163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1" name="Group 164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752" name="Oval 165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3" name="Group 166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754" name="Rectangle 167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Line 168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Text Box 169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Text Box 170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Group 171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759" name="Rectangle 172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Line 173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Text Box 174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Text Box 175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3" name="Oval 176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Line 177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Line 178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179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Freeform 180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363240"/>
                    <a:gd name="textAreaBottom" fmla="*/ 363600 h 363240"/>
                  </a:gdLst>
                  <a:ahLst/>
                  <a:rect l="textAreaLeft" t="textAreaTop" r="textAreaRight" b="textAreaBottom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8" name="Group 181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769" name="Rectangle 182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Line 183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Text Box 184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Text Box 185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3" name="Line 186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Line 187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Line 188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Line 189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Line 190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Text Box 191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79" name="Group 192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780" name="Line 193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Group 194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782" name="Line 195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" name="Group 196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784" name="Rectangle 197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Line 198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Text Box 199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Text Box 200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Group 201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789" name="Rectangle 202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203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204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205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" name="Line 206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207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208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209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Rectangle 210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211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212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213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214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Text Box 215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216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4" name="Group 217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805" name="Line 218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Group 219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807" name="Oval 220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08" name="Picture 221" descr=""/>
              <p:cNvPicPr/>
              <p:nvPr/>
            </p:nvPicPr>
            <p:blipFill>
              <a:blip r:embed="rId6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9" name="Group 222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810" name="Rectangle 223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Line 224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Text Box 225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Text Box 226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Group 227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815" name="Rectangle 228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Line 229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Text Box 230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Text Box 231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Group 232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820" name="Rectangle 233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Line 234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Text Box 235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Text Box 236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4" name="Oval 237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238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Line 239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240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241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Freeform 242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Line 243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Line 244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Oval 245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246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247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AutoShape 248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48960 w 341280"/>
                  <a:gd name="textAreaRight" fmla="*/ 292320 w 341280"/>
                  <a:gd name="textAreaTop" fmla="*/ 33480 h 232560"/>
                  <a:gd name="textAreaBottom" fmla="*/ 19908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182" y="5167"/>
                    </a:moveTo>
                    <a:cubicBezTo>
                      <a:pt x="15566" y="3335"/>
                      <a:pt x="13242" y="2287"/>
                      <a:pt x="10800" y="2287"/>
                    </a:cubicBezTo>
                    <a:cubicBezTo>
                      <a:pt x="6855" y="2286"/>
                      <a:pt x="3427" y="4996"/>
                      <a:pt x="2517" y="8834"/>
                    </a:cubicBezTo>
                    <a:lnTo>
                      <a:pt x="291" y="8306"/>
                    </a:lnTo>
                    <a:cubicBezTo>
                      <a:pt x="1447" y="3437"/>
                      <a:pt x="5795" y="-1"/>
                      <a:pt x="10800" y="0"/>
                    </a:cubicBezTo>
                    <a:cubicBezTo>
                      <a:pt x="13898" y="0"/>
                      <a:pt x="16847" y="1330"/>
                      <a:pt x="18897" y="3653"/>
                    </a:cubicBezTo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3"/>
                    </a:lnTo>
                    <a:lnTo>
                      <a:pt x="17182" y="51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249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Line 250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251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Group 252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840" name="Line 253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254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255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843" name="Rectangle 256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257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258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259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" name="Line 260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261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262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Group 263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851" name="Line 264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265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266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854" name="Rectangle 267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268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69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Text Box 270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Line 271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272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Text Box 273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274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275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863" name="Oval 276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277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278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Group 279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867" name="Rectangle 280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Line 281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Text Box 282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Text Box 283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Line 284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285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286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287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288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289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290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291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292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293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881" name="Oval 294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295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883" name="Rectangle 296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4" name="Group 297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885" name="Rectangle 298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Line 299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Text Box 300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Text Box 301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Group 302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890" name="Rectangle 303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Line 304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Text Box 305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Text Box 306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4" name="Line 307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Line 308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Line 309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Line 310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311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Line 312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Line 313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Line 314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Line 315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316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317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318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319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320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321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322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Oval 323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Text Box 324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Text Box 325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13" name="Picture 326" descr=""/>
          <p:cNvPicPr/>
          <p:nvPr/>
        </p:nvPicPr>
        <p:blipFill>
          <a:blip r:embed="rId7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327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32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6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1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AutoShape 50"/>
          <p:cNvSpPr/>
          <p:nvPr/>
        </p:nvSpPr>
        <p:spPr>
          <a:xfrm>
            <a:off x="4327560" y="6120"/>
            <a:ext cx="4684680" cy="3468960"/>
          </a:xfrm>
          <a:prstGeom prst="wedgeRectCallout">
            <a:avLst>
              <a:gd name="adj1" fmla="val -91152"/>
              <a:gd name="adj2" fmla="val -388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51"/>
          <p:cNvSpPr/>
          <p:nvPr/>
        </p:nvSpPr>
        <p:spPr>
          <a:xfrm>
            <a:off x="4335480" y="99000"/>
            <a:ext cx="4684680" cy="3963240"/>
          </a:xfrm>
          <a:prstGeom prst="wedgeRectCallout">
            <a:avLst>
              <a:gd name="adj1" fmla="val -71074"/>
              <a:gd name="adj2" fmla="val -1339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52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53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54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55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56"/>
          <p:cNvSpPr/>
          <p:nvPr/>
        </p:nvSpPr>
        <p:spPr>
          <a:xfrm>
            <a:off x="4275000" y="1145880"/>
            <a:ext cx="4684680" cy="2098800"/>
          </a:xfrm>
          <a:prstGeom prst="wedgeRectCallout">
            <a:avLst>
              <a:gd name="adj1" fmla="val -97916"/>
              <a:gd name="adj2" fmla="val 8594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57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8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AutoShape 59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AutoShape 60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61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62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3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64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9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3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5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7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50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51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52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AutoShape 53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54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55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56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57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58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59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AutoShape 60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AutoShape 61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62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63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0" dur="1" fill="hold"/>
                                  <p:tgtEl>
                                    <p:spTgt spid="1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6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8" name="Text Box 7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8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9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10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11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2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16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17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8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9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20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21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22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23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24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25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27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palma</cp:lastModifiedBy>
  <cp:lastPrinted>2001-08-14T20:08:28Z</cp:lastPrinted>
  <dcterms:modified xsi:type="dcterms:W3CDTF">2012-03-21T13:29:01Z</dcterms:modified>
  <cp:revision>52</cp:revision>
  <dc:subject/>
  <dc:title>PowerPoint Presentation</dc:title>
</cp:coreProperties>
</file>