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263-8E13-417E-B13E-FC86C8E5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265-DC4A-41C6-934C-B16AAAC2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865-582C-4126-8276-D5921B54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A18-4CAF-4548-92D4-333C8D15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C800-5DC5-4D0C-88B1-74ED8AF5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CB2E-7B19-4DFA-A177-15DA5A5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AB72-4CE0-4AB3-84B8-74AD79E0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F86D-32B2-452F-898A-3E3619D5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6824-C19C-4AE2-BCD5-A8D582A1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7F01-0EE6-42CB-8DA1-A28070DE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A278-6278-4A06-A9AA-03E8C139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2EF-C1C8-4464-A29C-B39849D2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0284-D33B-4853-9A62-32A780A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B92D-ADD0-4C88-A2F5-F647F32D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111F-5DCE-470B-B682-2B842D2D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5983-554D-4C92-9DBC-581AEA86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D0E6-0579-4AF7-AB19-D93B3DCC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5C9-5F67-48A4-82BE-06139E5E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CFA-026C-4FBA-A236-34BB606D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206-CD05-48B6-91CB-A7E0600F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157-79A1-4994-A39D-82AFC52C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8D6-1854-4656-A5DB-D0FEDFC6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284-E670-4911-AF33-20BE700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770-7A26-497E-B85B-2630527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9523-6EEF-4B39-87F7-D82D4D64E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68AB-7573-496B-A95F-BA98F6759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Seguridad Indust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692280"/>
            <a:ext cx="853452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1701720" algn="ctr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en una sierra circular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previamente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539640" y="476280"/>
            <a:ext cx="8153640" cy="5625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 lesión o enfermedad grave que puede result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 incapacidad temporal o daño a la propiedad 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o menos serio que en la clase “A”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En el pasillo principal se observa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ndición resbalos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roto al final de la escalera de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oficin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333360"/>
            <a:ext cx="8381880" cy="6166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otencial  de lesiones o enfermedades leves (n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apacitantes), o daño a la propiedad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 carpintero sin guantes, manipula mader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ústic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xiste un mal olor derivado de desagü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cio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sando este sistema de clasificación,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pervisor pone el planteamiento corrector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a perspectiva que corresponde tanto para sí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ismo , como para los demás.                         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effd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ÉRDIDAS QUE PUEDA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1520" y="1749960"/>
            <a:ext cx="75934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1" lang="en-US" sz="2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09" name="Rectangle 8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18" name="AutoShape 17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1" name="AutoShape 20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6" name="AutoShape 25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28" name="Group 27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29" name="AutoShape 28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5" name="Group 34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36" name="Oval 35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Rectangle 39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Rectangle 40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2" name="Group 41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43" name="Oval 42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4" name="Rectangle 43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5" name="Rectangle 44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Rectangle 45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7" name="Rectangle 46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8" name="Rectangle 47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9" name="Group 48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50" name="Oval 49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1" name="Rectangle 50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2" name="Rectangle 51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Rectangle 52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Rectangle 53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6" name="Group 55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57" name="AutoShape 56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57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AutoShape 58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Line 59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AutoShape 60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AutoShape 61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3" name="Group 62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64" name="AutoShape 63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AutoShape 64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AutoShape 65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66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68" name="Freeform 67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Freeform 68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Line 69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Freeform 70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2" name="Group 71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73" name="Rectangle 72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4" name="Rectangle 73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5" name="Rectangle 74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6" name="Rectangle 75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7" name="Rectangle 76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Rectangle 77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9" name="Rectangle 78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0" name="Rectangle 79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Rectangle 80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2" name="Rectangle 81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3" name="Rectangle 82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4" name="Rectangle 83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5" name="Oval 84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6" name="Oval 85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87" name="Group 86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288" name="Rectangle 87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9" name="Rectangle 88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0" name="Rectangle 89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1" name="Rectangle 90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2" name="Rectangle 91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3" name="Rectangle 92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4" name="Oval 93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5" name="Oval 94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96" name="Group 95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297" name="Rectangle 96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8" name="Rectangle 97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9" name="Rectangle 98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Rectangle 99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1" name="Rectangle 100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2" name="Rectangle 101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Rectangle 102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4" name="Rectangle 103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5" name="Rectangle 104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6" name="Rectangle 105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8" name="Rectangle 107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9" name="Oval 108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Oval 109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12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5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16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9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20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24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7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36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37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8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9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40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5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6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64" name="Group 55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65" name="Freeform 56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6" name="Freeform 57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>
                <a:gd name="textAreaLeft" fmla="*/ 0 w 1051200"/>
                <a:gd name="textAreaRight" fmla="*/ 1051560 w 105120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7" name="Line 58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68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Oval 60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Oval 61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Oval 62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Oval 63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64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65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ÉRDID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66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6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6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69"/>
          <p:cNvSpPr/>
          <p:nvPr/>
        </p:nvSpPr>
        <p:spPr>
          <a:xfrm>
            <a:off x="3869640" y="2437200"/>
            <a:ext cx="95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DAÑ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Text Box 70"/>
          <p:cNvSpPr/>
          <p:nvPr/>
        </p:nvSpPr>
        <p:spPr>
          <a:xfrm>
            <a:off x="6444360" y="2437200"/>
            <a:ext cx="1245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71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72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73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Oval 74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Oval 75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76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77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88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1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92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5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96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00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1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03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12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13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5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16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7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8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9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0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0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41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3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4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Oval 60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Oval 61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Oval 62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Oval 63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Line 64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65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66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Line 67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68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Oval 69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820680" y="1065600"/>
            <a:ext cx="10692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H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276200" y="281664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726280" y="2816280"/>
            <a:ext cx="497232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a 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Seguridad Soc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64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68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0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1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72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5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76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9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7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88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89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0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1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92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5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6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6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17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8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9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20" name="Oval 59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Oval 60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63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65"/>
          <p:cNvSpPr/>
          <p:nvPr/>
        </p:nvSpPr>
        <p:spPr>
          <a:xfrm>
            <a:off x="2556000" y="285408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3328920" y="76104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INSEGU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5833440" y="76104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763640" y="1803240"/>
            <a:ext cx="73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perar sin autorizació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 llamar la atención o asegur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perar a una velocidad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oner fuera de servicio los dispositivos de segur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sar equipo defectuos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sar el equipo incorrec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 usar el equipo de Protecció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rgar o ubicar incorrectame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evantar en forma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doptar una posición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fectuar mantención a equipo en mov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acer brom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sumir drogas o bebe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Freeform 6"/>
          <p:cNvSpPr/>
          <p:nvPr/>
        </p:nvSpPr>
        <p:spPr>
          <a:xfrm>
            <a:off x="1763640" y="609480"/>
            <a:ext cx="7201080" cy="5334120"/>
          </a:xfrm>
          <a:custGeom>
            <a:avLst/>
            <a:gdLst>
              <a:gd name="textAreaLeft" fmla="*/ 0 w 7201080"/>
              <a:gd name="textAreaRight" fmla="*/ 7201440 w 7201080"/>
              <a:gd name="textAreaTop" fmla="*/ 0 h 5334120"/>
              <a:gd name="textAreaBottom" fmla="*/ 5334120 h 5334120"/>
            </a:gdLst>
            <a:ahLst/>
            <a:rect l="textAreaLeft" t="textAreaTop" r="textAreaRight" b="textAreaBottom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Oval 8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Group 9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35" name="Oval 10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6720"/>
                <a:gd name="textAreaBottom" fmla="*/ 757080 h 756720"/>
              </a:gdLst>
              <a:ahLst/>
              <a:rect l="textAreaLeft" t="textAreaTop" r="textAreaRight" b="textAreaBottom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37" name="Rectangle 12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258920" y="1700280"/>
            <a:ext cx="7288200" cy="44830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pos en mal est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teriales defectuos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ligros de incendios y explos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ases, polvos, Humos, vapores, sobre el LP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uido excesiv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luminación o ventilación inadecu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di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sorden y desase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guardos y protecciones inadecu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gest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ñalizaciones inadecuadas o insufici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6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45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48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49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2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53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4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5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6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57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60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8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69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70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1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2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73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4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5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6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7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8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9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80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97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598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9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0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01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Line 60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Text Box 61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1" lang="en-US" sz="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63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Text Box 64"/>
          <p:cNvSpPr/>
          <p:nvPr/>
        </p:nvSpPr>
        <p:spPr>
          <a:xfrm>
            <a:off x="3072960" y="2620800"/>
            <a:ext cx="4460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PERSONAL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DETRABAJ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6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AutoShape 65"/>
          <p:cNvSpPr/>
          <p:nvPr/>
        </p:nvSpPr>
        <p:spPr>
          <a:xfrm>
            <a:off x="2895480" y="4267080"/>
            <a:ext cx="3124440" cy="38124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66"/>
          <p:cNvSpPr/>
          <p:nvPr/>
        </p:nvSpPr>
        <p:spPr>
          <a:xfrm>
            <a:off x="2895480" y="2514600"/>
            <a:ext cx="3124440" cy="38088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Text Box 67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11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4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15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7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19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1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22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23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4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5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26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4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35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36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639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3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4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5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63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64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5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6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67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Line 60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61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Text Box 62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Line 63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Oval 65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Oval 66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Oval 67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2819520" y="838080"/>
            <a:ext cx="761760" cy="4800600"/>
            <a:chOff x="2819520" y="838080"/>
            <a:chExt cx="761760" cy="4800600"/>
          </a:xfrm>
        </p:grpSpPr>
        <p:sp>
          <p:nvSpPr>
            <p:cNvPr id="677" name="Rectangle 3"/>
            <p:cNvSpPr/>
            <p:nvPr/>
          </p:nvSpPr>
          <p:spPr>
            <a:xfrm>
              <a:off x="2819520" y="8380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8" name="Rectangle 4"/>
            <p:cNvSpPr/>
            <p:nvPr/>
          </p:nvSpPr>
          <p:spPr>
            <a:xfrm>
              <a:off x="2819520" y="18288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9" name="Rectangle 5"/>
            <p:cNvSpPr/>
            <p:nvPr/>
          </p:nvSpPr>
          <p:spPr>
            <a:xfrm>
              <a:off x="2819520" y="2819160"/>
              <a:ext cx="76176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>
              <a:off x="2819520" y="38098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1" name="Rectangle 7"/>
            <p:cNvSpPr/>
            <p:nvPr/>
          </p:nvSpPr>
          <p:spPr>
            <a:xfrm>
              <a:off x="2819520" y="48006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82" name="Group 8"/>
          <p:cNvGrpSpPr/>
          <p:nvPr/>
        </p:nvGrpSpPr>
        <p:grpSpPr>
          <a:xfrm>
            <a:off x="3809880" y="838080"/>
            <a:ext cx="4724640" cy="4800600"/>
            <a:chOff x="3809880" y="838080"/>
            <a:chExt cx="4724640" cy="4800600"/>
          </a:xfrm>
        </p:grpSpPr>
        <p:sp>
          <p:nvSpPr>
            <p:cNvPr id="683" name="Rectangle 9"/>
            <p:cNvSpPr/>
            <p:nvPr/>
          </p:nvSpPr>
          <p:spPr>
            <a:xfrm>
              <a:off x="3809880" y="8380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3809880" y="2819160"/>
              <a:ext cx="4724640" cy="83844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Rectangle 11"/>
            <p:cNvSpPr/>
            <p:nvPr/>
          </p:nvSpPr>
          <p:spPr>
            <a:xfrm>
              <a:off x="3809880" y="18288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Rectangle 12"/>
            <p:cNvSpPr/>
            <p:nvPr/>
          </p:nvSpPr>
          <p:spPr>
            <a:xfrm>
              <a:off x="3809880" y="38098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>
              <a:off x="3809880" y="48006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8" name="Line 14"/>
          <p:cNvSpPr/>
          <p:nvPr/>
        </p:nvSpPr>
        <p:spPr>
          <a:xfrm>
            <a:off x="1981080" y="1143000"/>
            <a:ext cx="0" cy="4038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5"/>
          <p:cNvSpPr/>
          <p:nvPr/>
        </p:nvSpPr>
        <p:spPr>
          <a:xfrm>
            <a:off x="1981080" y="51814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81080" y="11430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981080" y="22096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8"/>
          <p:cNvSpPr/>
          <p:nvPr/>
        </p:nvSpPr>
        <p:spPr>
          <a:xfrm>
            <a:off x="1600200" y="32767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Line 19"/>
          <p:cNvSpPr/>
          <p:nvPr/>
        </p:nvSpPr>
        <p:spPr>
          <a:xfrm>
            <a:off x="1981080" y="42670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3050640" y="914400"/>
            <a:ext cx="3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3886200" y="1066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dentificar las actividad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3809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Standards requeri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3809880" y="3048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l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3886200" y="40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valuar el nivel de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3809880" y="498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orregir las desvia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2905200" y="297180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2975040" y="19051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2975040" y="4876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2974680" y="3809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Oval 30"/>
          <p:cNvSpPr/>
          <p:nvPr/>
        </p:nvSpPr>
        <p:spPr>
          <a:xfrm>
            <a:off x="304920" y="2590920"/>
            <a:ext cx="1346040" cy="1333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306360" y="301932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71420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¡ESTO ES CONTROL!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708" name="Freeform 3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9" name="Freeform 4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0" name="Line 5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1" name="Group 6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712" name="Freeform 7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4" name="Line 9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5" name="Group 10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716" name="Freeform 11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7" name="Freeform 12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8" name="Line 13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9" name="Group 14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20" name="Freeform 15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1" name="Freeform 16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2" name="Line 17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23" name="Group 18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24" name="Freeform 19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6" name="Line 21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27" name="Oval 22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Oval 23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Oval 24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Oval 25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Oval 26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Oval 27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Oval 28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Oval 29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Oval 30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Oval 32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Oval 34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Oval 35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Line 37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Text Box 38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Text Box 39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Text Box 42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43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Line 44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Line 45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Line 46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Text Box 47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Text Box 48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49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Text Box 50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Oval 51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Oval 52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Oval 53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629360" y="549360"/>
            <a:ext cx="56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RACTERÍSTICA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2813400" y="2438280"/>
            <a:ext cx="342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l desempeño pasad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de una organiz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tiende a delinear su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aracterísticas 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1908000" y="1989000"/>
            <a:ext cx="418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i quiere crea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emigos trate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cambiar alg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5643000" y="601992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OODROW WILS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923480" y="553320"/>
            <a:ext cx="559692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ISTICAS ACTUA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403280" y="1774800"/>
            <a:ext cx="68817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O TECNOLOGIC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NUEVOS HALLAZGOS EN MEDICIN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VESTIGACIONES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O DEL COSTO DE EQUIP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TITUD DE LOS SINDICA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TECCION AL CONSUMID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YORES DISPOSICIONES LEG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5016600"/>
            <a:ext cx="58676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XIGEN UN MAYOR PROFESIONALISMO EN SEGUR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176120" y="2179800"/>
            <a:ext cx="652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 posible tomar una decisió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ógica y acertada, sólo cuan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 ha identificado primeramente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 problema básico o real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2058480" y="60948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INCIPIO DE LA DEFINI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2050920" y="2133720"/>
            <a:ext cx="65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n casi toda situación económic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aproximadamente el 25% de los  ítems incide en el 75% de los resultado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2053800" y="55872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LEY DE PARETO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1738440" y="2205000"/>
            <a:ext cx="6100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uanto más se apar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un cambio planificado, de l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ormas aceptadas en el pasado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mayor será la resist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obablemente de la gente involucrada</a:t>
            </a: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1858320" y="54936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2f2f2"/>
                </a:solidFill>
                <a:latin typeface="Calibri"/>
              </a:rPr>
              <a:t>PRINCIPIO DE LA RESISTENCIA A LOS CAMB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2537280" y="2179800"/>
            <a:ext cx="38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os problemas y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accidentes casi nunc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on el resultado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una sola causa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778760" y="62064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USAS MULTIP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1187280" y="2133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cualquier grupo de ocurrencias, u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equeño número de causas influirá en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ayor proporción de l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1789920" y="6922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 LOS POCOS CRITIC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1565280" y="206064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s personas tienden a senti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otivadas por alcanzar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resultados que USTED desea lograr,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la medida que demuestre interé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or los resultados que ell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desean logr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148480" y="6922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INTERES RECIPROC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187280" y="1989000"/>
            <a:ext cx="74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 motivación para lograr  resultados tenderá a aumentar en la medida que se reconozca la contribución de la gente para lograr es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1930320" y="54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RECONOCIMIENT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"/>
          <p:cNvGrpSpPr/>
          <p:nvPr/>
        </p:nvGrpSpPr>
        <p:grpSpPr>
          <a:xfrm>
            <a:off x="533520" y="380880"/>
            <a:ext cx="8001000" cy="838440"/>
            <a:chOff x="533520" y="380880"/>
            <a:chExt cx="8001000" cy="838440"/>
          </a:xfrm>
        </p:grpSpPr>
        <p:sp>
          <p:nvSpPr>
            <p:cNvPr id="779" name="Rectangle 3"/>
            <p:cNvSpPr/>
            <p:nvPr/>
          </p:nvSpPr>
          <p:spPr>
            <a:xfrm>
              <a:off x="533520" y="380880"/>
              <a:ext cx="8001000" cy="838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0" name="Text Box 4"/>
            <p:cNvSpPr/>
            <p:nvPr/>
          </p:nvSpPr>
          <p:spPr>
            <a:xfrm>
              <a:off x="609480" y="60948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SISTEMA ADMINISTRATIVO EN  PRACTIC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81" name="Rectangle 5"/>
          <p:cNvSpPr/>
          <p:nvPr/>
        </p:nvSpPr>
        <p:spPr>
          <a:xfrm>
            <a:off x="2514600" y="365760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2514600" y="2666880"/>
            <a:ext cx="4724280" cy="83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14600" y="464832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25146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re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1460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2590920" y="4876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ost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1905120" y="2819520"/>
            <a:ext cx="457200" cy="5331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AutoShape 12"/>
          <p:cNvSpPr/>
          <p:nvPr/>
        </p:nvSpPr>
        <p:spPr>
          <a:xfrm>
            <a:off x="1905120" y="380988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AutoShape 13"/>
          <p:cNvSpPr/>
          <p:nvPr/>
        </p:nvSpPr>
        <p:spPr>
          <a:xfrm>
            <a:off x="1905120" y="480060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685800" y="304920"/>
            <a:ext cx="7696080" cy="5943600"/>
            <a:chOff x="685800" y="304920"/>
            <a:chExt cx="7696080" cy="5943600"/>
          </a:xfrm>
        </p:grpSpPr>
        <p:grpSp>
          <p:nvGrpSpPr>
            <p:cNvPr id="791" name="Group 3"/>
            <p:cNvGrpSpPr/>
            <p:nvPr/>
          </p:nvGrpSpPr>
          <p:grpSpPr>
            <a:xfrm>
              <a:off x="1904760" y="304920"/>
              <a:ext cx="6324840" cy="838440"/>
              <a:chOff x="1904760" y="304920"/>
              <a:chExt cx="6324840" cy="838440"/>
            </a:xfrm>
          </p:grpSpPr>
          <p:sp>
            <p:nvSpPr>
              <p:cNvPr id="792" name="Rectangle 4"/>
              <p:cNvSpPr/>
              <p:nvPr/>
            </p:nvSpPr>
            <p:spPr>
              <a:xfrm>
                <a:off x="1904760" y="304920"/>
                <a:ext cx="6324840" cy="8384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3" name="Text Box 5"/>
              <p:cNvSpPr/>
              <p:nvPr/>
            </p:nvSpPr>
            <p:spPr>
              <a:xfrm>
                <a:off x="1964520" y="533520"/>
                <a:ext cx="62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33cc"/>
                    </a:solidFill>
                    <a:latin typeface="Calibri"/>
                  </a:rPr>
                  <a:t>ETAPA DE PRECONTAC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6"/>
            <p:cNvSpPr/>
            <p:nvPr/>
          </p:nvSpPr>
          <p:spPr>
            <a:xfrm>
              <a:off x="1904760" y="32767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5" name="Rectangle 7"/>
            <p:cNvSpPr/>
            <p:nvPr/>
          </p:nvSpPr>
          <p:spPr>
            <a:xfrm>
              <a:off x="1904760" y="2362320"/>
              <a:ext cx="6248520" cy="685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6" name="Rectangle 8"/>
            <p:cNvSpPr/>
            <p:nvPr/>
          </p:nvSpPr>
          <p:spPr>
            <a:xfrm>
              <a:off x="1904760" y="411516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1331640" y="249264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SEÑO DE LAS DEPENDENCI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1331640" y="3357720"/>
              <a:ext cx="58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TRABAJADOR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9" name="Text Box 11"/>
            <p:cNvSpPr/>
            <p:nvPr/>
          </p:nvSpPr>
          <p:spPr>
            <a:xfrm>
              <a:off x="1547640" y="422136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EQUIPO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0" name="AutoShape 12"/>
            <p:cNvSpPr/>
            <p:nvPr/>
          </p:nvSpPr>
          <p:spPr>
            <a:xfrm>
              <a:off x="1143000" y="24386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1143000" y="33530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2" name="AutoShape 14"/>
            <p:cNvSpPr/>
            <p:nvPr/>
          </p:nvSpPr>
          <p:spPr>
            <a:xfrm>
              <a:off x="1143000" y="41151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85800" y="381240"/>
              <a:ext cx="838080" cy="76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1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2672640" y="1447920"/>
              <a:ext cx="45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“</a:t>
              </a: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Todo lo que hay que hacer ANT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para evitar la pérdida”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5" name="Rectangle 17"/>
            <p:cNvSpPr/>
            <p:nvPr/>
          </p:nvSpPr>
          <p:spPr>
            <a:xfrm>
              <a:off x="1904760" y="48769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6" name="Rectangle 18"/>
            <p:cNvSpPr/>
            <p:nvPr/>
          </p:nvSpPr>
          <p:spPr>
            <a:xfrm>
              <a:off x="1904760" y="563904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7" name="Text Box 19"/>
            <p:cNvSpPr/>
            <p:nvPr/>
          </p:nvSpPr>
          <p:spPr>
            <a:xfrm>
              <a:off x="1904760" y="49532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ESARROLLO DE NORMAS DE TRABAJ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8" name="Text Box 20"/>
            <p:cNvSpPr/>
            <p:nvPr/>
          </p:nvSpPr>
          <p:spPr>
            <a:xfrm>
              <a:off x="2050920" y="573264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TIVACIÓN PERSON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9" name="AutoShape 21"/>
            <p:cNvSpPr/>
            <p:nvPr/>
          </p:nvSpPr>
          <p:spPr>
            <a:xfrm>
              <a:off x="1218960" y="49532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0" name="AutoShape 22"/>
            <p:cNvSpPr/>
            <p:nvPr/>
          </p:nvSpPr>
          <p:spPr>
            <a:xfrm>
              <a:off x="1218960" y="57153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12" name="Rectangle 3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3" name="Text Box 4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PRE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4" name="Oval 5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1295280" y="17524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6" name="AutoShape 8"/>
          <p:cNvSpPr/>
          <p:nvPr/>
        </p:nvSpPr>
        <p:spPr>
          <a:xfrm>
            <a:off x="1295280" y="2362320"/>
            <a:ext cx="457200" cy="3236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AutoShape 9"/>
          <p:cNvSpPr/>
          <p:nvPr/>
        </p:nvSpPr>
        <p:spPr>
          <a:xfrm>
            <a:off x="1295280" y="2971800"/>
            <a:ext cx="457200" cy="3240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2057400" y="2362320"/>
            <a:ext cx="6248520" cy="469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Rectangle 11"/>
          <p:cNvSpPr/>
          <p:nvPr/>
        </p:nvSpPr>
        <p:spPr>
          <a:xfrm>
            <a:off x="2057400" y="1676520"/>
            <a:ext cx="6248520" cy="493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2057400" y="2971800"/>
            <a:ext cx="6248520" cy="447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2666880" y="1676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pec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2666880" y="2362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Observa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Text Box 15"/>
          <p:cNvSpPr/>
          <p:nvPr/>
        </p:nvSpPr>
        <p:spPr>
          <a:xfrm>
            <a:off x="2743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vestigación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Rectangle 16"/>
          <p:cNvSpPr/>
          <p:nvPr/>
        </p:nvSpPr>
        <p:spPr>
          <a:xfrm>
            <a:off x="2057400" y="3581280"/>
            <a:ext cx="624852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Text Box 17"/>
          <p:cNvSpPr/>
          <p:nvPr/>
        </p:nvSpPr>
        <p:spPr>
          <a:xfrm>
            <a:off x="2666880" y="3581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trucción pers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AutoShape 18"/>
          <p:cNvSpPr/>
          <p:nvPr/>
        </p:nvSpPr>
        <p:spPr>
          <a:xfrm>
            <a:off x="1295280" y="35812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7" name="Group 19"/>
          <p:cNvGrpSpPr/>
          <p:nvPr/>
        </p:nvGrpSpPr>
        <p:grpSpPr>
          <a:xfrm>
            <a:off x="1295280" y="4191120"/>
            <a:ext cx="7010640" cy="459720"/>
            <a:chOff x="1295280" y="4191120"/>
            <a:chExt cx="7010640" cy="459720"/>
          </a:xfrm>
        </p:grpSpPr>
        <p:sp>
          <p:nvSpPr>
            <p:cNvPr id="828" name="Rectangle 20"/>
            <p:cNvSpPr/>
            <p:nvPr/>
          </p:nvSpPr>
          <p:spPr>
            <a:xfrm>
              <a:off x="2057400" y="4191120"/>
              <a:ext cx="6248520" cy="447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Text Box 21"/>
            <p:cNvSpPr/>
            <p:nvPr/>
          </p:nvSpPr>
          <p:spPr>
            <a:xfrm>
              <a:off x="2666880" y="419112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atación y colo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AutoShape 22"/>
            <p:cNvSpPr/>
            <p:nvPr/>
          </p:nvSpPr>
          <p:spPr>
            <a:xfrm>
              <a:off x="1295280" y="426744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31" name="Group 23"/>
          <p:cNvGrpSpPr/>
          <p:nvPr/>
        </p:nvGrpSpPr>
        <p:grpSpPr>
          <a:xfrm>
            <a:off x="1295280" y="4800600"/>
            <a:ext cx="7010640" cy="1755000"/>
            <a:chOff x="1295280" y="4800600"/>
            <a:chExt cx="7010640" cy="1755000"/>
          </a:xfrm>
        </p:grpSpPr>
        <p:sp>
          <p:nvSpPr>
            <p:cNvPr id="832" name="AutoShape 24"/>
            <p:cNvSpPr/>
            <p:nvPr/>
          </p:nvSpPr>
          <p:spPr>
            <a:xfrm>
              <a:off x="1295280" y="487656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AutoShape 25"/>
            <p:cNvSpPr/>
            <p:nvPr/>
          </p:nvSpPr>
          <p:spPr>
            <a:xfrm>
              <a:off x="1295280" y="5562360"/>
              <a:ext cx="457200" cy="3240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AutoShape 26"/>
            <p:cNvSpPr/>
            <p:nvPr/>
          </p:nvSpPr>
          <p:spPr>
            <a:xfrm>
              <a:off x="1295280" y="6172200"/>
              <a:ext cx="457200" cy="3236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Rectangle 27"/>
            <p:cNvSpPr/>
            <p:nvPr/>
          </p:nvSpPr>
          <p:spPr>
            <a:xfrm>
              <a:off x="2057400" y="5486400"/>
              <a:ext cx="6248520" cy="446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2057400" y="4800600"/>
              <a:ext cx="6248520" cy="493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Rectangle 29"/>
            <p:cNvSpPr/>
            <p:nvPr/>
          </p:nvSpPr>
          <p:spPr>
            <a:xfrm>
              <a:off x="2057400" y="6095880"/>
              <a:ext cx="624852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1752480" y="480060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ntrenamiento Gerenci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Text Box 31"/>
            <p:cNvSpPr/>
            <p:nvPr/>
          </p:nvSpPr>
          <p:spPr>
            <a:xfrm>
              <a:off x="2057400" y="5486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Análisis y procedimiento de tare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Text Box 32"/>
            <p:cNvSpPr/>
            <p:nvPr/>
          </p:nvSpPr>
          <p:spPr>
            <a:xfrm>
              <a:off x="2209680" y="60958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ol de Adquisiciones e Ingenierí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42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44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5" name="Group 7"/>
          <p:cNvGrpSpPr/>
          <p:nvPr/>
        </p:nvGrpSpPr>
        <p:grpSpPr>
          <a:xfrm>
            <a:off x="2666880" y="1676520"/>
            <a:ext cx="4496040" cy="4879080"/>
            <a:chOff x="2666880" y="1676520"/>
            <a:chExt cx="4496040" cy="4879080"/>
          </a:xfrm>
        </p:grpSpPr>
        <p:sp>
          <p:nvSpPr>
            <p:cNvPr id="846" name="Text Box 8"/>
            <p:cNvSpPr/>
            <p:nvPr/>
          </p:nvSpPr>
          <p:spPr>
            <a:xfrm>
              <a:off x="4038480" y="1676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ustit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Text Box 9"/>
            <p:cNvSpPr/>
            <p:nvPr/>
          </p:nvSpPr>
          <p:spPr>
            <a:xfrm>
              <a:off x="4038480" y="2362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duc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Text Box 10"/>
            <p:cNvSpPr/>
            <p:nvPr/>
          </p:nvSpPr>
          <p:spPr>
            <a:xfrm>
              <a:off x="41148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l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Text Box 11"/>
            <p:cNvSpPr/>
            <p:nvPr/>
          </p:nvSpPr>
          <p:spPr>
            <a:xfrm>
              <a:off x="4038480" y="4191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par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850" name="Group 12"/>
            <p:cNvGrpSpPr/>
            <p:nvPr/>
          </p:nvGrpSpPr>
          <p:grpSpPr>
            <a:xfrm>
              <a:off x="2666880" y="1676520"/>
              <a:ext cx="4496040" cy="4876560"/>
              <a:chOff x="2666880" y="1676520"/>
              <a:chExt cx="4496040" cy="4876560"/>
            </a:xfrm>
          </p:grpSpPr>
          <p:sp>
            <p:nvSpPr>
              <p:cNvPr id="851" name="Text Box 13"/>
              <p:cNvSpPr/>
              <p:nvPr/>
            </p:nvSpPr>
            <p:spPr>
              <a:xfrm>
                <a:off x="4038480" y="35812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Segregación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852" name="Group 14"/>
              <p:cNvGrpSpPr/>
              <p:nvPr/>
            </p:nvGrpSpPr>
            <p:grpSpPr>
              <a:xfrm>
                <a:off x="2666880" y="1676520"/>
                <a:ext cx="4496040" cy="4876560"/>
                <a:chOff x="2666880" y="1676520"/>
                <a:chExt cx="4496040" cy="4876560"/>
              </a:xfrm>
            </p:grpSpPr>
            <p:sp>
              <p:nvSpPr>
                <p:cNvPr id="853" name="AutoShape 15"/>
                <p:cNvSpPr/>
                <p:nvPr/>
              </p:nvSpPr>
              <p:spPr>
                <a:xfrm>
                  <a:off x="2666880" y="17524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16"/>
                <p:cNvSpPr/>
                <p:nvPr/>
              </p:nvSpPr>
              <p:spPr>
                <a:xfrm>
                  <a:off x="2666880" y="23623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5" name="AutoShape 17"/>
                <p:cNvSpPr/>
                <p:nvPr/>
              </p:nvSpPr>
              <p:spPr>
                <a:xfrm>
                  <a:off x="2666880" y="29718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18"/>
                <p:cNvSpPr/>
                <p:nvPr/>
              </p:nvSpPr>
              <p:spPr>
                <a:xfrm>
                  <a:off x="3429000" y="2362320"/>
                  <a:ext cx="3733920" cy="4698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19"/>
                <p:cNvSpPr/>
                <p:nvPr/>
              </p:nvSpPr>
              <p:spPr>
                <a:xfrm>
                  <a:off x="3429000" y="167652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20"/>
                <p:cNvSpPr/>
                <p:nvPr/>
              </p:nvSpPr>
              <p:spPr>
                <a:xfrm>
                  <a:off x="3429000" y="2971800"/>
                  <a:ext cx="3733920" cy="4478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21"/>
                <p:cNvSpPr/>
                <p:nvPr/>
              </p:nvSpPr>
              <p:spPr>
                <a:xfrm>
                  <a:off x="3429000" y="35812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0" name="AutoShape 22"/>
                <p:cNvSpPr/>
                <p:nvPr/>
              </p:nvSpPr>
              <p:spPr>
                <a:xfrm>
                  <a:off x="2666880" y="35812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23"/>
                <p:cNvSpPr/>
                <p:nvPr/>
              </p:nvSpPr>
              <p:spPr>
                <a:xfrm>
                  <a:off x="3429000" y="4191120"/>
                  <a:ext cx="3733920" cy="44748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24"/>
                <p:cNvSpPr/>
                <p:nvPr/>
              </p:nvSpPr>
              <p:spPr>
                <a:xfrm>
                  <a:off x="2666880" y="42670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25"/>
                <p:cNvSpPr/>
                <p:nvPr/>
              </p:nvSpPr>
              <p:spPr>
                <a:xfrm>
                  <a:off x="2666880" y="487692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6"/>
                <p:cNvSpPr/>
                <p:nvPr/>
              </p:nvSpPr>
              <p:spPr>
                <a:xfrm>
                  <a:off x="2666880" y="55627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7"/>
                <p:cNvSpPr/>
                <p:nvPr/>
              </p:nvSpPr>
              <p:spPr>
                <a:xfrm>
                  <a:off x="2666880" y="61722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8"/>
                <p:cNvSpPr/>
                <p:nvPr/>
              </p:nvSpPr>
              <p:spPr>
                <a:xfrm>
                  <a:off x="3429000" y="5486400"/>
                  <a:ext cx="3733920" cy="4460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9"/>
                <p:cNvSpPr/>
                <p:nvPr/>
              </p:nvSpPr>
              <p:spPr>
                <a:xfrm>
                  <a:off x="3429000" y="480060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30"/>
                <p:cNvSpPr/>
                <p:nvPr/>
              </p:nvSpPr>
              <p:spPr>
                <a:xfrm>
                  <a:off x="3429000" y="60958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Text Box 31"/>
              <p:cNvSpPr/>
              <p:nvPr/>
            </p:nvSpPr>
            <p:spPr>
              <a:xfrm>
                <a:off x="4038480" y="48006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Encerramien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870" name="Text Box 32"/>
            <p:cNvSpPr/>
            <p:nvPr/>
          </p:nvSpPr>
          <p:spPr>
            <a:xfrm>
              <a:off x="4038480" y="5486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difi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Text Box 33"/>
            <p:cNvSpPr/>
            <p:nvPr/>
          </p:nvSpPr>
          <p:spPr>
            <a:xfrm>
              <a:off x="4038480" y="6095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forzamien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3"/>
          <p:cNvGrpSpPr/>
          <p:nvPr/>
        </p:nvGrpSpPr>
        <p:grpSpPr>
          <a:xfrm>
            <a:off x="2050920" y="549360"/>
            <a:ext cx="6324840" cy="838080"/>
            <a:chOff x="2050920" y="549360"/>
            <a:chExt cx="6324840" cy="838080"/>
          </a:xfrm>
        </p:grpSpPr>
        <p:sp>
          <p:nvSpPr>
            <p:cNvPr id="873" name="Rectangle 4"/>
            <p:cNvSpPr/>
            <p:nvPr/>
          </p:nvSpPr>
          <p:spPr>
            <a:xfrm>
              <a:off x="2050920" y="549360"/>
              <a:ext cx="6324840" cy="838080"/>
            </a:xfrm>
            <a:prstGeom prst="rect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Text Box 5"/>
            <p:cNvSpPr/>
            <p:nvPr/>
          </p:nvSpPr>
          <p:spPr>
            <a:xfrm>
              <a:off x="2110680" y="777600"/>
              <a:ext cx="6264720" cy="459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TAPA DE </a:t>
              </a: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POST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75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1768320" y="184932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auxilio de emergenc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8"/>
          <p:cNvSpPr/>
          <p:nvPr/>
        </p:nvSpPr>
        <p:spPr>
          <a:xfrm>
            <a:off x="1768320" y="245916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incend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1768320" y="306864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ogramas de evaluación y resca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1652760" y="3678120"/>
            <a:ext cx="5616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paración inmediata para ciertos daños 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Rectangle 14"/>
          <p:cNvSpPr/>
          <p:nvPr/>
        </p:nvSpPr>
        <p:spPr>
          <a:xfrm>
            <a:off x="1692360" y="2459160"/>
            <a:ext cx="5562360" cy="469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Rectangle 15"/>
          <p:cNvSpPr/>
          <p:nvPr/>
        </p:nvSpPr>
        <p:spPr>
          <a:xfrm>
            <a:off x="1692360" y="1773360"/>
            <a:ext cx="5562360" cy="493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2" name="Rectangle 16"/>
          <p:cNvSpPr/>
          <p:nvPr/>
        </p:nvSpPr>
        <p:spPr>
          <a:xfrm>
            <a:off x="1692360" y="3068640"/>
            <a:ext cx="5562360" cy="447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Rectangle 17"/>
          <p:cNvSpPr/>
          <p:nvPr/>
        </p:nvSpPr>
        <p:spPr>
          <a:xfrm>
            <a:off x="1692360" y="3678120"/>
            <a:ext cx="556236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Rectangle 21"/>
          <p:cNvSpPr/>
          <p:nvPr/>
        </p:nvSpPr>
        <p:spPr>
          <a:xfrm>
            <a:off x="1692360" y="4745160"/>
            <a:ext cx="5562360" cy="44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5" name="Rectangle 22"/>
          <p:cNvSpPr/>
          <p:nvPr/>
        </p:nvSpPr>
        <p:spPr>
          <a:xfrm>
            <a:off x="1692360" y="5354640"/>
            <a:ext cx="5562360" cy="457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Text Box 23"/>
          <p:cNvSpPr/>
          <p:nvPr/>
        </p:nvSpPr>
        <p:spPr>
          <a:xfrm>
            <a:off x="1844640" y="474516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das para controlar el derroch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Text Box 24"/>
          <p:cNvSpPr/>
          <p:nvPr/>
        </p:nvSpPr>
        <p:spPr>
          <a:xfrm>
            <a:off x="1652760" y="5354640"/>
            <a:ext cx="5616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habilit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3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889" name="Rectangle 4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Text Box 5"/>
            <p:cNvSpPr/>
            <p:nvPr/>
          </p:nvSpPr>
          <p:spPr>
            <a:xfrm>
              <a:off x="1659960" y="47628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LAS TRES ETAPAS DEL CONTRO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892" name="Group 7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893" name="Freeform 8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>
                  <a:gd name="textAreaLeft" fmla="*/ 0 w 1828440"/>
                  <a:gd name="textAreaRight" fmla="*/ 1828800 w 182844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4" name="Freeform 9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>
                  <a:gd name="textAreaLeft" fmla="*/ 0 w 1290600"/>
                  <a:gd name="textAreaRight" fmla="*/ 1290960 w 129060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5" name="Line 10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11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897" name="Freeform 12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8" name="Freeform 13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>
                  <a:gd name="textAreaLeft" fmla="*/ 0 w 1182960"/>
                  <a:gd name="textAreaRight" fmla="*/ 1183320 w 118296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9" name="Line 14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15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901" name="Freeform 16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2" name="Freeform 17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4" name="Group 19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905" name="Freeform 20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6" name="Freeform 21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>
                  <a:gd name="textAreaLeft" fmla="*/ 0 w 1344600"/>
                  <a:gd name="textAreaRight" fmla="*/ 1344960 w 134460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23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909" name="Freeform 24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0" name="Freeform 25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>
                  <a:gd name="textAreaLeft" fmla="*/ 0 w 1183320"/>
                  <a:gd name="textAreaRight" fmla="*/ 1183680 w 118332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912" name="Oval 27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Oval 28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Oval 29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Oval 30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Oval 31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Oval 32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Oval 33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Oval 34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Oval 35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Oval 36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Oval 37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Oval 38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Oval 39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Oval 40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Text Box 41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42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Text Box 43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Text Box 45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Text Box 46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Text Box 47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48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49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50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51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Text Box 52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Text Box 53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Text Box 54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Text Box 55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41" name="Text Box 56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RE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Text Box 57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Text Box 58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OST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Text Box 3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5" name="Group 4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946" name="Rectangle 5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AutoShape 6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AutoShape 7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AutoShape 8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AutoShape 9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Rectangle 10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Rectangle 13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Rectangle 14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956" name="Group 15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957" name="Oval 16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Rectangle 17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Rectangle 18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Rectangle 19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Rectangle 20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Rectangle 21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63" name="AutoShape 22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4" name="AutoShape 23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5" name="Text Box 24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25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3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8" name="Text Box 4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1547640" y="2360520"/>
            <a:ext cx="678204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AutoShape 6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AutoShape 7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3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3" name="Text Box 4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5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Text Box 7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Oval 8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8" name="Oval 9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79" name="AutoShape 10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980" name="AutoShape 11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981" name="Object 12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3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3" name="Object 4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84" name="Text Box 5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6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87" name="Text Box 5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2" name="Oval 10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3" name="Group 11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994" name="Freeform 12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>
                <a:gd name="textAreaLeft" fmla="*/ 360 w 650880"/>
                <a:gd name="textAreaRight" fmla="*/ 651600 w 650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Freeform 13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Freeform 14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Freeform 15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>
                <a:gd name="textAreaLeft" fmla="*/ 360 w 490320"/>
                <a:gd name="textAreaRight" fmla="*/ 491040 w 49032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Freeform 16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Freeform 17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>
                <a:gd name="textAreaLeft" fmla="*/ -360 w 609480"/>
                <a:gd name="textAreaRight" fmla="*/ 609480 w 609480"/>
                <a:gd name="textAreaTop" fmla="*/ 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1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02" name="Text Box 5"/>
          <p:cNvSpPr/>
          <p:nvPr/>
        </p:nvSpPr>
        <p:spPr>
          <a:xfrm>
            <a:off x="992880" y="2739960"/>
            <a:ext cx="67658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DIR EL MOMENTO DE LA INSPEC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3"/>
          <p:cNvSpPr/>
          <p:nvPr/>
        </p:nvSpPr>
        <p:spPr>
          <a:xfrm>
            <a:off x="1274400" y="3374640"/>
            <a:ext cx="30394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60093"/>
                </a:solidFill>
                <a:latin typeface="Arial"/>
              </a:rPr>
              <a:t>LISTA</a:t>
            </a:r>
            <a:r>
              <a:rPr b="0" lang="es-ES_tradnl" sz="1800" spc="-1" strike="noStrike" u="sng">
                <a:solidFill>
                  <a:srgbClr val="d60093"/>
                </a:solidFill>
                <a:uFillTx/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d60093"/>
                </a:solidFill>
                <a:latin typeface="Arial"/>
              </a:rPr>
              <a:t> DE VERIFICACIÓ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4934880" y="1063080"/>
            <a:ext cx="3792240" cy="520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3"/>
          <p:cNvSpPr/>
          <p:nvPr/>
        </p:nvSpPr>
        <p:spPr>
          <a:xfrm>
            <a:off x="1734480" y="1370520"/>
            <a:ext cx="649764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332000" y="2714040"/>
            <a:ext cx="7416720" cy="257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2440" indent="-622440">
              <a:lnSpc>
                <a:spcPct val="170000"/>
              </a:lnSpc>
              <a:buClr>
                <a:srgbClr val="d60093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ALIMENTACION ELÉCTRICA CONTROL DE MARCHA Y PAR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622440" indent="-622440">
              <a:lnSpc>
                <a:spcPct val="170000"/>
              </a:lnSpc>
              <a:buClr>
                <a:srgbClr val="d60093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SISTEMA DE CONTROL  PUNTOS DE OPERACIÓ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622440" indent="-622440">
              <a:lnSpc>
                <a:spcPct val="170000"/>
              </a:lnSpc>
              <a:buClr>
                <a:srgbClr val="d60093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622440" indent="-622440">
              <a:lnSpc>
                <a:spcPct val="170000"/>
              </a:lnSpc>
              <a:buClr>
                <a:srgbClr val="d60093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622440" indent="-622440">
              <a:lnSpc>
                <a:spcPct val="170000"/>
              </a:lnSpc>
              <a:buClr>
                <a:srgbClr val="d60093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622440" indent="-622440">
              <a:lnSpc>
                <a:spcPct val="170000"/>
              </a:lnSpc>
              <a:buClr>
                <a:srgbClr val="d60093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d60093"/>
                </a:solidFill>
                <a:latin typeface="Arial"/>
              </a:rPr>
              <a:t>MANTENIMIENTO DE PARTES VITALES.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8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5"/>
          <p:cNvSpPr/>
          <p:nvPr/>
        </p:nvSpPr>
        <p:spPr>
          <a:xfrm>
            <a:off x="2052000" y="1771560"/>
            <a:ext cx="6398640" cy="375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 Y V° B° JEF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Oval 6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1" name="Oval 7"/>
          <p:cNvSpPr/>
          <p:nvPr/>
        </p:nvSpPr>
        <p:spPr>
          <a:xfrm>
            <a:off x="457200" y="19051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12" name="Group 8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13" name="Freeform 9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Freeform 10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Freeform 11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Freeform 12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Freeform 13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Freeform 14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19" name="Oval 15"/>
          <p:cNvSpPr/>
          <p:nvPr/>
        </p:nvSpPr>
        <p:spPr>
          <a:xfrm>
            <a:off x="457200" y="31240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0" name="Oval 16"/>
          <p:cNvSpPr/>
          <p:nvPr/>
        </p:nvSpPr>
        <p:spPr>
          <a:xfrm>
            <a:off x="457200" y="25146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1" name="Oval 17"/>
          <p:cNvSpPr/>
          <p:nvPr/>
        </p:nvSpPr>
        <p:spPr>
          <a:xfrm>
            <a:off x="457200" y="37339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2" name="Oval 18"/>
          <p:cNvSpPr/>
          <p:nvPr/>
        </p:nvSpPr>
        <p:spPr>
          <a:xfrm>
            <a:off x="457200" y="43434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3" name="Oval 19"/>
          <p:cNvSpPr/>
          <p:nvPr/>
        </p:nvSpPr>
        <p:spPr>
          <a:xfrm>
            <a:off x="457200" y="49528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5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26" name="Text Box 5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MFORME RESUMEN AL NIVEL SUPERIO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Oval 6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8" name="Oval 7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Oval 8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0" name="Oval 9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Oval 10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2" name="Oval 11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Oval 12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4" name="Group 13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35" name="Freeform 14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Freeform 15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Freeform 17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Freeform 18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41" name="Oval 20"/>
          <p:cNvSpPr/>
          <p:nvPr/>
        </p:nvSpPr>
        <p:spPr>
          <a:xfrm>
            <a:off x="1143000" y="22096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3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3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44" name="Text Box 5"/>
          <p:cNvSpPr/>
          <p:nvPr/>
        </p:nvSpPr>
        <p:spPr>
          <a:xfrm>
            <a:off x="1209600" y="1522800"/>
            <a:ext cx="703116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5" name="Text Box 13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Text Box 14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7" name="AutoShape 15"/>
          <p:cNvSpPr/>
          <p:nvPr/>
        </p:nvSpPr>
        <p:spPr>
          <a:xfrm>
            <a:off x="3657600" y="25909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AutoShape 16"/>
          <p:cNvSpPr/>
          <p:nvPr/>
        </p:nvSpPr>
        <p:spPr>
          <a:xfrm>
            <a:off x="3657600" y="39625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3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0" name="Text Box 11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1" name="Text Box 12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2" name="AutoShape 13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AutoShape 14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4" name="AutoShape 15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5" name="Object 16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3"/>
          <p:cNvSpPr/>
          <p:nvPr/>
        </p:nvSpPr>
        <p:spPr>
          <a:xfrm>
            <a:off x="457200" y="913320"/>
            <a:ext cx="8381880" cy="49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“ </a:t>
            </a: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ESCUCHO LO OLVI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VEO LO RECUER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HAGO LO SE”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57" name="Group 4"/>
          <p:cNvGrpSpPr/>
          <p:nvPr/>
        </p:nvGrpSpPr>
        <p:grpSpPr>
          <a:xfrm>
            <a:off x="6934320" y="2967120"/>
            <a:ext cx="685440" cy="1571400"/>
            <a:chOff x="6934320" y="2967120"/>
            <a:chExt cx="685440" cy="1571400"/>
          </a:xfrm>
        </p:grpSpPr>
        <p:sp>
          <p:nvSpPr>
            <p:cNvPr id="1058" name="Freeform 5"/>
            <p:cNvSpPr/>
            <p:nvPr/>
          </p:nvSpPr>
          <p:spPr>
            <a:xfrm>
              <a:off x="7058160" y="3226680"/>
              <a:ext cx="344880" cy="273600"/>
            </a:xfrm>
            <a:custGeom>
              <a:avLst/>
              <a:gdLst>
                <a:gd name="textAreaLeft" fmla="*/ 0 w 344880"/>
                <a:gd name="textAreaRight" fmla="*/ 344880 w 34488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Freeform 6"/>
            <p:cNvSpPr/>
            <p:nvPr/>
          </p:nvSpPr>
          <p:spPr>
            <a:xfrm>
              <a:off x="7305480" y="2967120"/>
              <a:ext cx="306000" cy="6112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Freeform 7"/>
            <p:cNvSpPr/>
            <p:nvPr/>
          </p:nvSpPr>
          <p:spPr>
            <a:xfrm>
              <a:off x="6934320" y="3531240"/>
              <a:ext cx="276840" cy="3679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8"/>
            <p:cNvSpPr/>
            <p:nvPr/>
          </p:nvSpPr>
          <p:spPr>
            <a:xfrm>
              <a:off x="7159680" y="3514320"/>
              <a:ext cx="259920" cy="4536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Freeform 9"/>
            <p:cNvSpPr/>
            <p:nvPr/>
          </p:nvSpPr>
          <p:spPr>
            <a:xfrm>
              <a:off x="7082280" y="3882600"/>
              <a:ext cx="197640" cy="65592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10"/>
            <p:cNvSpPr/>
            <p:nvPr/>
          </p:nvSpPr>
          <p:spPr>
            <a:xfrm>
              <a:off x="7296840" y="3882600"/>
              <a:ext cx="322920" cy="5533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64" name="Group 11"/>
          <p:cNvGrpSpPr/>
          <p:nvPr/>
        </p:nvGrpSpPr>
        <p:grpSpPr>
          <a:xfrm>
            <a:off x="7315200" y="1371600"/>
            <a:ext cx="990360" cy="1455480"/>
            <a:chOff x="7315200" y="1371600"/>
            <a:chExt cx="990360" cy="1455480"/>
          </a:xfrm>
        </p:grpSpPr>
        <p:sp>
          <p:nvSpPr>
            <p:cNvPr id="1065" name="Freeform 12"/>
            <p:cNvSpPr/>
            <p:nvPr/>
          </p:nvSpPr>
          <p:spPr>
            <a:xfrm>
              <a:off x="7315200" y="1817280"/>
              <a:ext cx="387720" cy="4957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Freeform 13"/>
            <p:cNvSpPr/>
            <p:nvPr/>
          </p:nvSpPr>
          <p:spPr>
            <a:xfrm>
              <a:off x="7660800" y="1795320"/>
              <a:ext cx="269280" cy="474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14"/>
            <p:cNvSpPr/>
            <p:nvPr/>
          </p:nvSpPr>
          <p:spPr>
            <a:xfrm>
              <a:off x="7735320" y="2207880"/>
              <a:ext cx="157320" cy="6192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Freeform 15"/>
            <p:cNvSpPr/>
            <p:nvPr/>
          </p:nvSpPr>
          <p:spPr>
            <a:xfrm>
              <a:off x="7513920" y="2209320"/>
              <a:ext cx="245520" cy="617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Freeform 16"/>
            <p:cNvSpPr/>
            <p:nvPr/>
          </p:nvSpPr>
          <p:spPr>
            <a:xfrm>
              <a:off x="7560720" y="1439640"/>
              <a:ext cx="316440" cy="3222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Freeform 17"/>
            <p:cNvSpPr/>
            <p:nvPr/>
          </p:nvSpPr>
          <p:spPr>
            <a:xfrm>
              <a:off x="7676640" y="1371600"/>
              <a:ext cx="628920" cy="53892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1" name="Group 18"/>
          <p:cNvGrpSpPr/>
          <p:nvPr/>
        </p:nvGrpSpPr>
        <p:grpSpPr>
          <a:xfrm>
            <a:off x="7620120" y="4419720"/>
            <a:ext cx="838080" cy="1237680"/>
            <a:chOff x="7620120" y="4419720"/>
            <a:chExt cx="838080" cy="1237680"/>
          </a:xfrm>
        </p:grpSpPr>
        <p:sp>
          <p:nvSpPr>
            <p:cNvPr id="1072" name="Freeform 19"/>
            <p:cNvSpPr/>
            <p:nvPr/>
          </p:nvSpPr>
          <p:spPr>
            <a:xfrm>
              <a:off x="7987320" y="4831560"/>
              <a:ext cx="195480" cy="436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41" h="879">
                  <a:moveTo>
                    <a:pt x="104" y="70"/>
                  </a:moveTo>
                  <a:lnTo>
                    <a:pt x="152" y="18"/>
                  </a:lnTo>
                  <a:lnTo>
                    <a:pt x="242" y="0"/>
                  </a:lnTo>
                  <a:lnTo>
                    <a:pt x="319" y="18"/>
                  </a:lnTo>
                  <a:lnTo>
                    <a:pt x="363" y="47"/>
                  </a:lnTo>
                  <a:lnTo>
                    <a:pt x="397" y="104"/>
                  </a:lnTo>
                  <a:lnTo>
                    <a:pt x="427" y="206"/>
                  </a:lnTo>
                  <a:lnTo>
                    <a:pt x="441" y="316"/>
                  </a:lnTo>
                  <a:lnTo>
                    <a:pt x="441" y="514"/>
                  </a:lnTo>
                  <a:lnTo>
                    <a:pt x="397" y="686"/>
                  </a:lnTo>
                  <a:lnTo>
                    <a:pt x="332" y="784"/>
                  </a:lnTo>
                  <a:lnTo>
                    <a:pt x="268" y="840"/>
                  </a:lnTo>
                  <a:lnTo>
                    <a:pt x="195" y="879"/>
                  </a:lnTo>
                  <a:lnTo>
                    <a:pt x="92" y="874"/>
                  </a:lnTo>
                  <a:lnTo>
                    <a:pt x="10" y="815"/>
                  </a:lnTo>
                  <a:lnTo>
                    <a:pt x="0" y="745"/>
                  </a:lnTo>
                  <a:lnTo>
                    <a:pt x="40" y="640"/>
                  </a:lnTo>
                  <a:lnTo>
                    <a:pt x="74" y="523"/>
                  </a:lnTo>
                  <a:lnTo>
                    <a:pt x="87" y="371"/>
                  </a:lnTo>
                  <a:lnTo>
                    <a:pt x="66" y="242"/>
                  </a:lnTo>
                  <a:lnTo>
                    <a:pt x="66" y="147"/>
                  </a:lnTo>
                  <a:lnTo>
                    <a:pt x="10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Freeform 20"/>
            <p:cNvSpPr/>
            <p:nvPr/>
          </p:nvSpPr>
          <p:spPr>
            <a:xfrm>
              <a:off x="8063280" y="5220720"/>
              <a:ext cx="222840" cy="4309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505" h="866">
                  <a:moveTo>
                    <a:pt x="168" y="36"/>
                  </a:moveTo>
                  <a:lnTo>
                    <a:pt x="108" y="0"/>
                  </a:lnTo>
                  <a:lnTo>
                    <a:pt x="30" y="0"/>
                  </a:lnTo>
                  <a:lnTo>
                    <a:pt x="0" y="47"/>
                  </a:lnTo>
                  <a:lnTo>
                    <a:pt x="13" y="118"/>
                  </a:lnTo>
                  <a:lnTo>
                    <a:pt x="82" y="186"/>
                  </a:lnTo>
                  <a:lnTo>
                    <a:pt x="224" y="250"/>
                  </a:lnTo>
                  <a:lnTo>
                    <a:pt x="387" y="384"/>
                  </a:lnTo>
                  <a:lnTo>
                    <a:pt x="413" y="443"/>
                  </a:lnTo>
                  <a:lnTo>
                    <a:pt x="400" y="470"/>
                  </a:lnTo>
                  <a:lnTo>
                    <a:pt x="276" y="559"/>
                  </a:lnTo>
                  <a:lnTo>
                    <a:pt x="129" y="665"/>
                  </a:lnTo>
                  <a:lnTo>
                    <a:pt x="95" y="711"/>
                  </a:lnTo>
                  <a:lnTo>
                    <a:pt x="95" y="759"/>
                  </a:lnTo>
                  <a:lnTo>
                    <a:pt x="207" y="809"/>
                  </a:lnTo>
                  <a:lnTo>
                    <a:pt x="379" y="866"/>
                  </a:lnTo>
                  <a:lnTo>
                    <a:pt x="439" y="866"/>
                  </a:lnTo>
                  <a:lnTo>
                    <a:pt x="505" y="827"/>
                  </a:lnTo>
                  <a:lnTo>
                    <a:pt x="505" y="797"/>
                  </a:lnTo>
                  <a:lnTo>
                    <a:pt x="456" y="781"/>
                  </a:lnTo>
                  <a:lnTo>
                    <a:pt x="237" y="759"/>
                  </a:lnTo>
                  <a:lnTo>
                    <a:pt x="155" y="738"/>
                  </a:lnTo>
                  <a:lnTo>
                    <a:pt x="147" y="704"/>
                  </a:lnTo>
                  <a:lnTo>
                    <a:pt x="289" y="607"/>
                  </a:lnTo>
                  <a:lnTo>
                    <a:pt x="443" y="513"/>
                  </a:lnTo>
                  <a:lnTo>
                    <a:pt x="478" y="479"/>
                  </a:lnTo>
                  <a:lnTo>
                    <a:pt x="491" y="432"/>
                  </a:lnTo>
                  <a:lnTo>
                    <a:pt x="478" y="366"/>
                  </a:lnTo>
                  <a:lnTo>
                    <a:pt x="430" y="315"/>
                  </a:lnTo>
                  <a:lnTo>
                    <a:pt x="276" y="145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7769520" y="5198760"/>
              <a:ext cx="277920" cy="4586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28" h="922">
                  <a:moveTo>
                    <a:pt x="341" y="125"/>
                  </a:moveTo>
                  <a:lnTo>
                    <a:pt x="441" y="46"/>
                  </a:lnTo>
                  <a:lnTo>
                    <a:pt x="536" y="0"/>
                  </a:lnTo>
                  <a:lnTo>
                    <a:pt x="596" y="7"/>
                  </a:lnTo>
                  <a:lnTo>
                    <a:pt x="628" y="46"/>
                  </a:lnTo>
                  <a:lnTo>
                    <a:pt x="628" y="89"/>
                  </a:lnTo>
                  <a:lnTo>
                    <a:pt x="609" y="136"/>
                  </a:lnTo>
                  <a:lnTo>
                    <a:pt x="544" y="163"/>
                  </a:lnTo>
                  <a:lnTo>
                    <a:pt x="414" y="229"/>
                  </a:lnTo>
                  <a:lnTo>
                    <a:pt x="337" y="311"/>
                  </a:lnTo>
                  <a:lnTo>
                    <a:pt x="285" y="409"/>
                  </a:lnTo>
                  <a:lnTo>
                    <a:pt x="272" y="466"/>
                  </a:lnTo>
                  <a:lnTo>
                    <a:pt x="341" y="536"/>
                  </a:lnTo>
                  <a:lnTo>
                    <a:pt x="414" y="638"/>
                  </a:lnTo>
                  <a:lnTo>
                    <a:pt x="467" y="731"/>
                  </a:lnTo>
                  <a:lnTo>
                    <a:pt x="480" y="790"/>
                  </a:lnTo>
                  <a:lnTo>
                    <a:pt x="480" y="824"/>
                  </a:lnTo>
                  <a:lnTo>
                    <a:pt x="445" y="847"/>
                  </a:lnTo>
                  <a:lnTo>
                    <a:pt x="337" y="852"/>
                  </a:lnTo>
                  <a:lnTo>
                    <a:pt x="172" y="886"/>
                  </a:lnTo>
                  <a:lnTo>
                    <a:pt x="142" y="918"/>
                  </a:lnTo>
                  <a:lnTo>
                    <a:pt x="116" y="922"/>
                  </a:lnTo>
                  <a:lnTo>
                    <a:pt x="0" y="886"/>
                  </a:lnTo>
                  <a:lnTo>
                    <a:pt x="0" y="852"/>
                  </a:lnTo>
                  <a:lnTo>
                    <a:pt x="51" y="824"/>
                  </a:lnTo>
                  <a:lnTo>
                    <a:pt x="259" y="790"/>
                  </a:lnTo>
                  <a:lnTo>
                    <a:pt x="367" y="802"/>
                  </a:lnTo>
                  <a:lnTo>
                    <a:pt x="420" y="802"/>
                  </a:lnTo>
                  <a:lnTo>
                    <a:pt x="433" y="781"/>
                  </a:lnTo>
                  <a:lnTo>
                    <a:pt x="388" y="695"/>
                  </a:lnTo>
                  <a:lnTo>
                    <a:pt x="298" y="584"/>
                  </a:lnTo>
                  <a:lnTo>
                    <a:pt x="233" y="502"/>
                  </a:lnTo>
                  <a:lnTo>
                    <a:pt x="207" y="455"/>
                  </a:lnTo>
                  <a:lnTo>
                    <a:pt x="207" y="384"/>
                  </a:lnTo>
                  <a:lnTo>
                    <a:pt x="250" y="268"/>
                  </a:lnTo>
                  <a:lnTo>
                    <a:pt x="289" y="195"/>
                  </a:lnTo>
                  <a:lnTo>
                    <a:pt x="34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620120" y="4831560"/>
              <a:ext cx="375840" cy="343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3440"/>
                <a:gd name="textAreaBottom" fmla="*/ 343440 h 343440"/>
              </a:gdLst>
              <a:ahLst/>
              <a:rect l="textAreaLeft" t="textAreaTop" r="textAreaRight" b="textAreaBottom"/>
              <a:pathLst>
                <a:path w="848" h="688">
                  <a:moveTo>
                    <a:pt x="509" y="688"/>
                  </a:moveTo>
                  <a:lnTo>
                    <a:pt x="562" y="683"/>
                  </a:lnTo>
                  <a:lnTo>
                    <a:pt x="577" y="644"/>
                  </a:lnTo>
                  <a:lnTo>
                    <a:pt x="592" y="505"/>
                  </a:lnTo>
                  <a:lnTo>
                    <a:pt x="671" y="341"/>
                  </a:lnTo>
                  <a:lnTo>
                    <a:pt x="752" y="267"/>
                  </a:lnTo>
                  <a:lnTo>
                    <a:pt x="848" y="189"/>
                  </a:lnTo>
                  <a:lnTo>
                    <a:pt x="840" y="135"/>
                  </a:lnTo>
                  <a:lnTo>
                    <a:pt x="782" y="106"/>
                  </a:lnTo>
                  <a:lnTo>
                    <a:pt x="711" y="135"/>
                  </a:lnTo>
                  <a:lnTo>
                    <a:pt x="632" y="214"/>
                  </a:lnTo>
                  <a:lnTo>
                    <a:pt x="559" y="386"/>
                  </a:lnTo>
                  <a:lnTo>
                    <a:pt x="527" y="519"/>
                  </a:lnTo>
                  <a:lnTo>
                    <a:pt x="506" y="589"/>
                  </a:lnTo>
                  <a:lnTo>
                    <a:pt x="446" y="564"/>
                  </a:lnTo>
                  <a:lnTo>
                    <a:pt x="378" y="449"/>
                  </a:lnTo>
                  <a:lnTo>
                    <a:pt x="322" y="290"/>
                  </a:lnTo>
                  <a:lnTo>
                    <a:pt x="332" y="218"/>
                  </a:lnTo>
                  <a:lnTo>
                    <a:pt x="364" y="142"/>
                  </a:lnTo>
                  <a:lnTo>
                    <a:pt x="377" y="86"/>
                  </a:lnTo>
                  <a:lnTo>
                    <a:pt x="239" y="83"/>
                  </a:lnTo>
                  <a:lnTo>
                    <a:pt x="101" y="60"/>
                  </a:lnTo>
                  <a:lnTo>
                    <a:pt x="37" y="0"/>
                  </a:lnTo>
                  <a:lnTo>
                    <a:pt x="0" y="29"/>
                  </a:lnTo>
                  <a:lnTo>
                    <a:pt x="50" y="132"/>
                  </a:lnTo>
                  <a:lnTo>
                    <a:pt x="160" y="143"/>
                  </a:lnTo>
                  <a:lnTo>
                    <a:pt x="279" y="155"/>
                  </a:lnTo>
                  <a:lnTo>
                    <a:pt x="282" y="245"/>
                  </a:lnTo>
                  <a:lnTo>
                    <a:pt x="294" y="350"/>
                  </a:lnTo>
                  <a:lnTo>
                    <a:pt x="334" y="467"/>
                  </a:lnTo>
                  <a:lnTo>
                    <a:pt x="384" y="584"/>
                  </a:lnTo>
                  <a:lnTo>
                    <a:pt x="460" y="661"/>
                  </a:lnTo>
                  <a:lnTo>
                    <a:pt x="509" y="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182080" y="4419720"/>
              <a:ext cx="276120" cy="462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626" h="931">
                  <a:moveTo>
                    <a:pt x="0" y="922"/>
                  </a:moveTo>
                  <a:lnTo>
                    <a:pt x="0" y="861"/>
                  </a:lnTo>
                  <a:lnTo>
                    <a:pt x="39" y="813"/>
                  </a:lnTo>
                  <a:lnTo>
                    <a:pt x="208" y="759"/>
                  </a:lnTo>
                  <a:lnTo>
                    <a:pt x="418" y="713"/>
                  </a:lnTo>
                  <a:lnTo>
                    <a:pt x="538" y="686"/>
                  </a:lnTo>
                  <a:lnTo>
                    <a:pt x="552" y="661"/>
                  </a:lnTo>
                  <a:lnTo>
                    <a:pt x="495" y="592"/>
                  </a:lnTo>
                  <a:lnTo>
                    <a:pt x="382" y="491"/>
                  </a:lnTo>
                  <a:lnTo>
                    <a:pt x="266" y="405"/>
                  </a:lnTo>
                  <a:lnTo>
                    <a:pt x="174" y="359"/>
                  </a:lnTo>
                  <a:lnTo>
                    <a:pt x="122" y="311"/>
                  </a:lnTo>
                  <a:lnTo>
                    <a:pt x="118" y="277"/>
                  </a:lnTo>
                  <a:lnTo>
                    <a:pt x="148" y="245"/>
                  </a:lnTo>
                  <a:lnTo>
                    <a:pt x="221" y="230"/>
                  </a:lnTo>
                  <a:lnTo>
                    <a:pt x="313" y="171"/>
                  </a:lnTo>
                  <a:lnTo>
                    <a:pt x="326" y="113"/>
                  </a:lnTo>
                  <a:lnTo>
                    <a:pt x="326" y="32"/>
                  </a:lnTo>
                  <a:lnTo>
                    <a:pt x="317" y="0"/>
                  </a:lnTo>
                  <a:lnTo>
                    <a:pt x="352" y="7"/>
                  </a:lnTo>
                  <a:lnTo>
                    <a:pt x="400" y="78"/>
                  </a:lnTo>
                  <a:lnTo>
                    <a:pt x="418" y="152"/>
                  </a:lnTo>
                  <a:lnTo>
                    <a:pt x="365" y="207"/>
                  </a:lnTo>
                  <a:lnTo>
                    <a:pt x="317" y="222"/>
                  </a:lnTo>
                  <a:lnTo>
                    <a:pt x="226" y="265"/>
                  </a:lnTo>
                  <a:lnTo>
                    <a:pt x="208" y="288"/>
                  </a:lnTo>
                  <a:lnTo>
                    <a:pt x="221" y="311"/>
                  </a:lnTo>
                  <a:lnTo>
                    <a:pt x="304" y="374"/>
                  </a:lnTo>
                  <a:lnTo>
                    <a:pt x="392" y="409"/>
                  </a:lnTo>
                  <a:lnTo>
                    <a:pt x="508" y="498"/>
                  </a:lnTo>
                  <a:lnTo>
                    <a:pt x="587" y="604"/>
                  </a:lnTo>
                  <a:lnTo>
                    <a:pt x="626" y="686"/>
                  </a:lnTo>
                  <a:lnTo>
                    <a:pt x="613" y="713"/>
                  </a:lnTo>
                  <a:lnTo>
                    <a:pt x="587" y="731"/>
                  </a:lnTo>
                  <a:lnTo>
                    <a:pt x="487" y="767"/>
                  </a:lnTo>
                  <a:lnTo>
                    <a:pt x="287" y="826"/>
                  </a:lnTo>
                  <a:lnTo>
                    <a:pt x="161" y="876"/>
                  </a:lnTo>
                  <a:lnTo>
                    <a:pt x="79" y="919"/>
                  </a:lnTo>
                  <a:lnTo>
                    <a:pt x="26" y="931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7910280" y="4489200"/>
              <a:ext cx="215640" cy="329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487" h="663">
                  <a:moveTo>
                    <a:pt x="99" y="538"/>
                  </a:moveTo>
                  <a:lnTo>
                    <a:pt x="155" y="597"/>
                  </a:lnTo>
                  <a:lnTo>
                    <a:pt x="246" y="651"/>
                  </a:lnTo>
                  <a:lnTo>
                    <a:pt x="324" y="663"/>
                  </a:lnTo>
                  <a:lnTo>
                    <a:pt x="383" y="651"/>
                  </a:lnTo>
                  <a:lnTo>
                    <a:pt x="453" y="605"/>
                  </a:lnTo>
                  <a:lnTo>
                    <a:pt x="479" y="511"/>
                  </a:lnTo>
                  <a:lnTo>
                    <a:pt x="487" y="440"/>
                  </a:lnTo>
                  <a:lnTo>
                    <a:pt x="466" y="375"/>
                  </a:lnTo>
                  <a:lnTo>
                    <a:pt x="426" y="293"/>
                  </a:lnTo>
                  <a:lnTo>
                    <a:pt x="388" y="223"/>
                  </a:lnTo>
                  <a:lnTo>
                    <a:pt x="383" y="207"/>
                  </a:lnTo>
                  <a:lnTo>
                    <a:pt x="400" y="125"/>
                  </a:lnTo>
                  <a:lnTo>
                    <a:pt x="453" y="43"/>
                  </a:lnTo>
                  <a:lnTo>
                    <a:pt x="462" y="19"/>
                  </a:lnTo>
                  <a:lnTo>
                    <a:pt x="434" y="0"/>
                  </a:lnTo>
                  <a:lnTo>
                    <a:pt x="400" y="0"/>
                  </a:lnTo>
                  <a:lnTo>
                    <a:pt x="363" y="106"/>
                  </a:lnTo>
                  <a:lnTo>
                    <a:pt x="345" y="175"/>
                  </a:lnTo>
                  <a:lnTo>
                    <a:pt x="298" y="129"/>
                  </a:lnTo>
                  <a:lnTo>
                    <a:pt x="258" y="93"/>
                  </a:lnTo>
                  <a:lnTo>
                    <a:pt x="176" y="66"/>
                  </a:lnTo>
                  <a:lnTo>
                    <a:pt x="116" y="66"/>
                  </a:lnTo>
                  <a:lnTo>
                    <a:pt x="26" y="106"/>
                  </a:lnTo>
                  <a:lnTo>
                    <a:pt x="0" y="218"/>
                  </a:lnTo>
                  <a:lnTo>
                    <a:pt x="21" y="363"/>
                  </a:lnTo>
                  <a:lnTo>
                    <a:pt x="60" y="499"/>
                  </a:lnTo>
                  <a:lnTo>
                    <a:pt x="99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AutoShape 2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79" name="Group 4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1080" name="Oval 5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7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Rectangle 8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Rectangle 9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Rectangle 10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86" name="Text Box 11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3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Text Box 6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Text Box 7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Text Box 8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Text Box 9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10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11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4952880" y="28954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4952880" y="41911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4876920" y="579132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3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Oval 4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01" name="Group 5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1102" name="Oval 6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3" name="Rectangle 7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4" name="Rectangle 8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5" name="Rectangle 9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6" name="Rectangle 10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7" name="Rectangle 11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08" name="AutoShape 12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AutoShape 13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AutoShape 14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AutoShape 15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Text Box 4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143000" y="1413000"/>
            <a:ext cx="7532640" cy="4412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22440" indent="-622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22440" indent="-62244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22440" indent="-622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22440" indent="-622440"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87560" indent="-2858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87560" indent="-28584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3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6" name="Group 5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1117" name="Oval 6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8" name="Rectangle 7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9" name="Rectangle 8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0" name="Rectangle 9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1" name="Rectangle 10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2" name="Rectangle 11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23" name="Text Box 12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Text Box 13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Text Box 14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Text Box 15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Text Box 16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Oval 17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Oval 18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Oval 19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Oval 20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Text Box 5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168880" y="1980000"/>
            <a:ext cx="4140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000760" y="2742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00760" y="3885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910400" y="5104080"/>
            <a:ext cx="8802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51360" y="344304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12-05-06T23:52:08Z</dcterms:modified>
  <cp:revision>19</cp:revision>
  <dc:subject/>
  <dc:title>Presentación de PowerPoint</dc:title>
</cp:coreProperties>
</file>