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29C3-3BF5-4AB5-83E8-C1CAEEF1D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23D-C55C-4BF2-83EA-42295884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773-0441-4689-BAA2-AAD56C11D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6D56-CC66-4416-B16A-35DCB3CBA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8BAB9-4EBD-4147-A9F5-1F0FF7EC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56B4-AAF7-49A5-BDFE-4A479D58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FF137-4B0D-4EDB-9A4B-EA1F7B88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67144-57E8-4CDC-B807-BFCA867A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FF3D9-215E-4A4A-BD5B-1A64CDAA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6ECEF-7FB4-447D-8745-CBC591EF7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EEB6-E305-46E8-B077-D6C89DF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56B6-FFDE-4D27-8445-3F0043506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FC287-8EF0-4732-ABE9-1E4CD5786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1FCD7-4A27-4B55-88B4-958665BB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7D1B-3B85-4510-8009-DA2ACBE6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B026-48B0-4B7E-9BE3-187285C4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2C623-9A1F-46AE-8091-F36003E1D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9F8A-B709-42BC-BDB7-070F8E2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AFE7-1A68-4EC2-8404-D9CFBC6E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43E50-95B8-4066-A251-C0BA03555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6F9D-D2CE-4465-8673-3C797E00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CC95-D726-4C06-8334-60A580DA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AD32-931A-4382-9D67-E39D6873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ADDB-00CC-4417-8C73-EE3D3312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97BE0E-1531-4F55-9E41-486726FCDC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ACBFCC-BCEC-4980-BD7C-954C767E7A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468360" y="44280"/>
            <a:ext cx="9070920" cy="66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formaciones geomét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 2D y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Parte I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ransformaciones compuestas bidimensional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puesto:  mostrar 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1371600" y="2414520"/>
                <a:ext cx="537228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1371600" y="4343400"/>
                <a:ext cx="359244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θ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371600" y="3328920"/>
                <a:ext cx="548640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</m:e>
                    </m:d>
                    <m:r>
                      <m:t xml:space="preserve">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rPr>
                        <m:lit/>
                        <m:nor/>
                      </m:rPr>
                      <m:t xml:space="preserve">P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1y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+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439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194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combinan las matrices elementales para producir el efecto des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</a:rPr>
              <a:t>Se gana eficiencia usando la matriz resulta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Rotación alrededor de punto arbitrario P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(x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2323dc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2323d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ff0000"/>
                </a:solidFill>
                <a:latin typeface="Arial"/>
              </a:rPr>
              <a:t>Pas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a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ote alrededor del ori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raslade para que el punto en el origen vuelva a 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71600" y="5745240"/>
            <a:ext cx="65754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2640" bIns="45000" anchor="t">
            <a:no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T (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R (</a:t>
            </a:r>
            <a:r>
              <a:rPr b="0" lang="es-E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. T (-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-y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 =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M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 Matriz Resul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s-ES" sz="2000" spc="-1" strike="noStrike">
                <a:solidFill>
                  <a:srgbClr val="0000ff"/>
                </a:solidFill>
                <a:latin typeface="Arial"/>
              </a:rPr>
              <a:t>3º          2º               1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ff"/>
                </a:solidFill>
                <a:latin typeface="Arial"/>
              </a:rPr>
              <a:t>Expresar como una composición de transformacio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Rotación en torno a un punto distinto del origen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scalamiento en torno a un punto distinto del ori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1979280" y="2743200"/>
            <a:ext cx="1679400" cy="1523880"/>
            <a:chOff x="1979280" y="2743200"/>
            <a:chExt cx="1679400" cy="1523880"/>
          </a:xfrm>
        </p:grpSpPr>
        <p:grpSp>
          <p:nvGrpSpPr>
            <p:cNvPr id="139" name=""/>
            <p:cNvGrpSpPr/>
            <p:nvPr/>
          </p:nvGrpSpPr>
          <p:grpSpPr>
            <a:xfrm>
              <a:off x="1979280" y="2743200"/>
              <a:ext cx="1679400" cy="1523880"/>
              <a:chOff x="1979280" y="2743200"/>
              <a:chExt cx="1679400" cy="1523880"/>
            </a:xfrm>
          </p:grpSpPr>
          <p:sp>
            <p:nvSpPr>
              <p:cNvPr id="140" name=""/>
              <p:cNvSpPr/>
              <p:nvPr/>
            </p:nvSpPr>
            <p:spPr>
              <a:xfrm>
                <a:off x="2112840" y="2743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197928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2590920" y="28954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66256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5256000" y="2743200"/>
            <a:ext cx="1679400" cy="1523880"/>
            <a:chOff x="5256000" y="2743200"/>
            <a:chExt cx="1679400" cy="1523880"/>
          </a:xfrm>
        </p:grpSpPr>
        <p:grpSp>
          <p:nvGrpSpPr>
            <p:cNvPr id="145" name=""/>
            <p:cNvGrpSpPr/>
            <p:nvPr/>
          </p:nvGrpSpPr>
          <p:grpSpPr>
            <a:xfrm>
              <a:off x="5256000" y="2743200"/>
              <a:ext cx="1679400" cy="1523880"/>
              <a:chOff x="5256000" y="2743200"/>
              <a:chExt cx="1679400" cy="1523880"/>
            </a:xfrm>
          </p:grpSpPr>
          <p:sp>
            <p:nvSpPr>
              <p:cNvPr id="146" name=""/>
              <p:cNvSpPr/>
              <p:nvPr/>
            </p:nvSpPr>
            <p:spPr>
              <a:xfrm>
                <a:off x="5389560" y="2743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>
                <a:off x="5256000" y="4097160"/>
                <a:ext cx="167940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 rot="16200000">
              <a:off x="5713560" y="304812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9280" y="32767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979280" y="5486400"/>
            <a:ext cx="1679400" cy="1523880"/>
            <a:chOff x="1979280" y="5486400"/>
            <a:chExt cx="1679400" cy="1523880"/>
          </a:xfrm>
        </p:grpSpPr>
        <p:grpSp>
          <p:nvGrpSpPr>
            <p:cNvPr id="151" name=""/>
            <p:cNvGrpSpPr/>
            <p:nvPr/>
          </p:nvGrpSpPr>
          <p:grpSpPr>
            <a:xfrm>
              <a:off x="1979280" y="5486400"/>
              <a:ext cx="1679400" cy="1523880"/>
              <a:chOff x="1979280" y="5486400"/>
              <a:chExt cx="1679400" cy="1523880"/>
            </a:xfrm>
          </p:grpSpPr>
          <p:sp>
            <p:nvSpPr>
              <p:cNvPr id="152" name=""/>
              <p:cNvSpPr/>
              <p:nvPr/>
            </p:nvSpPr>
            <p:spPr>
              <a:xfrm>
                <a:off x="2112840" y="54864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>
                <a:off x="197928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"/>
            <p:cNvSpPr/>
            <p:nvPr/>
          </p:nvSpPr>
          <p:spPr>
            <a:xfrm>
              <a:off x="2590920" y="56386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6256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256000" y="5486400"/>
            <a:ext cx="1679400" cy="1523880"/>
            <a:chOff x="5256000" y="5486400"/>
            <a:chExt cx="1679400" cy="1523880"/>
          </a:xfrm>
        </p:grpSpPr>
        <p:grpSp>
          <p:nvGrpSpPr>
            <p:cNvPr id="157" name=""/>
            <p:cNvGrpSpPr/>
            <p:nvPr/>
          </p:nvGrpSpPr>
          <p:grpSpPr>
            <a:xfrm>
              <a:off x="5256000" y="5486400"/>
              <a:ext cx="1679400" cy="1523880"/>
              <a:chOff x="5256000" y="5486400"/>
              <a:chExt cx="1679400" cy="1523880"/>
            </a:xfrm>
          </p:grpSpPr>
          <p:sp>
            <p:nvSpPr>
              <p:cNvPr id="158" name=""/>
              <p:cNvSpPr/>
              <p:nvPr/>
            </p:nvSpPr>
            <p:spPr>
              <a:xfrm>
                <a:off x="5389560" y="54864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256000" y="68421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6006960" y="5969160"/>
              <a:ext cx="152640" cy="4572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39280" y="6019920"/>
              <a:ext cx="31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ras Transformaciones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04800" y="2171880"/>
            <a:ext cx="2673000" cy="3840120"/>
            <a:chOff x="604800" y="2171880"/>
            <a:chExt cx="2673000" cy="3840120"/>
          </a:xfrm>
        </p:grpSpPr>
        <p:sp>
          <p:nvSpPr>
            <p:cNvPr id="164" name=""/>
            <p:cNvSpPr/>
            <p:nvPr/>
          </p:nvSpPr>
          <p:spPr>
            <a:xfrm>
              <a:off x="1676520" y="2171880"/>
              <a:ext cx="1440" cy="2438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598400" y="3525840"/>
              <a:ext cx="16794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209680" y="2324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209680" y="380988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8" name=""/>
                <p:cNvSpPr txBox="1"/>
                <p:nvPr/>
              </p:nvSpPr>
              <p:spPr>
                <a:xfrm>
                  <a:off x="604800" y="4876920"/>
                  <a:ext cx="123660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69" name=""/>
          <p:cNvGrpSpPr/>
          <p:nvPr/>
        </p:nvGrpSpPr>
        <p:grpSpPr>
          <a:xfrm>
            <a:off x="4707000" y="1066680"/>
            <a:ext cx="3698640" cy="5105520"/>
            <a:chOff x="4707000" y="1066680"/>
            <a:chExt cx="3698640" cy="5105520"/>
          </a:xfrm>
        </p:grpSpPr>
        <p:sp>
          <p:nvSpPr>
            <p:cNvPr id="170" name=""/>
            <p:cNvSpPr/>
            <p:nvPr/>
          </p:nvSpPr>
          <p:spPr>
            <a:xfrm>
              <a:off x="5618160" y="1523880"/>
              <a:ext cx="1440" cy="1524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722840" y="2878200"/>
              <a:ext cx="24415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913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995720" y="1811160"/>
              <a:ext cx="457200" cy="91440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37040" y="3886200"/>
              <a:ext cx="1800" cy="228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707000" y="6019920"/>
              <a:ext cx="236520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8040000">
              <a:off x="5317920" y="4495320"/>
              <a:ext cx="304560" cy="609840"/>
            </a:xfrm>
            <a:prstGeom prst="triangle">
              <a:avLst>
                <a:gd name="adj" fmla="val 50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4784760" y="4189320"/>
              <a:ext cx="2057400" cy="1959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89680" y="572616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" sz="1600" spc="-1" strike="noStrike">
                  <a:solidFill>
                    <a:srgbClr val="000000"/>
                  </a:solidFill>
                  <a:latin typeface="Arial"/>
                </a:rPr>
                <a:t>45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rot="19260000">
              <a:off x="6016320" y="5219280"/>
              <a:ext cx="304920" cy="609840"/>
            </a:xfrm>
            <a:prstGeom prst="triangle">
              <a:avLst>
                <a:gd name="adj" fmla="val 500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972120" y="4876920"/>
              <a:ext cx="143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(propuesto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1" name=""/>
                <p:cNvSpPr txBox="1"/>
                <p:nvPr/>
              </p:nvSpPr>
              <p:spPr>
                <a:xfrm>
                  <a:off x="6700680" y="1066680"/>
                  <a:ext cx="1236960" cy="113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["/>
                          <m:endChr m:val="]"/>
                        </m:dPr>
                        <m:e>
                          <m:m>
                            <m:mr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</m:mr>
                            <m:mr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0</m:t>
                                </m:r>
                              </m:e>
                              <m:e>
                                <m:r>
                                  <m:t xml:space="preserve">1</m:t>
                                </m:r>
                              </m:e>
                            </m:mr>
                          </m:m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2" name=""/>
          <p:cNvSpPr/>
          <p:nvPr/>
        </p:nvSpPr>
        <p:spPr>
          <a:xfrm>
            <a:off x="860400" y="1600200"/>
            <a:ext cx="156204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0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lex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tras Transformaciones 2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7772400" y="2743200"/>
                <a:ext cx="148284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sh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85" name=""/>
          <p:cNvGrpSpPr/>
          <p:nvPr/>
        </p:nvGrpSpPr>
        <p:grpSpPr>
          <a:xfrm>
            <a:off x="1064880" y="3886200"/>
            <a:ext cx="7391520" cy="2135880"/>
            <a:chOff x="1064880" y="3886200"/>
            <a:chExt cx="7391520" cy="2135880"/>
          </a:xfrm>
        </p:grpSpPr>
        <p:sp>
          <p:nvSpPr>
            <p:cNvPr id="186" name=""/>
            <p:cNvSpPr/>
            <p:nvPr/>
          </p:nvSpPr>
          <p:spPr>
            <a:xfrm>
              <a:off x="3429000" y="5715000"/>
              <a:ext cx="2133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6640" y="5715000"/>
              <a:ext cx="212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Verdana"/>
                </a:rPr>
                <a:t>Shearing en dirección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064880" y="3886200"/>
              <a:ext cx="1679400" cy="1523880"/>
              <a:chOff x="1064880" y="3886200"/>
              <a:chExt cx="1679400" cy="1523880"/>
            </a:xfrm>
          </p:grpSpPr>
          <p:sp>
            <p:nvSpPr>
              <p:cNvPr id="189" name=""/>
              <p:cNvSpPr/>
              <p:nvPr/>
            </p:nvSpPr>
            <p:spPr>
              <a:xfrm>
                <a:off x="1198440" y="3886200"/>
                <a:ext cx="180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106488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3655800" y="3886200"/>
              <a:ext cx="1679400" cy="1523880"/>
              <a:chOff x="3655800" y="3886200"/>
              <a:chExt cx="1679400" cy="1523880"/>
            </a:xfrm>
          </p:grpSpPr>
          <p:sp>
            <p:nvSpPr>
              <p:cNvPr id="192" name=""/>
              <p:cNvSpPr/>
              <p:nvPr/>
            </p:nvSpPr>
            <p:spPr>
              <a:xfrm>
                <a:off x="378936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655800" y="5241960"/>
                <a:ext cx="16794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6475320" y="3886200"/>
              <a:ext cx="1679760" cy="1523880"/>
              <a:chOff x="6475320" y="3886200"/>
              <a:chExt cx="1679760" cy="1523880"/>
            </a:xfrm>
          </p:grpSpPr>
          <p:sp>
            <p:nvSpPr>
              <p:cNvPr id="195" name=""/>
              <p:cNvSpPr/>
              <p:nvPr/>
            </p:nvSpPr>
            <p:spPr>
              <a:xfrm>
                <a:off x="6610320" y="3886200"/>
                <a:ext cx="1440" cy="1523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H="1">
                <a:off x="6475320" y="5241960"/>
                <a:ext cx="16797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"/>
            <p:cNvSpPr/>
            <p:nvPr/>
          </p:nvSpPr>
          <p:spPr>
            <a:xfrm>
              <a:off x="1219320" y="4495680"/>
              <a:ext cx="990360" cy="7365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84680" y="4546440"/>
              <a:ext cx="1295280" cy="685800"/>
            </a:xfrm>
            <a:prstGeom prst="parallelogram">
              <a:avLst>
                <a:gd name="adj" fmla="val 4721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 rot="5400000">
              <a:off x="6703200" y="4177800"/>
              <a:ext cx="978120" cy="1155960"/>
            </a:xfrm>
            <a:prstGeom prst="parallelogram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Shearing: </a:t>
            </a: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Esta transformación cambia el valor de las coordenadas sumándole un valor lineal de la otra coordenada. La matriz general corresponde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¿Serán conmutativas las transformacione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2057400" y="2324160"/>
            <a:ext cx="5724360" cy="224784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¿ P'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' 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=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T T'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iempre 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óxima clase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áles son commutativas y cuales no, cómo especificarlas en OpenGl y transformaciones en 3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16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enid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tivación  (2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formaciones básicas: </a:t>
            </a:r>
            <a:r>
              <a:rPr b="0" lang="en-US" sz="2600" spc="-1" strike="noStrike">
                <a:solidFill>
                  <a:srgbClr val="0000ff"/>
                </a:solidFill>
                <a:latin typeface="Arial"/>
              </a:rPr>
              <a:t>rotación, traslación y escalamient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osición de transformaci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tras transformaciones: reflexión y shea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tivación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600200" y="2286000"/>
            <a:ext cx="6335280" cy="3723480"/>
            <a:chOff x="1600200" y="2286000"/>
            <a:chExt cx="6335280" cy="3723480"/>
          </a:xfrm>
        </p:grpSpPr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4267080" y="2286000"/>
              <a:ext cx="1447920" cy="136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3886200" y="3797280"/>
              <a:ext cx="1295280" cy="121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6324480" y="3808440"/>
              <a:ext cx="1371600" cy="123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1600200" y="3800520"/>
              <a:ext cx="1295280" cy="121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654200" y="5092560"/>
              <a:ext cx="6281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Escalamiento               Rotación                                      Traslaci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(50%)                        (45º)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39800" y="1398600"/>
            <a:ext cx="45180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y Importante en anim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tivación: Visualizar y animar modelos   2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304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La visualización de modelos bidimensionales requiere la capacidad de </a:t>
            </a: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crear y manipular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(cambiar tamaño, posición u orientación) de entidades como líneas, triángulos, punto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Representación de geometrías 2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stema de coordenadas cartesiano x,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2323dc"/>
                </a:solidFill>
                <a:latin typeface="Arial"/>
              </a:rPr>
              <a:t>Punto como elemento básic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 Por ejemplo, un segmento de línea se representa por sus puntos extremos, un triángulo por tres punto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3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280" y="502920"/>
            <a:ext cx="8567640" cy="84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55280" y="1428480"/>
            <a:ext cx="4535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Ro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x’ = x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- y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y’ = x sen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+ y cos</a:t>
            </a:r>
            <a:r>
              <a:rPr b="0" lang="es-E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tación matri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796000" y="1679400"/>
            <a:ext cx="1440" cy="3024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540040" y="4367160"/>
            <a:ext cx="3195720" cy="1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796000" y="3525840"/>
            <a:ext cx="1847880" cy="84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5796000" y="2685600"/>
            <a:ext cx="1092240" cy="1683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43880" y="3527280"/>
            <a:ext cx="1440" cy="83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88240" y="2687760"/>
            <a:ext cx="1440" cy="167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32600" y="3863880"/>
            <a:ext cx="252360" cy="252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83160" y="4116240"/>
            <a:ext cx="84240" cy="252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33400" y="3651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428880" y="3975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668360" y="327672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(x,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976800" y="23511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’(x’,y’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249200" y="5257800"/>
                <a:ext cx="378000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ransformaciones 2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1219320"/>
            <a:ext cx="320040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Escal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s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P’ = </a:t>
            </a:r>
            <a:r>
              <a:rPr b="0" lang="es-ES" sz="2800" spc="-1" strike="noStrike">
                <a:solidFill>
                  <a:srgbClr val="0000ff"/>
                </a:solidFill>
                <a:latin typeface="Arial"/>
                <a:ea typeface="DejaVu Sans"/>
              </a:rPr>
              <a:t>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 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0000ff"/>
                </a:solidFill>
                <a:latin typeface="Arial"/>
              </a:rPr>
              <a:t>Trasl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x’ = x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y’ = y + d</a:t>
            </a:r>
            <a:r>
              <a:rPr b="0" lang="es-ES" sz="2800" spc="-1" strike="noStrike" baseline="-25000">
                <a:solidFill>
                  <a:srgbClr val="000000"/>
                </a:solidFill>
                <a:latin typeface="Arial"/>
                <a:ea typeface="DejaVu Sans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3200" spc="-1" strike="noStrike">
                <a:solidFill>
                  <a:srgbClr val="ff6309"/>
                </a:solidFill>
                <a:latin typeface="Arial"/>
                <a:ea typeface="DejaVu Sans"/>
              </a:rPr>
              <a:t>¿Notación matricia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matriz T) No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66680" y="2684520"/>
                <a:ext cx="2224080" cy="89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x'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y'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4038480" y="1600200"/>
            <a:ext cx="4267440" cy="1866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3962520" y="4033800"/>
            <a:ext cx="441936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Bef>
                <a:spcPts val="499"/>
              </a:spcBef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2323dc"/>
                </a:solidFill>
                <a:latin typeface="Arial"/>
              </a:rPr>
              <a:t>Es deseable una representación matricial uniforme para las transformaciones geométrica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600" spc="-1" strike="noStrike">
                <a:solidFill>
                  <a:srgbClr val="ff0000"/>
                </a:solidFill>
                <a:latin typeface="Arial"/>
              </a:rPr>
              <a:t>Coordenadas homogéneas: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100000"/>
              </a:lnSpc>
              <a:spcAft>
                <a:spcPts val="1137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Arial"/>
              </a:rPr>
              <a:t>Cada punto tiene muchas representacione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coordenadas homogéneas. (0, 0, 0)</a:t>
            </a:r>
            <a:r>
              <a:rPr b="0" lang="es-ES" sz="2800" spc="-1" strike="noStrike" baseline="30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no está permit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200400" y="3200400"/>
                <a:ext cx="4284720" cy="13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</m:e>
                          </m:mr>
                          <m:mr>
                            <m:e>
                              <m:r>
                                <m:t xml:space="preserve">y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h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h</m:t>
                              </m:r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               </m:t>
                    </m:r>
                    <m:r>
                      <m:rPr>
                        <m:lit/>
                        <m:nor/>
                      </m:rPr>
                      <m:t xml:space="preserve">x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rPr>
                        <m:lit/>
                        <m:nor/>
                      </m:rPr>
                      <m:t xml:space="preserve">y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h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000" y="-46080"/>
            <a:ext cx="9070920" cy="13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2323dc"/>
                </a:solidFill>
                <a:latin typeface="Arial"/>
              </a:rPr>
              <a:t>Propiedades / restriccio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jemplo de infinitas representaciones para un mismo pu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(2,3,6) = (4,6,12) = (1/3, 1/2, 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Con frecuencia se normaliza w 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31640" indent="-215640">
              <a:lnSpc>
                <a:spcPct val="90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DejaVu Sans"/>
              </a:rPr>
              <a:t>El punto (x, y, 0) representa punto en el infinito en la dirección (x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943280" indent="-430560">
              <a:lnSpc>
                <a:spcPct val="90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DejaVu Sans"/>
              </a:rPr>
              <a:t>Estas coordenadas “homogeinizan” el tratamiento  del infin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8567640" cy="84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Coordenadas homogéne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55280" y="1344240"/>
            <a:ext cx="8567640" cy="53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31640" indent="-323640">
              <a:lnSpc>
                <a:spcPct val="100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Si especificamos las transformaciones anteriores en coordenadas homogéneas,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é se logra</a:t>
            </a:r>
            <a:r>
              <a:rPr b="0" lang="en-US" sz="2400" spc="-1" strike="noStrike">
                <a:solidFill>
                  <a:srgbClr val="2323dc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100000"/>
              </a:lnSpc>
              <a:spcAft>
                <a:spcPts val="1137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914400" y="3657600"/>
                <a:ext cx="298296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d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d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2673360" y="5418000"/>
                <a:ext cx="349884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sen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cos</m:t>
                              </m:r>
                              <m:r>
                                <m:t xml:space="preserve">θ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5299200" y="3657600"/>
                <a:ext cx="293040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,s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x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t xml:space="preserve">y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454040" y="2400480"/>
                <a:ext cx="197496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d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014720" y="2417760"/>
                <a:ext cx="1471680" cy="3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θ</m:t>
                        </m:r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581880" y="2386080"/>
                <a:ext cx="187632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'=S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s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e>
                    </m:d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3T01:08:54Z</dcterms:created>
  <dc:creator>Nancy Hitschfeld</dc:creator>
  <dc:description/>
  <dc:language>en-US</dc:language>
  <cp:lastModifiedBy/>
  <dcterms:modified xsi:type="dcterms:W3CDTF">2012-04-03T15:00:15Z</dcterms:modified>
  <cp:revision>11</cp:revision>
  <dc:subject/>
  <dc:title/>
</cp:coreProperties>
</file>