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486-B3E8-4C55-968A-8357F9AA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C8D-7A76-4E5C-9ECC-F489A9ED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03C-A2F5-407C-B7F2-5FC27C8C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FB3-9421-4C29-A374-138619AD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EBE6-E2B3-44E1-AC76-4EE4F84F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D383-60CE-42DD-909D-93922E07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4F6B-30B4-4755-9035-B1C9B23A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59C9-C167-4204-99B7-560B0E32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51A1-861F-4E28-B8CE-8E76A164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D075-6F6C-4731-A4D7-3F2F764E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8DCE-4FE1-4D67-B0B1-0CC8FC1B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5BD-4D63-4BFC-B965-535B6CC2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7E06-D344-4222-9210-CDC814CC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D69C-182B-42C7-94E6-BF6AEFF4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4475-2E66-4F46-ACB4-EE40B779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D243-7CC1-4BBC-838E-3219AD84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0D1A-72D1-4100-A725-BA58741B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C0C-81C4-476C-8AF0-2FC922F2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F4B-4D79-4D5A-88DD-05A8BCEE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DAF-3AC8-4529-B745-666AF8AC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410-B28E-45F6-AD45-19A2B4CA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6B5-42A6-4992-95BD-E3FB7C2B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23F-CE80-47FF-A548-523671B6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7F4-8B90-46C5-B29E-EC46559D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0115D-CD4A-4B65-9856-0C792EB1A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2FBCA-8E6C-410E-B9EE-994BAE869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ación gráfica: conceptos fundam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especificar un ejemplo simple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tecas relacion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núcleo Open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básica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primitivas básicas, atributos, transformaciones geométricas y de visualización, entre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GL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 OpenGl utility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)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ación de matrices  de visualización y proyección, aproximación de objetos completos mediante líneas,  polígonos,  y splines, entre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blioteca 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OpenGl utility toolkit) (prefijo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 proporciona funciones para interactuar con cualquier sistema de ventanas (nos permite que nuestros programas seaa independientes del dispositiv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especificar un ejemplo simple en OpenG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595008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74680"/>
            <a:ext cx="8686800" cy="70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ventana de visualización con GLU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(&amp;argc, argv): inicializa la  Glut. Podemos obtener valores que ingresa el usu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Window(“Un programa de ejemplo con OpenGl”): título de la vent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playFunc(lineSegment): ejecuta el procedimiento llamado lineSe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o aun no se muestra nada hasta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Loop(): esta debe ser la última en el progra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quí ventana de visualización tiene parámetros predefini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ventana de visualización con GLU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mo especificar la posición de la ventana de visualiz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WindowPosition(50,100):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en pixeles!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ción inicial de la esquina superior izquierda (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coordenadas enteras de la pantall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WindowSize(400,300): 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ancho y alto en pix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14600" y="3657600"/>
            <a:ext cx="459432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color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DisplayMode(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SINGLE |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RGB):  buffers a usar (SINGLE o DOUBLE), modo de color RGB en este cas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os son los valores predefini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Color(1.0,1.0,1.0,0.0) : asigna color de fondo pero no lo muest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GB:   (0,0,0) es negro, (1,0,0) es rojo, (0,1,0) es verde y (0,0,1)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rto parámetro?  Valor Alpha es blending: 1.0 objeto opaco y 0.0 objeto transpar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(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COLOR_BIT): muestra  el color asignado como fondo de la vent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Color3f(1.0,0.0,0.0): asigna color a la primitiva que se dibujará (3f valores de punto flota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proyecció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 caso particular de 3D (se debe igual especificar tipo de proye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Mode(GL_PROY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2D(0.0, 200.0, 0.0, 150.0):  mapea el contenido de la zona [0..200,0..150]  a la pantalla de visualización. El sistema de coordenadas es W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que no se genere distorsión mantenemos la misma relación  de aspecto (aspect ratio) que en la pantalla de vis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icación del programa (primitiva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ujar una línea desde (180,15) a (10,1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IN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x2i(180,1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x2i(10,14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IN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: esto queda obsoleto en la últimas versiones y se  usando</a:t>
            </a: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 sha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la especificacion del objeto a dibu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rend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as geométricas (openG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: Dibujando una línea 2D en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o completo de visualización de una es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ación del objeto (ej: mallas de polígon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formaciones geométricas y de proye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os de iluminación y shading (pinta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s de rasterización (clase anteri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s de eliminación de superfices ocultas, clipping (recor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3657600"/>
            <a:ext cx="5654520" cy="3606840"/>
            <a:chOff x="1828800" y="3657600"/>
            <a:chExt cx="5654520" cy="36068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28800" y="3657600"/>
              <a:ext cx="5654520" cy="36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828800" y="3657600"/>
              <a:ext cx="56545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usan varios sistemas de coordenad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local de coordenadas de modelación (M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global de coordenadas del mundo (W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coordenadas de visualización (V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normalizado de coordenadas del dispositivo (ND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n cilindro y un cubo definido en coordenadas de modelado, cada uno con su propio sistema,  es transformado a coordenadas del mundo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allí se especifica una vista y poryección y los objetos son representados en coordenadas normalizad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8458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(pipeli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9080" y="12002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enadas normalizadas o coordenadas normalizadas del dispositivo. Rango de valores entre 0 y 1. </a:t>
            </a: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Representación que hace el paquete gráfico para ser independiente del rango de coordenadas del disposi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2323dc"/>
                </a:solidFill>
                <a:latin typeface="Arial"/>
              </a:rPr>
              <a:t>Resum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7200" y="3200400"/>
                <a:ext cx="9144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 pipeline (co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 primitivas (elementos a dibujar)se definen en WCS y se transforman al sistema de coordenadas del dispositivo  donde se convierten en pixeles (rasterizació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 representan las transformaciones entre sistemas de coordenadas?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atrices  (composición de matric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 primitivas contienen información de su iluminación y pin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odas las primitivas se dibujan: sólo las que son visibles (clipp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as geométr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modelos (simples o complejos) se componen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mentos de línea  rectas y cur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ígonos (en general convexos, triángulos) y patches cur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ributos (propiedades de las primitivas de salida): color, estilo de línea y  relleno  de á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as geométricas (OpenG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OpenGL 3.0 (3.1 deprecated): gl_points, gl_lines, gl_line_strips, gl_line_loop,  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95280" y="2724120"/>
            <a:ext cx="7620120" cy="390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9:18:20Z</dcterms:created>
  <dc:creator/>
  <dc:description/>
  <dc:language>en-US</dc:language>
  <cp:lastModifiedBy/>
  <dcterms:modified xsi:type="dcterms:W3CDTF">2012-04-03T15:30:39Z</dcterms:modified>
  <cp:revision>9</cp:revision>
  <dc:subject/>
  <dc:title/>
</cp:coreProperties>
</file>