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F5A-806A-42EB-AA1D-60C662D3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D8F-3237-4AFD-B8AA-1A12EBE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C09-9EA5-470B-A06A-7969D40A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F3F-D439-4B52-BAAE-52F169F2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2BBF-9238-4112-8064-F73F79D9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462D-B276-476E-AAA2-CAEB093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DAFE-392B-46B7-9F74-9F7C7FF7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D7E7-2D7E-44BB-A0D2-FF35FEA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B613-6768-4D09-8887-56347815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A68-1031-489E-82D5-B1D825D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560-A5DE-4719-88EA-92E12CC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9FB-42C6-4C81-AAC3-B58406B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17C-4BA4-43BF-9660-AEECB56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B280-0FB6-4217-8EA3-DE2CC48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21FD-AC2C-4373-AA99-E0D94B5C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898D-82B7-4CB6-A32D-31EDD57A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7E12-0C28-4002-B385-977273CA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CE06-06AB-4940-B1DE-33889E7B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F9A9-5053-40F9-AF18-33910CC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8503-38F1-4FDC-B2AE-EB796E2B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BE42-3081-482A-8061-A75C74B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EEE8-D2E2-4DC0-9A09-11DD1D30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899-2405-426D-AE3C-020E4E3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14B7-CF33-4AFB-AB7D-7CBEFAA3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81F2-DC6D-4866-BE0F-199211F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4134-C4D1-40EF-861B-BB5DC1A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CF72-187F-4470-91A9-B310E73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8FEF-CDD8-4342-B456-AF86CBE2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8D4F-C450-4852-832C-B65B1B49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362E0-1418-4A8F-8407-FB89E3AF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4AE-7833-42B0-8552-B5B76E3F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9B0-9FCA-49E5-A03D-50CBB6D5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466-FBA6-43B3-A573-065F379E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250-B66E-425E-A95C-B394312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1E2-A17D-46EC-A2CE-927DE22F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432-08A5-4159-B106-3D03811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6E46C-C8BF-4AB1-98BD-26D018E29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E879-C5A5-4D02-8819-58FBC180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05DE-C75B-4D53-BB0C-2642ABCC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ón: (2,4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s ecuaciones se pueden escribir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sugiere 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95920" y="1523880"/>
            <a:ext cx="253368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408636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42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iere un método iterativ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necesitamos? Valores iniciales                         para cal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ncemos 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ce converger a la solució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54720" y="3409920"/>
                <a:ext cx="1646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0" y="3867120"/>
                <a:ext cx="163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862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400800" y="5486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2465280"/>
            <a:ext cx="5715000" cy="484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1341360"/>
            <a:ext cx="9312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e proceso se conoce como: Método de iteración de Jacob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 sirve para resolver todos los  sistemas line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n el ejemplo: 19 itera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ismo sistema de ecuaciones reorden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escribimos estas ecuacion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9718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í, el método iterativo de Jacobi que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partimos con el mismo punt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punto (1.5,3.375, 5) está más alejado de la solución que el punto inicial de l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este ejemplo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étodo diverg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47880" y="2523960"/>
            <a:ext cx="473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demos algunas veces acelerar la convergenci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ado en el método de Jacobi, la idea es que cada vez que tenemos un nuevo valor, usamos ese para  obtener el valor de la siguiente ec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 aplicamos al ejemplo anter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nuevo punto está más cerca de la solución que el punto obtenido con Jaco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743280"/>
            <a:ext cx="261936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619128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133800" y="6172200"/>
            <a:ext cx="303840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00800" y="6172200"/>
            <a:ext cx="33148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 se necesitaron 10 itera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19400" y="2847960"/>
            <a:ext cx="5324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saber cuando conver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ción: Se dice que una matriz A de NxN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agonal estrictamente domina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orema (Método iterativo de Jacobi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gamos que A es una matriz diagonal estrictamente dominante. Entonces el sistema de ecuaciones lineales AX = B tiene solución única X=P. Además, el proceso iterativo de Jacobi produce una sucesión de vectores que converge a P cualquiera sea el vector de part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: Puede encontrarse en textos análisis numérico avan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a: Esta es una condición suficiente pero no necesar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8600" y="2743200"/>
                <a:ext cx="3657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72200" y="27432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se deduc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emos la ecuación de diferencias de La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supongamos que conocemos los valores de u(x,y) en el conto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14600"/>
                <a:ext cx="4381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90640" y="4187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4800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548640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4800" y="60166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327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ción numérica de EDPs requiere resolver sistemas de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pueden ser grandes y sparse (5 o 6 elementos distintos de cero por f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métodos ex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cuación escrita de manera adecuada para iterar 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adicional necesitam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2324160"/>
                <a:ext cx="1828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4680" y="5470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14600" y="3657600"/>
                <a:ext cx="45482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089680"/>
                <a:ext cx="36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u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er de valores iniciales en los puntos interiores de la malla (gri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r por ejemplo la constante K definida como la media de los 2n + 2m -4 valores  de co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que consiste cada iteración?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cer un barrido de todos los puntos interiores de la malla con la fórmula recursiva hasta que          se “reduzca” a cero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    |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, siendo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na tolerancia prefij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e puede aumentar la velocidad de la convergencia a cer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i: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usando método de sobrerelajación sucesiva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4668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2960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2486160"/>
            <a:ext cx="84200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Laplace- cond. Dirich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919840"/>
            <a:ext cx="729756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 y valor inicial puntos  interiores =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76240" y="1143000"/>
            <a:ext cx="8267760" cy="3086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0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iterativos 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 Condiciones de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8680" y="2828880"/>
            <a:ext cx="7915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Laplace- Cond. Mix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606680"/>
            <a:ext cx="907092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64240"/>
            <a:ext cx="7213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, valor inicial puntos  interiores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alor inicial para y = 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0, interpolación lin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251240"/>
            <a:ext cx="3875040" cy="306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8372520" cy="32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98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Poi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76400" y="2743200"/>
            <a:ext cx="829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Helmhol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52400" y="2971800"/>
            <a:ext cx="8620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271160"/>
            <a:ext cx="907092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xactos (Ejemplo: Gau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elve el sistema en forma “exacta”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l usar  punto flotante siempre hay err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Hay métodos (y software) especiales para manejar matrices sparse de manera eficiente. A pesar de esto requieren harto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ite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 menos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Guardan solo valores distintos de cero de l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de una solución inicial del sistema para come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Criterio de detención es complicado de manejar para asegurar precisión en la solución aproximanda ob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capítulo 3, Mathews-Fink, apuntes MC Riv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resolver sistemas line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Gauss (exa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sobrerelajación sucesiva (aplicado a la ecuación de La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Gaus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matriz ampliada de AX=B es la sigui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se resuelve usando operaciones elementales sobre sus fila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las variab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sirven para marcar el sitio de los coeficientes y pueden ser omitidas hasta el final de los cálcu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76480" y="2743200"/>
            <a:ext cx="47815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2520" y="1359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lementales con las filas, pivotes y multipl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24040" y="2019240"/>
            <a:ext cx="6962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613320" cy="1731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ampli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prim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segund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48006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67200" y="4572000"/>
            <a:ext cx="4933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1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terc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: sistema triangular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suelve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45744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5715000"/>
                <a:ext cx="1828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computacional del método de Gau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73320"/>
            <a:ext cx="90709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una matriz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x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(N³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e es el orden del número de operaciones divisiones, multiplicaciones y restas que realiza el algorit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contarla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problemas trae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lento para grillas no muy grandes y usa harto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un problema de Dirichlet requiere la resolución de un sistema de (n-2)(m-2)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 grilla de R es de 10x10 cuadrados, cuántas ecuaciones e incógnitas son? Si R es de 100x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é orden es el número de operaciones que realiza el algoritmo de Gau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se demora sobre un computador que tiene 2GHz (suponiendo que tiene la memoria suficiente)?  2GHz significa 2*10⁹ tics por segundo. Supongamos que 1 operación de punto flotante necesita 4 tics =&gt; 500 megaflops por segundo (operaciones de punto flot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/>
  <dcterms:modified xsi:type="dcterms:W3CDTF">2012-03-22T14:07:58Z</dcterms:modified>
  <cp:revision>65</cp:revision>
  <dc:subject/>
  <dc:title/>
</cp:coreProperties>
</file>