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8C1-4742-4D17-91CE-FA0405C3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0E1-C3D5-45AD-929F-D36CDD3F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21C-6008-4FE9-8CDA-71A682B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B1-8645-4570-ADE7-8F8AA852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6018-5535-4877-8B4C-65A3B9D5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109-9210-4B34-963B-CF9CFCD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F09C-AA1A-40EC-BCA1-845B383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01CC-DAE1-4AB4-8FD4-2D86A95E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A31-64B9-46EC-8607-9903D5AD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B2B-204C-4869-9AF1-7EB865B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96DA-6CAC-40CA-88FA-353C1B19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6F7-D84A-4A6A-AD7B-6955632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7DF-F9F0-4833-8EFF-D4C646E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478F-1EEF-4F6F-974E-FDBECA9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A16E-160A-46F7-8F39-01D1B405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38C-5C0E-4034-8FA7-2E22AC00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04E-FF57-4DE0-953C-D7472473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082-1DF5-4F81-9C9D-7559F81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29F-7234-4269-B7A5-4650505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832-D29E-469F-8387-7A29CCE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81C-B468-4E87-8373-63747EA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D7-3423-4F28-B4B7-5851D33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2B9-387C-4057-862D-A540211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77A-E766-47DD-89C6-D50FC3F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EBC50-AAD3-43D2-9326-E8A177BF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1114-36FE-4AEE-A0EA-7A34777B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étodos para detección de superficies visib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arn-B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proceso se realiza en varios pa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ordenadas con respecto al z-value mas pequ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uperficie S con el z-value más grande es  analizada para ver si se superpone con ot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no hay superposición en el eje 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&gt;  scan-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hay superposición en el eje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analizar si las superficies deben ser reorde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</a:t>
            </a:r>
            <a:r>
              <a:rPr b="1" lang="en-US" sz="2800" spc="-1" strike="noStrike">
                <a:solidFill>
                  <a:srgbClr val="314004"/>
                </a:solidFill>
                <a:latin typeface="Arial"/>
              </a:rPr>
              <a:t>ejemplos de overlapping usando una vista solo de los ejes x y 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136160" y="1598400"/>
            <a:ext cx="1116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24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896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9560" y="2133720"/>
            <a:ext cx="1200240" cy="1066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528"/>
                </a:moveTo>
                <a:lnTo>
                  <a:pt x="528" y="0"/>
                </a:lnTo>
                <a:lnTo>
                  <a:pt x="720" y="432"/>
                </a:lnTo>
                <a:lnTo>
                  <a:pt x="432" y="672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9600" y="1828800"/>
            <a:ext cx="103968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240"/>
                </a:moveTo>
                <a:lnTo>
                  <a:pt x="384" y="0"/>
                </a:lnTo>
                <a:lnTo>
                  <a:pt x="624" y="144"/>
                </a:lnTo>
                <a:lnTo>
                  <a:pt x="336" y="336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9560" y="2133720"/>
            <a:ext cx="1200240" cy="106668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49600" y="1828800"/>
            <a:ext cx="1039680" cy="53352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5120" y="1674360"/>
            <a:ext cx="14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136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4776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148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34080" y="1913040"/>
            <a:ext cx="606240" cy="8366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40440" y="2593800"/>
            <a:ext cx="689040" cy="687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47120" y="228600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67680" y="28195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163160" y="4036680"/>
            <a:ext cx="41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720" y="582768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24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896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6480" y="4133880"/>
            <a:ext cx="752400" cy="11034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27240" y="4767120"/>
            <a:ext cx="5144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3680" y="41450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57480" y="5364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35400" y="4036680"/>
            <a:ext cx="2232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6680" y="5827680"/>
            <a:ext cx="31986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920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8148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4041720"/>
            <a:ext cx="847800" cy="88596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94480" y="4883040"/>
            <a:ext cx="5126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3080" y="409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50040" y="53928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49400" y="6095880"/>
            <a:ext cx="889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endCxn id="208" idx="0"/>
          </p:cNvCxnSpPr>
          <p:nvPr/>
        </p:nvCxnSpPr>
        <p:spPr>
          <a:xfrm>
            <a:off x="7024680" y="3658680"/>
            <a:ext cx="186480" cy="12200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0" name=""/>
          <p:cNvCxnSpPr>
            <a:endCxn id="208" idx="7"/>
          </p:cNvCxnSpPr>
          <p:nvPr/>
        </p:nvCxnSpPr>
        <p:spPr>
          <a:xfrm>
            <a:off x="7088040" y="3750840"/>
            <a:ext cx="138960" cy="11804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1" name=""/>
          <p:cNvCxnSpPr>
            <a:endCxn id="208" idx="7"/>
          </p:cNvCxnSpPr>
          <p:nvPr/>
        </p:nvCxnSpPr>
        <p:spPr>
          <a:xfrm>
            <a:off x="5051520" y="3668400"/>
            <a:ext cx="1156320" cy="122148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2" name=""/>
          <p:cNvCxnSpPr>
            <a:endCxn id="208" idx="6"/>
          </p:cNvCxnSpPr>
          <p:nvPr/>
        </p:nvCxnSpPr>
        <p:spPr>
          <a:xfrm>
            <a:off x="5063760" y="3639600"/>
            <a:ext cx="1143720" cy="12488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sp>
        <p:nvSpPr>
          <p:cNvPr id="213" name=""/>
          <p:cNvSpPr/>
          <p:nvPr/>
        </p:nvSpPr>
        <p:spPr>
          <a:xfrm flipH="1">
            <a:off x="6360840" y="5829480"/>
            <a:ext cx="72540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248600" y="5829480"/>
            <a:ext cx="9504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61722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1028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 pasa alguno de los siguientes tests (son verdaderos), no es necesario reorde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bounding rectangles (coordinate extents) de las dos superficies no se superponen en el plano XY (Figur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S está completamente detrás de la otra  mirada desde la posición de viewing (Figur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que se superpone está completamente adelante de S desde la posición de viewing (Figura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yección de los arcos del borde de cada polígono  no se superp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s fallan?  Qué casos exis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 fallan con S'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ambiar  S y S' en la lista ord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r los tests para cada superficie que es re-ordenada en l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359000" y="3808080"/>
            <a:ext cx="3024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4720" y="3808080"/>
            <a:ext cx="18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3040" y="5599080"/>
            <a:ext cx="32022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944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496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83320" y="4083120"/>
            <a:ext cx="799920" cy="67932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64200" y="4227480"/>
            <a:ext cx="687600" cy="6890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8800" y="4419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26360" y="44956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27800" y="4489560"/>
            <a:ext cx="633240" cy="85248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11240" y="434340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7640" y="574524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’, then S’’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os o mas caras se “tapan”  una con o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infin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o evitarlo: marcar cada cara cuando ha sido reordenada a una profundidad más lej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ede ser reordenada de nue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tenta  reordenarla de nuev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l polígono en dos polígon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original es ahora reemplazada por dos nuevas superf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10080"/>
            <a:ext cx="6934320" cy="1905120"/>
            <a:chOff x="1143000" y="5410080"/>
            <a:chExt cx="6934320" cy="190512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410080"/>
              <a:ext cx="1981080" cy="1905120"/>
              <a:chOff x="1143000" y="5410080"/>
              <a:chExt cx="1981080" cy="1905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143000" y="59864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3800" y="5410080"/>
                <a:ext cx="87948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93800" y="61880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693800" y="6186240"/>
                <a:ext cx="87948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309840" y="5410080"/>
              <a:ext cx="2227320" cy="1905120"/>
              <a:chOff x="3309840" y="5410080"/>
              <a:chExt cx="2227320" cy="1905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500720" y="59022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09840" y="5918040"/>
                <a:ext cx="196704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24200" y="5410080"/>
                <a:ext cx="30960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7920" y="64263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776760" y="63928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756400" y="5410080"/>
              <a:ext cx="2320920" cy="1905120"/>
              <a:chOff x="5756400" y="5410080"/>
              <a:chExt cx="2320920" cy="1905120"/>
            </a:xfrm>
          </p:grpSpPr>
          <p:sp>
            <p:nvSpPr>
              <p:cNvPr id="273" name=""/>
              <p:cNvSpPr/>
              <p:nvPr/>
            </p:nvSpPr>
            <p:spPr>
              <a:xfrm>
                <a:off x="5756400" y="5983200"/>
                <a:ext cx="99036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97680" y="5410080"/>
                <a:ext cx="164916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7800" y="58341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2000" y="5961240"/>
                <a:ext cx="144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partición binaria del espacio (BS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 la visibilidad de los objetos pintando las caras desde la más profunda hasta la más cercana (parecido al algoritmo 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uperficies(polígonos)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u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nt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plano de part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ir los objetos intersectados por el plan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20000" y="4494240"/>
            <a:ext cx="2858040" cy="2364120"/>
            <a:chOff x="1620000" y="4494240"/>
            <a:chExt cx="2858040" cy="2364120"/>
          </a:xfrm>
        </p:grpSpPr>
        <p:sp>
          <p:nvSpPr>
            <p:cNvPr id="280" name=""/>
            <p:cNvSpPr/>
            <p:nvPr/>
          </p:nvSpPr>
          <p:spPr>
            <a:xfrm>
              <a:off x="1724040" y="563724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96"/>
                  </a:moveTo>
                  <a:lnTo>
                    <a:pt x="432" y="0"/>
                  </a:lnTo>
                  <a:lnTo>
                    <a:pt x="720" y="6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62120" y="5103720"/>
              <a:ext cx="685800" cy="30492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192"/>
                  </a:moveTo>
                  <a:lnTo>
                    <a:pt x="384" y="288"/>
                  </a:lnTo>
                  <a:lnTo>
                    <a:pt x="432" y="48"/>
                  </a:lnTo>
                  <a:lnTo>
                    <a:pt x="192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4200" y="518004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13120" y="4799160"/>
              <a:ext cx="1447560" cy="19047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13120" y="4719240"/>
              <a:ext cx="1904760" cy="19875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35280" y="4873680"/>
              <a:ext cx="234720" cy="15228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619080" y="4719240"/>
              <a:ext cx="158760" cy="15876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3920" y="452268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9200" y="449424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5040" y="49053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4640" y="51339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54388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8600" y="6246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20000" y="63993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63160" y="65818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3560" y="65516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5160" y="647532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22960" y="4184280"/>
            <a:ext cx="3029040" cy="2864520"/>
            <a:chOff x="5322960" y="4184280"/>
            <a:chExt cx="3029040" cy="2864520"/>
          </a:xfrm>
        </p:grpSpPr>
        <p:sp>
          <p:nvSpPr>
            <p:cNvPr id="298" name=""/>
            <p:cNvSpPr/>
            <p:nvPr/>
          </p:nvSpPr>
          <p:spPr>
            <a:xfrm>
              <a:off x="6662520" y="45705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5152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140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8960" y="67723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360" y="67723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02080" y="677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2680" y="677232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56560" y="50356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8" idx="2"/>
              <a:endCxn id="299" idx="0"/>
            </p:cNvCxnSpPr>
            <p:nvPr/>
          </p:nvCxnSpPr>
          <p:spPr>
            <a:xfrm flipH="1">
              <a:off x="5403240" y="4184280"/>
              <a:ext cx="71172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7" name=""/>
            <p:cNvCxnSpPr>
              <a:stCxn id="298" idx="2"/>
              <a:endCxn id="300" idx="0"/>
            </p:cNvCxnSpPr>
            <p:nvPr/>
          </p:nvCxnSpPr>
          <p:spPr>
            <a:xfrm>
              <a:off x="6067440" y="4184280"/>
              <a:ext cx="75960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8" name=""/>
            <p:cNvCxnSpPr>
              <a:stCxn id="299" idx="2"/>
              <a:endCxn id="301" idx="0"/>
            </p:cNvCxnSpPr>
            <p:nvPr/>
          </p:nvCxnSpPr>
          <p:spPr>
            <a:xfrm flipH="1">
              <a:off x="5428440" y="5204880"/>
              <a:ext cx="3438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9" name=""/>
            <p:cNvCxnSpPr>
              <a:stCxn id="299" idx="2"/>
              <a:endCxn id="302" idx="0"/>
            </p:cNvCxnSpPr>
            <p:nvPr/>
          </p:nvCxnSpPr>
          <p:spPr>
            <a:xfrm>
              <a:off x="5791320" y="5204880"/>
              <a:ext cx="32616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0" name=""/>
            <p:cNvCxnSpPr>
              <a:stCxn id="300" idx="2"/>
              <a:endCxn id="303" idx="0"/>
            </p:cNvCxnSpPr>
            <p:nvPr/>
          </p:nvCxnSpPr>
          <p:spPr>
            <a:xfrm flipH="1">
              <a:off x="6903720" y="5204880"/>
              <a:ext cx="3420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1" name=""/>
            <p:cNvCxnSpPr>
              <a:stCxn id="300" idx="2"/>
              <a:endCxn id="304" idx="0"/>
            </p:cNvCxnSpPr>
            <p:nvPr/>
          </p:nvCxnSpPr>
          <p:spPr>
            <a:xfrm>
              <a:off x="7261200" y="5204880"/>
              <a:ext cx="32472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322960" y="61214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69440" y="613080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5280" y="503568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8800" y="61214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1640" y="613080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324560" y="6921360"/>
              <a:ext cx="4478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27520" y="6921360"/>
              <a:ext cx="5950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841720" y="6921360"/>
              <a:ext cx="447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a ventaja de las coherencia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ndo áreas visibles que representan una parte de una únic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endo sucesivamente el área de viewing en rectángulo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ada área es la proyección de una sola superficie o de ning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 problemas que hay resolver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un área con un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i el área es demasiado compleja de an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é estructura se pare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algorit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 construir u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nzando con la vist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o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tests indican que la vista dentro de un área es lo suficientemente compl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divid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s tests a cada área más peque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ontenga una so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su tamaño sea de  un único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 resolución 1024x1024, si se divide  10 veces, el tamaño de cada área es de un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4876920"/>
            <a:ext cx="1828800" cy="1752480"/>
            <a:chOff x="457200" y="4876920"/>
            <a:chExt cx="1828800" cy="1752480"/>
          </a:xfrm>
        </p:grpSpPr>
        <p:sp>
          <p:nvSpPr>
            <p:cNvPr id="325" name=""/>
            <p:cNvSpPr/>
            <p:nvPr/>
          </p:nvSpPr>
          <p:spPr>
            <a:xfrm>
              <a:off x="457200" y="4876920"/>
              <a:ext cx="1828800" cy="1752480"/>
            </a:xfrm>
            <a:prstGeom prst="rect">
              <a:avLst/>
            </a:prstGeom>
            <a:noFill/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4876920"/>
              <a:ext cx="1440" cy="175248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" y="5715000"/>
              <a:ext cx="18288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715000"/>
              <a:ext cx="1440" cy="9144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6172200"/>
              <a:ext cx="914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6172200"/>
              <a:ext cx="1440" cy="4572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6400800"/>
              <a:ext cx="4572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 tests de ident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378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tro posible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rodea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se superpone en parte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áre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se divide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s las superficies están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 solo una superficie rodeando, superpuesta parcialmento o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uperficie que rodea el área oculta todas las demás que la intersect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629400" y="1143000"/>
            <a:ext cx="1600200" cy="1295280"/>
            <a:chOff x="6629400" y="1143000"/>
            <a:chExt cx="1600200" cy="1295280"/>
          </a:xfrm>
        </p:grpSpPr>
        <p:sp>
          <p:nvSpPr>
            <p:cNvPr id="335" name=""/>
            <p:cNvSpPr/>
            <p:nvPr/>
          </p:nvSpPr>
          <p:spPr>
            <a:xfrm>
              <a:off x="6629400" y="1143000"/>
              <a:ext cx="1600200" cy="129528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528" y="0"/>
                  </a:moveTo>
                  <a:lnTo>
                    <a:pt x="816" y="0"/>
                  </a:lnTo>
                  <a:lnTo>
                    <a:pt x="1056" y="672"/>
                  </a:lnTo>
                  <a:lnTo>
                    <a:pt x="720" y="816"/>
                  </a:lnTo>
                  <a:lnTo>
                    <a:pt x="192" y="672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1447920"/>
              <a:ext cx="761760" cy="76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763120" y="2057400"/>
            <a:ext cx="1066680" cy="1143000"/>
            <a:chOff x="8763120" y="2057400"/>
            <a:chExt cx="1066680" cy="1143000"/>
          </a:xfrm>
        </p:grpSpPr>
        <p:sp>
          <p:nvSpPr>
            <p:cNvPr id="338" name=""/>
            <p:cNvSpPr/>
            <p:nvPr/>
          </p:nvSpPr>
          <p:spPr>
            <a:xfrm>
              <a:off x="8763120" y="2209680"/>
              <a:ext cx="76176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0" y="2057400"/>
              <a:ext cx="685800" cy="114300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192" y="0"/>
                  </a:moveTo>
                  <a:lnTo>
                    <a:pt x="0" y="624"/>
                  </a:lnTo>
                  <a:lnTo>
                    <a:pt x="240" y="720"/>
                  </a:lnTo>
                  <a:lnTo>
                    <a:pt x="432" y="33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81680" y="2971800"/>
            <a:ext cx="762120" cy="762120"/>
            <a:chOff x="6781680" y="2971800"/>
            <a:chExt cx="762120" cy="762120"/>
          </a:xfrm>
        </p:grpSpPr>
        <p:sp>
          <p:nvSpPr>
            <p:cNvPr id="341" name=""/>
            <p:cNvSpPr/>
            <p:nvPr/>
          </p:nvSpPr>
          <p:spPr>
            <a:xfrm>
              <a:off x="6781680" y="297180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80000">
              <a:off x="7088040" y="319896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48"/>
                  </a:moveTo>
                  <a:lnTo>
                    <a:pt x="144" y="0"/>
                  </a:lnTo>
                  <a:lnTo>
                    <a:pt x="96" y="144"/>
                  </a:lnTo>
                  <a:lnTo>
                    <a:pt x="0" y="1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458200" y="3886200"/>
            <a:ext cx="952560" cy="914400"/>
            <a:chOff x="8458200" y="3886200"/>
            <a:chExt cx="952560" cy="914400"/>
          </a:xfrm>
        </p:grpSpPr>
        <p:sp>
          <p:nvSpPr>
            <p:cNvPr id="344" name=""/>
            <p:cNvSpPr/>
            <p:nvPr/>
          </p:nvSpPr>
          <p:spPr>
            <a:xfrm>
              <a:off x="8458200" y="403848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220320" y="3886200"/>
              <a:ext cx="190440" cy="17136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192"/>
                  </a:moveTo>
                  <a:lnTo>
                    <a:pt x="192" y="288"/>
                  </a:lnTo>
                  <a:lnTo>
                    <a:pt x="384" y="192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78840" y="137016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12200" y="319896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verl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1400" y="342756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78720" y="41148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ón del método de división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royectan los nodos en el view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n desde adelante hacia atrás (se recorren encuentran y analizan primero las superficies menos profu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nodos de los primeros octantes son visitados primero que los nodos pos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 un pixel se le asigna el color de la superficie que se encuentra en el primer nodo que le correspo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95240" y="4903920"/>
            <a:ext cx="4158000" cy="2182680"/>
            <a:chOff x="4395240" y="4903920"/>
            <a:chExt cx="4158000" cy="2182680"/>
          </a:xfrm>
        </p:grpSpPr>
        <p:sp>
          <p:nvSpPr>
            <p:cNvPr id="353" name=""/>
            <p:cNvSpPr/>
            <p:nvPr/>
          </p:nvSpPr>
          <p:spPr>
            <a:xfrm>
              <a:off x="6580080" y="569916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232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"/>
            <p:cNvCxnSpPr/>
            <p:nvPr/>
          </p:nvCxnSpPr>
          <p:spPr>
            <a:xfrm flipV="1">
              <a:off x="5487480" y="6649200"/>
              <a:ext cx="10947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56" name=""/>
            <p:cNvCxnSpPr/>
            <p:nvPr/>
          </p:nvCxnSpPr>
          <p:spPr>
            <a:xfrm flipH="1">
              <a:off x="5487480" y="6649560"/>
              <a:ext cx="10929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57" name=""/>
            <p:cNvSpPr/>
            <p:nvPr/>
          </p:nvSpPr>
          <p:spPr>
            <a:xfrm>
              <a:off x="713592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784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>
              <a:off x="4395600" y="664956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0" name=""/>
            <p:cNvCxnSpPr/>
            <p:nvPr/>
          </p:nvCxnSpPr>
          <p:spPr>
            <a:xfrm flipH="1" flipV="1">
              <a:off x="4395240" y="664920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>
              <a:off x="602460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"/>
            <p:cNvCxnSpPr/>
            <p:nvPr/>
          </p:nvCxnSpPr>
          <p:spPr>
            <a:xfrm flipH="1" flipV="1">
              <a:off x="5487480" y="5043240"/>
              <a:ext cx="1092960" cy="219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3" name=""/>
            <p:cNvCxnSpPr/>
            <p:nvPr/>
          </p:nvCxnSpPr>
          <p:spPr>
            <a:xfrm flipH="1">
              <a:off x="4395240" y="5043240"/>
              <a:ext cx="1092600" cy="2214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 flipV="1">
              <a:off x="6580080" y="6208200"/>
              <a:ext cx="109224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24600" y="5367240"/>
              <a:ext cx="109224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484600" y="6208200"/>
              <a:ext cx="109836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040440" y="5367240"/>
              <a:ext cx="109872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41720" y="5902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75960" y="5775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1280" y="658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76680" y="648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7360" y="64897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0680" y="5335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8480" y="5219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9640" y="4903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47080" y="5094360"/>
              <a:ext cx="182520" cy="25236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0"/>
                  </a:moveTo>
                  <a:cubicBezTo>
                    <a:pt x="44" y="36"/>
                    <a:pt x="88" y="72"/>
                    <a:pt x="96" y="96"/>
                  </a:cubicBezTo>
                  <a:cubicBezTo>
                    <a:pt x="104" y="120"/>
                    <a:pt x="76" y="132"/>
                    <a:pt x="48" y="144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746840" y="6172200"/>
              <a:ext cx="806400" cy="193680"/>
              <a:chOff x="7746840" y="6172200"/>
              <a:chExt cx="806400" cy="193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248320" y="6172200"/>
                <a:ext cx="304920" cy="193680"/>
                <a:chOff x="8248320" y="6172200"/>
                <a:chExt cx="304920" cy="1936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248320" y="6172200"/>
                  <a:ext cx="304920" cy="193680"/>
                  <a:chOff x="8248320" y="6172200"/>
                  <a:chExt cx="304920" cy="1936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V="1">
                    <a:off x="8250120" y="6327720"/>
                    <a:ext cx="301680" cy="3816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8248320" y="6172200"/>
                    <a:ext cx="304920" cy="16200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flipV="1" rot="1680000">
                  <a:off x="8290080" y="6222960"/>
                  <a:ext cx="64800" cy="125280"/>
                </a:xfrm>
                <a:custGeom>
                  <a:avLst/>
                  <a:gdLst/>
                  <a:ahLst/>
                  <a:rect l="l" t="t" r="r" b="b"/>
                  <a:pathLst>
                    <a:path w="56" h="144">
                      <a:moveTo>
                        <a:pt x="56" y="0"/>
                      </a:moveTo>
                      <a:cubicBezTo>
                        <a:pt x="36" y="12"/>
                        <a:pt x="16" y="24"/>
                        <a:pt x="8" y="48"/>
                      </a:cubicBezTo>
                      <a:cubicBezTo>
                        <a:pt x="0" y="72"/>
                        <a:pt x="4" y="108"/>
                        <a:pt x="8" y="144"/>
                      </a:cubicBezTo>
                    </a:path>
                  </a:pathLst>
                </a:cu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 flipH="1" flipV="1">
                <a:off x="7746840" y="6205320"/>
                <a:ext cx="457200" cy="52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84" name=""/>
          <p:cNvCxnSpPr/>
          <p:nvPr/>
        </p:nvCxnSpPr>
        <p:spPr>
          <a:xfrm flipH="1" flipV="1">
            <a:off x="4444560" y="527760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H="1">
            <a:off x="5536800" y="527796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scan-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ordenamiento en produndidad (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inary space partition tree (BSP-t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ado en 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do en oc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ray 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para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ibuj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r (map) el octree a un quadtree de área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correr los nodos del octree, recursivamente, desde adelante hacia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información del quadtree es cargada en el frame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34160" y="5037120"/>
            <a:ext cx="180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323280" y="447660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>
            <a:off x="5945040" y="5691960"/>
            <a:ext cx="1689840" cy="56124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1" name=""/>
          <p:cNvCxnSpPr/>
          <p:nvPr/>
        </p:nvCxnSpPr>
        <p:spPr>
          <a:xfrm flipH="1">
            <a:off x="5944680" y="5689080"/>
            <a:ext cx="1689840" cy="56268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8493120" y="4746600"/>
            <a:ext cx="144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6840" y="4498920"/>
            <a:ext cx="144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257720" y="5733720"/>
            <a:ext cx="1689840" cy="5403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5" name=""/>
          <p:cNvCxnSpPr/>
          <p:nvPr/>
        </p:nvCxnSpPr>
        <p:spPr>
          <a:xfrm flipH="1" flipV="1">
            <a:off x="4255560" y="5736600"/>
            <a:ext cx="1689840" cy="53892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762600" y="475776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34160" y="53704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941800" y="5459040"/>
            <a:ext cx="1695240" cy="51444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96600" y="4981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3600" y="618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1100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07480" y="5856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6080" y="433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8872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79120" y="35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52000" y="3811680"/>
            <a:ext cx="244440" cy="26964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36"/>
                  <a:pt x="88" y="72"/>
                  <a:pt x="96" y="96"/>
                </a:cubicBezTo>
                <a:cubicBezTo>
                  <a:pt x="104" y="120"/>
                  <a:pt x="76" y="132"/>
                  <a:pt x="48" y="144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730560" y="4202280"/>
            <a:ext cx="1752840" cy="5364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43600" y="388440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62600" y="41590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8640" y="4599000"/>
            <a:ext cx="795240" cy="2700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602120" y="5249880"/>
            <a:ext cx="91764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84880" y="4599000"/>
            <a:ext cx="860400" cy="293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48560" y="5249880"/>
            <a:ext cx="90972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8488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7084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621560" y="5135400"/>
            <a:ext cx="449280" cy="185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81800" y="4797000"/>
            <a:ext cx="449280" cy="187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4880" y="5205240"/>
            <a:ext cx="451080" cy="907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6200" y="4824360"/>
            <a:ext cx="450720" cy="889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59880" y="4924440"/>
            <a:ext cx="288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6200" y="4948200"/>
            <a:ext cx="324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8000" y="530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76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ctan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941800" y="45705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7678440" y="38847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83480" y="442728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ray ca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métodos ópticos geomé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zar caminos de rayos de lu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zar un rayo desde cada pixel, en la línea de visión, para intersectar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qué objetos intersectan est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la superficie visible cuyo con puntos de intersección más cercano al plano de visión (view pl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siderar solo los rayos que pasan por un 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fectivo para escenas con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lasificación de los méto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en el espacio de las imá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th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can-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étodos en el espacio de l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Detección de Back-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BSP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Subdivisión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s para superficies curv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fectivos para superficies cur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las superficies curvas con un conjunto de caras poligonale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lguno de los métodos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s eficiente y preciso es usar ray casting y las ecuaciones que describen las superf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back-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o y efectivo para eliminar rapidamente las caras que no se ven pero no resuelve el problema compl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pido 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buffers (colores y profund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el z-buffer incluyendo transparencia, antialiasing,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respecto a la complejidad de la escena medido en la cantidad de polígonos que se superpone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simples (hasta mil polígonos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rdenamiento en profundidad, BSP tree, scan-lines, z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complejas (más de mil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z-buffer, oc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ón del algoritmo para rellenar el interior de los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cada polígono que intersecta la scan-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r de izquierda a dere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fundidad (depth) en caso que hay polígonos super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nsidad del punto más cercano se almacena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tabl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 extremos de cada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ente de la línea que pasa por el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os polígonos que lo contien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eficientes de la ecuación del pla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 los colores (intensidad)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a 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1  (ar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a de ar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B, BC, EH, 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tre AB y BC solo el flag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es necesario calcular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nera similar entre EH y FG solo el flag de        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9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9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32367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43400" y="46083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15200" y="50655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2 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AD, BC, EH,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AD y EH solo el flag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EH y BC ambos flag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y           están enc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lcular depth (profundidad de ambas superfic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r ventaja de la cohe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do de una scan-line a l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-line 3 tiene la misma lista activa que 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s necesario hacer cálculos de profundidad entre EH 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12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00600" y="274320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343400" y="4836960"/>
                <a:ext cx="3650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92760" y="35481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0053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¿Cuándo hay problem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3809880"/>
            <a:ext cx="6934320" cy="1905120"/>
            <a:chOff x="1066680" y="3809880"/>
            <a:chExt cx="6934320" cy="1905120"/>
          </a:xfrm>
        </p:grpSpPr>
        <p:grpSp>
          <p:nvGrpSpPr>
            <p:cNvPr id="152" name=""/>
            <p:cNvGrpSpPr/>
            <p:nvPr/>
          </p:nvGrpSpPr>
          <p:grpSpPr>
            <a:xfrm>
              <a:off x="1066680" y="3809880"/>
              <a:ext cx="1981440" cy="1905120"/>
              <a:chOff x="1066680" y="3809880"/>
              <a:chExt cx="1981440" cy="1905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066680" y="43862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17840" y="3809880"/>
                <a:ext cx="87912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17840" y="45878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617840" y="4586040"/>
                <a:ext cx="87912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233880" y="3809880"/>
              <a:ext cx="2226960" cy="1905120"/>
              <a:chOff x="3233880" y="3809880"/>
              <a:chExt cx="2226960" cy="190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4424400" y="43020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4317840"/>
                <a:ext cx="196668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48240" y="3809880"/>
                <a:ext cx="30924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1600" y="48261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700440" y="47926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80080" y="3809880"/>
              <a:ext cx="2320920" cy="1905120"/>
              <a:chOff x="5680080" y="3809880"/>
              <a:chExt cx="2320920" cy="1905120"/>
            </a:xfrm>
          </p:grpSpPr>
          <p:sp>
            <p:nvSpPr>
              <p:cNvPr id="164" name=""/>
              <p:cNvSpPr/>
              <p:nvPr/>
            </p:nvSpPr>
            <p:spPr>
              <a:xfrm>
                <a:off x="5680080" y="4383000"/>
                <a:ext cx="99072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21360" y="3809880"/>
                <a:ext cx="164952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1480" y="42339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5680" y="4361040"/>
                <a:ext cx="180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funciona si polígonos no se superponen cícl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 producen estos casos =&gt; dividir los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ordenamiento en profund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n el espacio de las imágenes y en el espacio de los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ciones de ordenamiento en el espacio de las imágenes y en el espacio de los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en el espacio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ones bás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(polígonos) ordenadas en forma decre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sobre las más lejanas primero (valor de depth má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do com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lgoritmo del pin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crear un cuadr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o pinta los colores de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los objetos más d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continuación  los que los siguen en cercanía y asi suces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 se pinta la superficie mas cercana (fore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nar los polígonos (superficies) de acuerdo a su distancia el view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intensidades(colores) de la más lejana se ingresa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r la superficie siguiente y repi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5:58:27Z</dcterms:created>
  <dc:creator/>
  <dc:description/>
  <dc:language>en-US</dc:language>
  <cp:lastModifiedBy/>
  <dcterms:modified xsi:type="dcterms:W3CDTF">2012-05-31T15:40:44Z</dcterms:modified>
  <cp:revision>36</cp:revision>
  <dc:subject/>
  <dc:title/>
</cp:coreProperties>
</file>