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C096-9809-42CD-8F5C-77B70B4C8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D458-F719-45E4-9846-4A4180540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393D-8E17-42D3-B5EE-0417868B5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4BB0-7DDB-4D16-8469-270DD18A2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6FB17-258B-4B92-994D-F9BD8E242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629F3-254A-4A52-A0D9-251DB646B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10860-F30A-4241-A189-EE263094E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15729-D735-40D2-BE6B-44C528411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E7CD4-9715-4553-AAF6-AF11B5C7E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D0717-9017-4C6D-AD5A-7798B0265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6487C-DE53-4EC6-B6DE-803C21FBF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3F14-D4EE-4AEA-9183-7BEB9D942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6245E-99F0-4A51-85BB-D62D4DAF8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BD600-3150-4C75-A2FD-0D3DC671D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20F2D-3962-402B-AAC3-A07AB05E1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775E4-7C84-407E-AD8F-8E723D7A3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2366F-D7CB-4B15-8361-7657050EA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FA05-0A3B-41A3-85A2-47B2C2BD2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9E12-7F1D-43AF-894C-E11339AE5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E034-695D-4FA3-986E-74FC71947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21C9-37B5-4FF7-B6E9-813BA8077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AAA9-3B79-459C-A5AF-0A845C0DF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84CE-47D6-4FBC-963B-D570EFFCC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C6E0-9BF6-4EA1-9C8C-449152E60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2CB716-0C6F-4384-AF5E-D154752C2D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5ADC79-B0C7-4A07-A705-FED35D4EA1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6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468360" y="44280"/>
            <a:ext cx="9070920" cy="66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52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étodos para detección de superficies visible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Hearn-Bak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e 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314004"/>
                </a:solidFill>
                <a:latin typeface="Arial"/>
              </a:rPr>
              <a:t>Algoritm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ste proceso se realiza en varios paso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perficies ordenadas con respecto al z-value mas pequeñ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 superficie S con el z-value más grande es  analizada para ver si se superpone con otr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Si no hay superposición en el eje z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=&gt;  scan-convers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Si hay superposición en el eje z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=&gt;  analizar si las superficies deben ser reordenad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314004"/>
                </a:solidFill>
                <a:latin typeface="Arial"/>
              </a:rPr>
              <a:t>Algoritmo: </a:t>
            </a:r>
            <a:r>
              <a:rPr b="1" lang="en-US" sz="2800" spc="-1" strike="noStrike">
                <a:solidFill>
                  <a:srgbClr val="314004"/>
                </a:solidFill>
                <a:latin typeface="Arial"/>
              </a:rPr>
              <a:t>ejemplos de overlapping usando una vista solo de los ejes x y z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 flipV="1">
            <a:off x="1136160" y="1598400"/>
            <a:ext cx="11160" cy="221292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888840" y="3465360"/>
            <a:ext cx="3200400" cy="180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85240" y="3687840"/>
            <a:ext cx="305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Microsoft Sans Serif"/>
                <a:ea typeface="새굴림"/>
              </a:rPr>
              <a:t>z</a:t>
            </a:r>
            <a:r>
              <a:rPr b="1" lang="en-US" sz="1200" spc="-1" strike="noStrike" baseline="-25000">
                <a:solidFill>
                  <a:srgbClr val="333333"/>
                </a:solidFill>
                <a:latin typeface="Microsoft Sans Serif"/>
                <a:ea typeface="새굴림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18960" y="3429000"/>
            <a:ext cx="3196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Microsoft Sans Serif"/>
                <a:ea typeface="새굴림"/>
              </a:rPr>
              <a:t>x</a:t>
            </a:r>
            <a:r>
              <a:rPr b="1" lang="en-US" sz="1200" spc="-1" strike="noStrike" baseline="-25000">
                <a:solidFill>
                  <a:srgbClr val="333333"/>
                </a:solidFill>
                <a:latin typeface="Microsoft Sans Serif"/>
                <a:ea typeface="새굴림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609560" y="2133720"/>
            <a:ext cx="1200240" cy="1066680"/>
          </a:xfrm>
          <a:custGeom>
            <a:avLst/>
            <a:gdLst/>
            <a:ahLst/>
            <a:rect l="l" t="t" r="r" b="b"/>
            <a:pathLst>
              <a:path w="720" h="672">
                <a:moveTo>
                  <a:pt x="0" y="528"/>
                </a:moveTo>
                <a:lnTo>
                  <a:pt x="528" y="0"/>
                </a:lnTo>
                <a:lnTo>
                  <a:pt x="720" y="432"/>
                </a:lnTo>
                <a:lnTo>
                  <a:pt x="432" y="672"/>
                </a:lnTo>
                <a:lnTo>
                  <a:pt x="0" y="528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649600" y="1828800"/>
            <a:ext cx="1039680" cy="533520"/>
          </a:xfrm>
          <a:custGeom>
            <a:avLst/>
            <a:gdLst/>
            <a:ahLst/>
            <a:rect l="l" t="t" r="r" b="b"/>
            <a:pathLst>
              <a:path w="624" h="336">
                <a:moveTo>
                  <a:pt x="0" y="240"/>
                </a:moveTo>
                <a:lnTo>
                  <a:pt x="384" y="0"/>
                </a:lnTo>
                <a:lnTo>
                  <a:pt x="624" y="144"/>
                </a:lnTo>
                <a:lnTo>
                  <a:pt x="336" y="336"/>
                </a:lnTo>
                <a:lnTo>
                  <a:pt x="0" y="240"/>
                </a:lnTo>
                <a:close/>
              </a:path>
            </a:pathLst>
          </a:custGeom>
          <a:noFill/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09560" y="2133720"/>
            <a:ext cx="1200240" cy="1066680"/>
          </a:xfrm>
          <a:prstGeom prst="rect">
            <a:avLst/>
          </a:prstGeom>
          <a:noFill/>
          <a:ln w="15840">
            <a:solidFill>
              <a:srgbClr val="3333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649600" y="1828800"/>
            <a:ext cx="1039680" cy="533520"/>
          </a:xfrm>
          <a:prstGeom prst="rect">
            <a:avLst/>
          </a:prstGeom>
          <a:noFill/>
          <a:ln w="15840">
            <a:solidFill>
              <a:srgbClr val="3333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 flipV="1">
            <a:off x="5145120" y="1674360"/>
            <a:ext cx="14400" cy="221292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851360" y="3465360"/>
            <a:ext cx="3200400" cy="180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47760" y="3687840"/>
            <a:ext cx="305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Microsoft Sans Serif"/>
                <a:ea typeface="새굴림"/>
              </a:rPr>
              <a:t>z</a:t>
            </a:r>
            <a:r>
              <a:rPr b="1" lang="en-US" sz="1200" spc="-1" strike="noStrike" baseline="-25000">
                <a:solidFill>
                  <a:srgbClr val="333333"/>
                </a:solidFill>
                <a:latin typeface="Microsoft Sans Serif"/>
                <a:ea typeface="새굴림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881480" y="3429000"/>
            <a:ext cx="3196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Microsoft Sans Serif"/>
                <a:ea typeface="새굴림"/>
              </a:rPr>
              <a:t>x</a:t>
            </a:r>
            <a:r>
              <a:rPr b="1" lang="en-US" sz="1200" spc="-1" strike="noStrike" baseline="-25000">
                <a:solidFill>
                  <a:srgbClr val="333333"/>
                </a:solidFill>
                <a:latin typeface="Microsoft Sans Serif"/>
                <a:ea typeface="새굴림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34080" y="1913040"/>
            <a:ext cx="606240" cy="836640"/>
          </a:xfrm>
          <a:prstGeom prst="line">
            <a:avLst/>
          </a:prstGeom>
          <a:ln w="19080">
            <a:solidFill>
              <a:srgbClr val="efa0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6040440" y="2593800"/>
            <a:ext cx="689040" cy="687600"/>
          </a:xfrm>
          <a:prstGeom prst="line">
            <a:avLst/>
          </a:prstGeom>
          <a:ln w="19080">
            <a:solidFill>
              <a:srgbClr val="efa0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47120" y="2286000"/>
            <a:ext cx="26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Microsoft Sans Serif"/>
                <a:ea typeface="새굴림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367680" y="2819520"/>
            <a:ext cx="29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Microsoft Sans Serif"/>
                <a:ea typeface="새굴림"/>
              </a:rPr>
              <a:t>S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1163160" y="4036680"/>
            <a:ext cx="41400" cy="221292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882720" y="5827680"/>
            <a:ext cx="3200400" cy="180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885240" y="6049800"/>
            <a:ext cx="305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Microsoft Sans Serif"/>
                <a:ea typeface="새굴림"/>
              </a:rPr>
              <a:t>z</a:t>
            </a:r>
            <a:r>
              <a:rPr b="1" lang="en-US" sz="1200" spc="-1" strike="noStrike" baseline="-25000">
                <a:solidFill>
                  <a:srgbClr val="333333"/>
                </a:solidFill>
                <a:latin typeface="Microsoft Sans Serif"/>
                <a:ea typeface="새굴림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918960" y="5791320"/>
            <a:ext cx="3196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Microsoft Sans Serif"/>
                <a:ea typeface="새굴림"/>
              </a:rPr>
              <a:t>x</a:t>
            </a:r>
            <a:r>
              <a:rPr b="1" lang="en-US" sz="1200" spc="-1" strike="noStrike" baseline="-25000">
                <a:solidFill>
                  <a:srgbClr val="333333"/>
                </a:solidFill>
                <a:latin typeface="Microsoft Sans Serif"/>
                <a:ea typeface="새굴림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346480" y="4133880"/>
            <a:ext cx="752400" cy="1103400"/>
          </a:xfrm>
          <a:prstGeom prst="line">
            <a:avLst/>
          </a:prstGeom>
          <a:ln w="19080">
            <a:solidFill>
              <a:srgbClr val="efa0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2127240" y="4767120"/>
            <a:ext cx="514440" cy="757440"/>
          </a:xfrm>
          <a:prstGeom prst="line">
            <a:avLst/>
          </a:prstGeom>
          <a:ln w="19080">
            <a:solidFill>
              <a:srgbClr val="efa0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73680" y="4145040"/>
            <a:ext cx="26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Microsoft Sans Serif"/>
                <a:ea typeface="새굴림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157480" y="5364000"/>
            <a:ext cx="29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Microsoft Sans Serif"/>
                <a:ea typeface="새굴림"/>
              </a:rPr>
              <a:t>S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5135400" y="4036680"/>
            <a:ext cx="22320" cy="221292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846680" y="5827680"/>
            <a:ext cx="3198600" cy="180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849200" y="6049800"/>
            <a:ext cx="305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Microsoft Sans Serif"/>
                <a:ea typeface="새굴림"/>
              </a:rPr>
              <a:t>z</a:t>
            </a:r>
            <a:r>
              <a:rPr b="1" lang="en-US" sz="1200" spc="-1" strike="noStrike" baseline="-25000">
                <a:solidFill>
                  <a:srgbClr val="333333"/>
                </a:solidFill>
                <a:latin typeface="Microsoft Sans Serif"/>
                <a:ea typeface="새굴림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881480" y="5791320"/>
            <a:ext cx="3196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Microsoft Sans Serif"/>
                <a:ea typeface="새굴림"/>
              </a:rPr>
              <a:t>x</a:t>
            </a:r>
            <a:r>
              <a:rPr b="1" lang="en-US" sz="1200" spc="-1" strike="noStrike" baseline="-25000">
                <a:solidFill>
                  <a:srgbClr val="333333"/>
                </a:solidFill>
                <a:latin typeface="Microsoft Sans Serif"/>
                <a:ea typeface="새굴림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377040" y="4041720"/>
            <a:ext cx="847800" cy="885960"/>
          </a:xfrm>
          <a:prstGeom prst="line">
            <a:avLst/>
          </a:prstGeom>
          <a:ln w="19080">
            <a:solidFill>
              <a:srgbClr val="efa0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5694480" y="4883040"/>
            <a:ext cx="512640" cy="757440"/>
          </a:xfrm>
          <a:prstGeom prst="line">
            <a:avLst/>
          </a:prstGeom>
          <a:ln w="19080">
            <a:solidFill>
              <a:srgbClr val="efa0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193080" y="4095720"/>
            <a:ext cx="26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Microsoft Sans Serif"/>
                <a:ea typeface="새굴림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450040" y="5392800"/>
            <a:ext cx="29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Microsoft Sans Serif"/>
                <a:ea typeface="새굴림"/>
              </a:rPr>
              <a:t>S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7349400" y="6095880"/>
            <a:ext cx="889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"/>
          <p:cNvCxnSpPr>
            <a:endCxn id="208" idx="0"/>
          </p:cNvCxnSpPr>
          <p:nvPr/>
        </p:nvCxnSpPr>
        <p:spPr>
          <a:xfrm>
            <a:off x="7024680" y="3658680"/>
            <a:ext cx="186480" cy="1220040"/>
          </a:xfrm>
          <a:prstGeom prst="straightConnector1">
            <a:avLst/>
          </a:prstGeom>
          <a:ln w="12600">
            <a:solidFill>
              <a:srgbClr val="333333"/>
            </a:solidFill>
            <a:prstDash val="dash"/>
            <a:miter/>
          </a:ln>
        </p:spPr>
      </p:cxnSp>
      <p:cxnSp>
        <p:nvCxnSpPr>
          <p:cNvPr id="210" name=""/>
          <p:cNvCxnSpPr>
            <a:endCxn id="208" idx="7"/>
          </p:cNvCxnSpPr>
          <p:nvPr/>
        </p:nvCxnSpPr>
        <p:spPr>
          <a:xfrm>
            <a:off x="7088040" y="3750840"/>
            <a:ext cx="138960" cy="1180440"/>
          </a:xfrm>
          <a:prstGeom prst="straightConnector1">
            <a:avLst/>
          </a:prstGeom>
          <a:ln w="12600">
            <a:solidFill>
              <a:srgbClr val="333333"/>
            </a:solidFill>
            <a:prstDash val="dash"/>
            <a:miter/>
          </a:ln>
        </p:spPr>
      </p:cxnSp>
      <p:cxnSp>
        <p:nvCxnSpPr>
          <p:cNvPr id="211" name=""/>
          <p:cNvCxnSpPr>
            <a:endCxn id="208" idx="7"/>
          </p:cNvCxnSpPr>
          <p:nvPr/>
        </p:nvCxnSpPr>
        <p:spPr>
          <a:xfrm>
            <a:off x="5051520" y="3668400"/>
            <a:ext cx="1156320" cy="1221480"/>
          </a:xfrm>
          <a:prstGeom prst="straightConnector1">
            <a:avLst/>
          </a:prstGeom>
          <a:ln w="12600">
            <a:solidFill>
              <a:srgbClr val="333333"/>
            </a:solidFill>
            <a:prstDash val="dash"/>
            <a:miter/>
          </a:ln>
        </p:spPr>
      </p:cxnSp>
      <p:cxnSp>
        <p:nvCxnSpPr>
          <p:cNvPr id="212" name=""/>
          <p:cNvCxnSpPr>
            <a:endCxn id="208" idx="6"/>
          </p:cNvCxnSpPr>
          <p:nvPr/>
        </p:nvCxnSpPr>
        <p:spPr>
          <a:xfrm>
            <a:off x="5063760" y="3639600"/>
            <a:ext cx="1143720" cy="1248840"/>
          </a:xfrm>
          <a:prstGeom prst="straightConnector1">
            <a:avLst/>
          </a:prstGeom>
          <a:ln w="12600">
            <a:solidFill>
              <a:srgbClr val="333333"/>
            </a:solidFill>
            <a:prstDash val="dash"/>
            <a:miter/>
          </a:ln>
        </p:spPr>
      </p:cxnSp>
      <p:sp>
        <p:nvSpPr>
          <p:cNvPr id="213" name=""/>
          <p:cNvSpPr/>
          <p:nvPr/>
        </p:nvSpPr>
        <p:spPr>
          <a:xfrm flipH="1">
            <a:off x="6360840" y="5829480"/>
            <a:ext cx="725400" cy="1440"/>
          </a:xfrm>
          <a:prstGeom prst="line">
            <a:avLst/>
          </a:prstGeom>
          <a:ln w="22320">
            <a:solidFill>
              <a:srgbClr val="efa0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7248600" y="5829480"/>
            <a:ext cx="95040" cy="1440"/>
          </a:xfrm>
          <a:prstGeom prst="line">
            <a:avLst/>
          </a:prstGeom>
          <a:ln w="22320">
            <a:solidFill>
              <a:srgbClr val="efa0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514600" y="3657600"/>
            <a:ext cx="460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86600" y="3657600"/>
            <a:ext cx="460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6172200"/>
            <a:ext cx="460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172200" y="6110280"/>
            <a:ext cx="460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314004"/>
                </a:solidFill>
                <a:latin typeface="Arial"/>
              </a:rPr>
              <a:t>Algoritmo: ejemplos de overlapp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 S pasa alguno de los siguientes tests (son verdaderos), no es necesario reorden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s bounding rectangles (coordinate extents) de las dos superficies no se superponen en el plano XY (Figura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superficie S está completamente detrás de la otra  mirada desde la posición de viewing (Figura 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superficie que se superpone está completamente adelante de S desde la posición de viewing (Figura 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proyección de los arcos del borde de cada polígono  no se superpon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 los 4 tests fallan?  Qué casos existen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314004"/>
                </a:solidFill>
                <a:latin typeface="Arial"/>
              </a:rPr>
              <a:t>Algoritmo: ejemplos de overlapp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 los 4 test fallan con S'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cambiar  S y S' en la lista orden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tir los tests para cada superficie que es re-ordenada en la li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1359000" y="3808080"/>
            <a:ext cx="30240" cy="221292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073160" y="5599080"/>
            <a:ext cx="3201840" cy="180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069560" y="5821200"/>
            <a:ext cx="305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Microsoft Sans Serif"/>
                <a:ea typeface="새굴림"/>
              </a:rPr>
              <a:t>z</a:t>
            </a:r>
            <a:r>
              <a:rPr b="1" lang="en-US" sz="1200" spc="-1" strike="noStrike" baseline="-25000">
                <a:solidFill>
                  <a:srgbClr val="333333"/>
                </a:solidFill>
                <a:latin typeface="Microsoft Sans Serif"/>
                <a:ea typeface="새굴림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4720" y="5562720"/>
            <a:ext cx="3196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Microsoft Sans Serif"/>
                <a:ea typeface="새굴림"/>
              </a:rPr>
              <a:t>x</a:t>
            </a:r>
            <a:r>
              <a:rPr b="1" lang="en-US" sz="1200" spc="-1" strike="noStrike" baseline="-25000">
                <a:solidFill>
                  <a:srgbClr val="333333"/>
                </a:solidFill>
                <a:latin typeface="Microsoft Sans Serif"/>
                <a:ea typeface="새굴림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2165400" y="4724280"/>
            <a:ext cx="318960" cy="82800"/>
          </a:xfrm>
          <a:prstGeom prst="line">
            <a:avLst/>
          </a:prstGeom>
          <a:ln w="19080">
            <a:solidFill>
              <a:srgbClr val="efa0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1996920" y="4495680"/>
            <a:ext cx="1057320" cy="741600"/>
          </a:xfrm>
          <a:prstGeom prst="line">
            <a:avLst/>
          </a:prstGeom>
          <a:ln w="19080">
            <a:solidFill>
              <a:srgbClr val="efa0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926080" y="4495680"/>
            <a:ext cx="26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Microsoft Sans Serif"/>
                <a:ea typeface="새굴림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30480" y="4525920"/>
            <a:ext cx="29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Microsoft Sans Serif"/>
                <a:ea typeface="새굴림"/>
              </a:rPr>
              <a:t>S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073160" y="5599080"/>
            <a:ext cx="3201840" cy="180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069560" y="5821200"/>
            <a:ext cx="305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Microsoft Sans Serif"/>
                <a:ea typeface="새굴림"/>
              </a:rPr>
              <a:t>z</a:t>
            </a:r>
            <a:r>
              <a:rPr b="1" lang="en-US" sz="1200" spc="-1" strike="noStrike" baseline="-25000">
                <a:solidFill>
                  <a:srgbClr val="333333"/>
                </a:solidFill>
                <a:latin typeface="Microsoft Sans Serif"/>
                <a:ea typeface="새굴림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4720" y="5562720"/>
            <a:ext cx="3196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Microsoft Sans Serif"/>
                <a:ea typeface="새굴림"/>
              </a:rPr>
              <a:t>x</a:t>
            </a:r>
            <a:r>
              <a:rPr b="1" lang="en-US" sz="1200" spc="-1" strike="noStrike" baseline="-25000">
                <a:solidFill>
                  <a:srgbClr val="333333"/>
                </a:solidFill>
                <a:latin typeface="Microsoft Sans Serif"/>
                <a:ea typeface="새굴림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2165400" y="4724280"/>
            <a:ext cx="318960" cy="82800"/>
          </a:xfrm>
          <a:prstGeom prst="line">
            <a:avLst/>
          </a:prstGeom>
          <a:ln w="19080">
            <a:solidFill>
              <a:srgbClr val="efa0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1996920" y="4495680"/>
            <a:ext cx="1057320" cy="741600"/>
          </a:xfrm>
          <a:prstGeom prst="line">
            <a:avLst/>
          </a:prstGeom>
          <a:ln w="19080">
            <a:solidFill>
              <a:srgbClr val="efa0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926080" y="4495680"/>
            <a:ext cx="26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Microsoft Sans Serif"/>
                <a:ea typeface="새굴림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130480" y="4525920"/>
            <a:ext cx="29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Microsoft Sans Serif"/>
                <a:ea typeface="새굴림"/>
              </a:rPr>
              <a:t>S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290680" y="5745240"/>
            <a:ext cx="93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Microsoft Sans Serif"/>
                <a:ea typeface="새굴림"/>
              </a:rPr>
              <a:t>&lt;S </a:t>
            </a:r>
            <a:r>
              <a:rPr b="1" lang="en-US" sz="1200" spc="-1" strike="noStrike">
                <a:solidFill>
                  <a:srgbClr val="333333"/>
                </a:solidFill>
                <a:latin typeface="Wingdings"/>
                <a:ea typeface="Wingdings"/>
              </a:rPr>
              <a:t></a:t>
            </a:r>
            <a:r>
              <a:rPr b="1" lang="en-US" sz="1200" spc="-1" strike="noStrike">
                <a:solidFill>
                  <a:srgbClr val="333333"/>
                </a:solidFill>
                <a:latin typeface="Microsoft Sans Serif"/>
                <a:ea typeface="새굴림"/>
              </a:rPr>
              <a:t> S’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073160" y="5599080"/>
            <a:ext cx="3201840" cy="180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069560" y="5821200"/>
            <a:ext cx="305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Microsoft Sans Serif"/>
                <a:ea typeface="새굴림"/>
              </a:rPr>
              <a:t>z</a:t>
            </a:r>
            <a:r>
              <a:rPr b="1" lang="en-US" sz="1200" spc="-1" strike="noStrike" baseline="-25000">
                <a:solidFill>
                  <a:srgbClr val="333333"/>
                </a:solidFill>
                <a:latin typeface="Microsoft Sans Serif"/>
                <a:ea typeface="새굴림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104720" y="5562720"/>
            <a:ext cx="3196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Microsoft Sans Serif"/>
                <a:ea typeface="새굴림"/>
              </a:rPr>
              <a:t>x</a:t>
            </a:r>
            <a:r>
              <a:rPr b="1" lang="en-US" sz="1200" spc="-1" strike="noStrike" baseline="-25000">
                <a:solidFill>
                  <a:srgbClr val="333333"/>
                </a:solidFill>
                <a:latin typeface="Microsoft Sans Serif"/>
                <a:ea typeface="새굴림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2165400" y="4724280"/>
            <a:ext cx="318960" cy="82800"/>
          </a:xfrm>
          <a:prstGeom prst="line">
            <a:avLst/>
          </a:prstGeom>
          <a:ln w="19080">
            <a:solidFill>
              <a:srgbClr val="efa0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1996920" y="4495680"/>
            <a:ext cx="1057320" cy="741600"/>
          </a:xfrm>
          <a:prstGeom prst="line">
            <a:avLst/>
          </a:prstGeom>
          <a:ln w="19080">
            <a:solidFill>
              <a:srgbClr val="efa0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926080" y="4495680"/>
            <a:ext cx="26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Microsoft Sans Serif"/>
                <a:ea typeface="새굴림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130480" y="4525920"/>
            <a:ext cx="29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Microsoft Sans Serif"/>
                <a:ea typeface="새굴림"/>
              </a:rPr>
              <a:t>S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290680" y="5745240"/>
            <a:ext cx="93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Microsoft Sans Serif"/>
                <a:ea typeface="새굴림"/>
              </a:rPr>
              <a:t>&lt;S </a:t>
            </a:r>
            <a:r>
              <a:rPr b="1" lang="en-US" sz="1200" spc="-1" strike="noStrike">
                <a:solidFill>
                  <a:srgbClr val="333333"/>
                </a:solidFill>
                <a:latin typeface="Wingdings"/>
                <a:ea typeface="Wingdings"/>
              </a:rPr>
              <a:t></a:t>
            </a:r>
            <a:r>
              <a:rPr b="1" lang="en-US" sz="1200" spc="-1" strike="noStrike">
                <a:solidFill>
                  <a:srgbClr val="333333"/>
                </a:solidFill>
                <a:latin typeface="Microsoft Sans Serif"/>
                <a:ea typeface="새굴림"/>
              </a:rPr>
              <a:t> S’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5184720" y="3808080"/>
            <a:ext cx="1800" cy="221292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883040" y="5599080"/>
            <a:ext cx="3202200" cy="180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879440" y="5821200"/>
            <a:ext cx="305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Microsoft Sans Serif"/>
                <a:ea typeface="새굴림"/>
              </a:rPr>
              <a:t>z</a:t>
            </a:r>
            <a:r>
              <a:rPr b="1" lang="en-US" sz="1200" spc="-1" strike="noStrike" baseline="-25000">
                <a:solidFill>
                  <a:srgbClr val="333333"/>
                </a:solidFill>
                <a:latin typeface="Microsoft Sans Serif"/>
                <a:ea typeface="새굴림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914960" y="5562720"/>
            <a:ext cx="3196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Microsoft Sans Serif"/>
                <a:ea typeface="새굴림"/>
              </a:rPr>
              <a:t>x</a:t>
            </a:r>
            <a:r>
              <a:rPr b="1" lang="en-US" sz="1200" spc="-1" strike="noStrike" baseline="-25000">
                <a:solidFill>
                  <a:srgbClr val="333333"/>
                </a:solidFill>
                <a:latin typeface="Microsoft Sans Serif"/>
                <a:ea typeface="새굴림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683320" y="4083120"/>
            <a:ext cx="799920" cy="679320"/>
          </a:xfrm>
          <a:prstGeom prst="line">
            <a:avLst/>
          </a:prstGeom>
          <a:ln w="19080">
            <a:solidFill>
              <a:srgbClr val="efa0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964200" y="4227480"/>
            <a:ext cx="687600" cy="689040"/>
          </a:xfrm>
          <a:prstGeom prst="line">
            <a:avLst/>
          </a:prstGeom>
          <a:ln w="19080">
            <a:solidFill>
              <a:srgbClr val="efa0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878800" y="4419720"/>
            <a:ext cx="26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Microsoft Sans Serif"/>
                <a:ea typeface="새굴림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326360" y="4495680"/>
            <a:ext cx="29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Microsoft Sans Serif"/>
                <a:ea typeface="새굴림"/>
              </a:rPr>
              <a:t>S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427800" y="4489560"/>
            <a:ext cx="633240" cy="852480"/>
          </a:xfrm>
          <a:prstGeom prst="line">
            <a:avLst/>
          </a:prstGeom>
          <a:ln w="19080">
            <a:solidFill>
              <a:srgbClr val="efa0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411240" y="4343400"/>
            <a:ext cx="33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Microsoft Sans Serif"/>
                <a:ea typeface="새굴림"/>
              </a:rPr>
              <a:t>S’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687640" y="5745240"/>
            <a:ext cx="217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Microsoft Sans Serif"/>
                <a:ea typeface="새굴림"/>
              </a:rPr>
              <a:t>&lt;S </a:t>
            </a:r>
            <a:r>
              <a:rPr b="1" lang="en-US" sz="1200" spc="-1" strike="noStrike">
                <a:solidFill>
                  <a:srgbClr val="333333"/>
                </a:solidFill>
                <a:latin typeface="Wingdings"/>
                <a:ea typeface="Wingdings"/>
              </a:rPr>
              <a:t></a:t>
            </a:r>
            <a:r>
              <a:rPr b="1" lang="en-US" sz="1200" spc="-1" strike="noStrike">
                <a:solidFill>
                  <a:srgbClr val="333333"/>
                </a:solidFill>
                <a:latin typeface="Microsoft Sans Serif"/>
                <a:ea typeface="새굴림"/>
              </a:rPr>
              <a:t> S’’, then S’’ </a:t>
            </a:r>
            <a:r>
              <a:rPr b="1" lang="en-US" sz="1200" spc="-1" strike="noStrike">
                <a:solidFill>
                  <a:srgbClr val="333333"/>
                </a:solidFill>
                <a:latin typeface="Wingdings"/>
                <a:ea typeface="Wingdings"/>
              </a:rPr>
              <a:t></a:t>
            </a:r>
            <a:r>
              <a:rPr b="1" lang="en-US" sz="1200" spc="-1" strike="noStrike">
                <a:solidFill>
                  <a:srgbClr val="333333"/>
                </a:solidFill>
                <a:latin typeface="Microsoft Sans Serif"/>
                <a:ea typeface="새굴림"/>
              </a:rPr>
              <a:t> S’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314004"/>
                </a:solidFill>
                <a:latin typeface="Arial"/>
              </a:rPr>
              <a:t>Algoritmo: problem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6840" y="150192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 dos o mas caras se “tapan”  una con otr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op infini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o evitarlo: marcar cada cara cuando ha sido reordenada a una profundidad más lejan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 puede ser reordenada de nuev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 intenta  reordenarla de nuevo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vidir el polígono en dos polígonos más pequeñ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superficie original es ahora reemplazada por dos nuevas superfi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1143000" y="5410080"/>
            <a:ext cx="6934320" cy="1905120"/>
            <a:chOff x="1143000" y="5410080"/>
            <a:chExt cx="6934320" cy="1905120"/>
          </a:xfrm>
        </p:grpSpPr>
        <p:grpSp>
          <p:nvGrpSpPr>
            <p:cNvPr id="261" name=""/>
            <p:cNvGrpSpPr/>
            <p:nvPr/>
          </p:nvGrpSpPr>
          <p:grpSpPr>
            <a:xfrm>
              <a:off x="1143000" y="5410080"/>
              <a:ext cx="1981080" cy="1905120"/>
              <a:chOff x="1143000" y="5410080"/>
              <a:chExt cx="1981080" cy="1905120"/>
            </a:xfrm>
          </p:grpSpPr>
          <p:sp>
            <p:nvSpPr>
              <p:cNvPr id="262" name=""/>
              <p:cNvSpPr/>
              <p:nvPr/>
            </p:nvSpPr>
            <p:spPr>
              <a:xfrm>
                <a:off x="1143000" y="5986440"/>
                <a:ext cx="1430280" cy="604800"/>
              </a:xfrm>
              <a:custGeom>
                <a:avLst/>
                <a:gdLst/>
                <a:ahLst/>
                <a:rect l="l" t="t" r="r" b="b"/>
                <a:pathLst>
                  <a:path w="624" h="288">
                    <a:moveTo>
                      <a:pt x="0" y="192"/>
                    </a:moveTo>
                    <a:lnTo>
                      <a:pt x="384" y="0"/>
                    </a:lnTo>
                    <a:lnTo>
                      <a:pt x="624" y="96"/>
                    </a:lnTo>
                    <a:lnTo>
                      <a:pt x="240" y="288"/>
                    </a:lnTo>
                    <a:lnTo>
                      <a:pt x="0" y="192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1693800" y="5410080"/>
                <a:ext cx="879480" cy="1905120"/>
              </a:xfrm>
              <a:custGeom>
                <a:avLst/>
                <a:gdLst/>
                <a:ahLst/>
                <a:rect l="l" t="t" r="r" b="b"/>
                <a:pathLst>
                  <a:path w="480" h="864">
                    <a:moveTo>
                      <a:pt x="0" y="240"/>
                    </a:moveTo>
                    <a:lnTo>
                      <a:pt x="480" y="0"/>
                    </a:lnTo>
                    <a:lnTo>
                      <a:pt x="480" y="624"/>
                    </a:lnTo>
                    <a:lnTo>
                      <a:pt x="0" y="864"/>
                    </a:lnTo>
                    <a:lnTo>
                      <a:pt x="0" y="24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1693800" y="6188040"/>
                <a:ext cx="1430280" cy="604800"/>
              </a:xfrm>
              <a:custGeom>
                <a:avLst/>
                <a:gdLst/>
                <a:ahLst/>
                <a:rect l="l" t="t" r="r" b="b"/>
                <a:pathLst>
                  <a:path w="624" h="288">
                    <a:moveTo>
                      <a:pt x="0" y="192"/>
                    </a:moveTo>
                    <a:lnTo>
                      <a:pt x="384" y="0"/>
                    </a:lnTo>
                    <a:lnTo>
                      <a:pt x="624" y="96"/>
                    </a:lnTo>
                    <a:lnTo>
                      <a:pt x="240" y="288"/>
                    </a:lnTo>
                    <a:lnTo>
                      <a:pt x="0" y="192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flipV="1">
                <a:off x="1693800" y="6186240"/>
                <a:ext cx="879480" cy="406440"/>
              </a:xfrm>
              <a:prstGeom prst="line">
                <a:avLst/>
              </a:prstGeom>
              <a:ln w="15840">
                <a:solidFill>
                  <a:srgbClr val="333333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3309840" y="5410080"/>
              <a:ext cx="2227320" cy="1905120"/>
              <a:chOff x="3309840" y="5410080"/>
              <a:chExt cx="2227320" cy="1905120"/>
            </a:xfrm>
          </p:grpSpPr>
          <p:sp>
            <p:nvSpPr>
              <p:cNvPr id="267" name=""/>
              <p:cNvSpPr/>
              <p:nvPr/>
            </p:nvSpPr>
            <p:spPr>
              <a:xfrm>
                <a:off x="4500720" y="5902200"/>
                <a:ext cx="1036440" cy="507960"/>
              </a:xfrm>
              <a:custGeom>
                <a:avLst/>
                <a:gdLst/>
                <a:ahLst/>
                <a:rect l="l" t="t" r="r" b="b"/>
                <a:pathLst>
                  <a:path w="480" h="192">
                    <a:moveTo>
                      <a:pt x="0" y="144"/>
                    </a:moveTo>
                    <a:lnTo>
                      <a:pt x="336" y="0"/>
                    </a:lnTo>
                    <a:lnTo>
                      <a:pt x="480" y="48"/>
                    </a:lnTo>
                    <a:lnTo>
                      <a:pt x="144" y="192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99ccff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309840" y="5918040"/>
                <a:ext cx="1967040" cy="762120"/>
              </a:xfrm>
              <a:custGeom>
                <a:avLst/>
                <a:gdLst/>
                <a:ahLst/>
                <a:rect l="l" t="t" r="r" b="b"/>
                <a:pathLst>
                  <a:path w="1200" h="288">
                    <a:moveTo>
                      <a:pt x="192" y="0"/>
                    </a:moveTo>
                    <a:lnTo>
                      <a:pt x="0" y="96"/>
                    </a:lnTo>
                    <a:lnTo>
                      <a:pt x="1056" y="288"/>
                    </a:lnTo>
                    <a:lnTo>
                      <a:pt x="1200" y="192"/>
                    </a:lnTo>
                    <a:lnTo>
                      <a:pt x="192" y="0"/>
                    </a:lnTo>
                    <a:close/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3724200" y="5410080"/>
                <a:ext cx="309600" cy="1905120"/>
              </a:xfrm>
              <a:custGeom>
                <a:avLst/>
                <a:gdLst/>
                <a:ahLst/>
                <a:rect l="l" t="t" r="r" b="b"/>
                <a:pathLst>
                  <a:path w="192" h="720">
                    <a:moveTo>
                      <a:pt x="192" y="0"/>
                    </a:moveTo>
                    <a:lnTo>
                      <a:pt x="0" y="96"/>
                    </a:lnTo>
                    <a:lnTo>
                      <a:pt x="0" y="720"/>
                    </a:lnTo>
                    <a:lnTo>
                      <a:pt x="192" y="624"/>
                    </a:lnTo>
                    <a:lnTo>
                      <a:pt x="192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3517920" y="6426360"/>
                <a:ext cx="1035000" cy="507960"/>
              </a:xfrm>
              <a:custGeom>
                <a:avLst/>
                <a:gdLst/>
                <a:ahLst/>
                <a:rect l="l" t="t" r="r" b="b"/>
                <a:pathLst>
                  <a:path w="480" h="192">
                    <a:moveTo>
                      <a:pt x="336" y="0"/>
                    </a:moveTo>
                    <a:lnTo>
                      <a:pt x="0" y="144"/>
                    </a:lnTo>
                    <a:lnTo>
                      <a:pt x="144" y="192"/>
                    </a:lnTo>
                    <a:lnTo>
                      <a:pt x="480" y="48"/>
                    </a:lnTo>
                    <a:lnTo>
                      <a:pt x="336" y="0"/>
                    </a:lnTo>
                    <a:close/>
                  </a:path>
                </a:pathLst>
              </a:custGeom>
              <a:solidFill>
                <a:srgbClr val="99ccff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flipV="1">
                <a:off x="3776760" y="6392880"/>
                <a:ext cx="206280" cy="130320"/>
              </a:xfrm>
              <a:prstGeom prst="line">
                <a:avLst/>
              </a:prstGeom>
              <a:ln w="15840">
                <a:solidFill>
                  <a:srgbClr val="333333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2" name=""/>
            <p:cNvGrpSpPr/>
            <p:nvPr/>
          </p:nvGrpSpPr>
          <p:grpSpPr>
            <a:xfrm>
              <a:off x="5756400" y="5410080"/>
              <a:ext cx="2320920" cy="1905120"/>
              <a:chOff x="5756400" y="5410080"/>
              <a:chExt cx="2320920" cy="1905120"/>
            </a:xfrm>
          </p:grpSpPr>
          <p:sp>
            <p:nvSpPr>
              <p:cNvPr id="273" name=""/>
              <p:cNvSpPr/>
              <p:nvPr/>
            </p:nvSpPr>
            <p:spPr>
              <a:xfrm>
                <a:off x="5756400" y="5983200"/>
                <a:ext cx="990360" cy="484200"/>
              </a:xfrm>
              <a:custGeom>
                <a:avLst/>
                <a:gdLst/>
                <a:ahLst/>
                <a:rect l="l" t="t" r="r" b="b"/>
                <a:pathLst>
                  <a:path w="576" h="192">
                    <a:moveTo>
                      <a:pt x="576" y="0"/>
                    </a:moveTo>
                    <a:lnTo>
                      <a:pt x="48" y="48"/>
                    </a:lnTo>
                    <a:lnTo>
                      <a:pt x="0" y="192"/>
                    </a:lnTo>
                    <a:lnTo>
                      <a:pt x="576" y="144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6097680" y="5410080"/>
                <a:ext cx="1649160" cy="1905120"/>
              </a:xfrm>
              <a:custGeom>
                <a:avLst/>
                <a:gdLst/>
                <a:ahLst/>
                <a:rect l="l" t="t" r="r" b="b"/>
                <a:pathLst>
                  <a:path w="960" h="864">
                    <a:moveTo>
                      <a:pt x="192" y="192"/>
                    </a:moveTo>
                    <a:lnTo>
                      <a:pt x="0" y="240"/>
                    </a:lnTo>
                    <a:lnTo>
                      <a:pt x="0" y="864"/>
                    </a:lnTo>
                    <a:lnTo>
                      <a:pt x="960" y="624"/>
                    </a:lnTo>
                    <a:lnTo>
                      <a:pt x="960" y="0"/>
                    </a:lnTo>
                    <a:lnTo>
                      <a:pt x="768" y="48"/>
                    </a:lnTo>
                    <a:lnTo>
                      <a:pt x="768" y="432"/>
                    </a:lnTo>
                    <a:lnTo>
                      <a:pt x="192" y="576"/>
                    </a:lnTo>
                    <a:lnTo>
                      <a:pt x="192" y="192"/>
                    </a:lnTo>
                    <a:close/>
                  </a:path>
                </a:pathLst>
              </a:custGeom>
              <a:solidFill>
                <a:srgbClr val="99ccff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6427800" y="5834160"/>
                <a:ext cx="1649520" cy="552240"/>
              </a:xfrm>
              <a:custGeom>
                <a:avLst/>
                <a:gdLst/>
                <a:ahLst/>
                <a:rect l="l" t="t" r="r" b="b"/>
                <a:pathLst>
                  <a:path w="960" h="288">
                    <a:moveTo>
                      <a:pt x="0" y="96"/>
                    </a:moveTo>
                    <a:lnTo>
                      <a:pt x="960" y="0"/>
                    </a:lnTo>
                    <a:lnTo>
                      <a:pt x="912" y="192"/>
                    </a:lnTo>
                    <a:lnTo>
                      <a:pt x="0" y="288"/>
                    </a:ln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6912000" y="5961240"/>
                <a:ext cx="1440" cy="368280"/>
              </a:xfrm>
              <a:prstGeom prst="line">
                <a:avLst/>
              </a:prstGeom>
              <a:ln w="15840">
                <a:solidFill>
                  <a:srgbClr val="333333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314004"/>
                </a:solidFill>
                <a:latin typeface="Arial"/>
              </a:rPr>
              <a:t>Método de partición binaria del espacio (BSP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6840" y="150192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termina la visibilidad de los objetos pintando las caras desde la más profunda hasta la más cercana (parecido al algoritmo del pintor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entificar superficies(polígonos)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fuer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dentro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del plano de parti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vidir los objetos intersectados por el plano si es necesar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1620000" y="4494240"/>
            <a:ext cx="2858040" cy="2364120"/>
            <a:chOff x="1620000" y="4494240"/>
            <a:chExt cx="2858040" cy="2364120"/>
          </a:xfrm>
        </p:grpSpPr>
        <p:sp>
          <p:nvSpPr>
            <p:cNvPr id="280" name=""/>
            <p:cNvSpPr/>
            <p:nvPr/>
          </p:nvSpPr>
          <p:spPr>
            <a:xfrm>
              <a:off x="1724040" y="5637240"/>
              <a:ext cx="1143000" cy="914400"/>
            </a:xfrm>
            <a:custGeom>
              <a:avLst/>
              <a:gdLst/>
              <a:ahLst/>
              <a:rect l="l" t="t" r="r" b="b"/>
              <a:pathLst>
                <a:path w="720" h="672">
                  <a:moveTo>
                    <a:pt x="0" y="96"/>
                  </a:moveTo>
                  <a:lnTo>
                    <a:pt x="432" y="0"/>
                  </a:lnTo>
                  <a:lnTo>
                    <a:pt x="720" y="672"/>
                  </a:lnTo>
                  <a:lnTo>
                    <a:pt x="0" y="96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562120" y="5103720"/>
              <a:ext cx="685800" cy="304920"/>
            </a:xfrm>
            <a:custGeom>
              <a:avLst/>
              <a:gdLst/>
              <a:ahLst/>
              <a:rect l="l" t="t" r="r" b="b"/>
              <a:pathLst>
                <a:path w="432" h="288">
                  <a:moveTo>
                    <a:pt x="0" y="192"/>
                  </a:moveTo>
                  <a:lnTo>
                    <a:pt x="384" y="288"/>
                  </a:lnTo>
                  <a:lnTo>
                    <a:pt x="432" y="48"/>
                  </a:lnTo>
                  <a:lnTo>
                    <a:pt x="192" y="0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994200" y="5180040"/>
              <a:ext cx="228600" cy="228600"/>
            </a:xfrm>
            <a:prstGeom prst="ellips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013120" y="4799160"/>
              <a:ext cx="1447560" cy="1904760"/>
            </a:xfrm>
            <a:prstGeom prst="line">
              <a:avLst/>
            </a:prstGeom>
            <a:ln w="19080">
              <a:solidFill>
                <a:srgbClr val="efa0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2013120" y="4719240"/>
              <a:ext cx="1904760" cy="1987560"/>
            </a:xfrm>
            <a:prstGeom prst="line">
              <a:avLst/>
            </a:prstGeom>
            <a:ln w="19080">
              <a:solidFill>
                <a:srgbClr val="efa0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>
              <a:off x="1835280" y="4873680"/>
              <a:ext cx="234720" cy="152280"/>
            </a:xfrm>
            <a:prstGeom prst="line">
              <a:avLst/>
            </a:prstGeom>
            <a:ln w="9360">
              <a:solidFill>
                <a:srgbClr val="efa0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 flipV="1">
              <a:off x="3619080" y="4719240"/>
              <a:ext cx="158760" cy="158760"/>
            </a:xfrm>
            <a:prstGeom prst="line">
              <a:avLst/>
            </a:prstGeom>
            <a:ln w="9360">
              <a:solidFill>
                <a:srgbClr val="efa0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753920" y="4522680"/>
              <a:ext cx="327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Microsoft Sans Serif"/>
                  <a:ea typeface="새굴림"/>
                </a:rPr>
                <a:t>P</a:t>
              </a:r>
              <a:r>
                <a:rPr b="1" lang="en-US" sz="1200" spc="-1" strike="noStrike" baseline="-25000">
                  <a:solidFill>
                    <a:srgbClr val="333333"/>
                  </a:solidFill>
                  <a:latin typeface="Microsoft Sans Serif"/>
                  <a:ea typeface="새굴림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859200" y="4494240"/>
              <a:ext cx="327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Microsoft Sans Serif"/>
                  <a:ea typeface="새굴림"/>
                </a:rPr>
                <a:t>P</a:t>
              </a:r>
              <a:r>
                <a:rPr b="1" lang="en-US" sz="1200" spc="-1" strike="noStrike" baseline="-25000">
                  <a:solidFill>
                    <a:srgbClr val="333333"/>
                  </a:solidFill>
                  <a:latin typeface="Microsoft Sans Serif"/>
                  <a:ea typeface="새굴림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885040" y="4905360"/>
              <a:ext cx="278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Microsoft Sans Serif"/>
                  <a:ea typeface="새굴림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184640" y="5133960"/>
              <a:ext cx="29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Microsoft Sans Serif"/>
                  <a:ea typeface="새굴림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876320" y="5438880"/>
              <a:ext cx="285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Microsoft Sans Serif"/>
                  <a:ea typeface="새굴림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748600" y="624672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Microsoft Sans Serif"/>
                  <a:ea typeface="새굴림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620000" y="6399360"/>
              <a:ext cx="56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Microsoft Sans Serif"/>
                  <a:ea typeface="새굴림"/>
                </a:rPr>
                <a:t>fro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963160" y="6581880"/>
              <a:ext cx="56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Microsoft Sans Serif"/>
                  <a:ea typeface="새굴림"/>
                </a:rPr>
                <a:t>fro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023560" y="6551640"/>
              <a:ext cx="540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Microsoft Sans Serif"/>
                  <a:ea typeface="새굴림"/>
                </a:rPr>
                <a:t>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395160" y="6475320"/>
              <a:ext cx="540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Microsoft Sans Serif"/>
                  <a:ea typeface="새굴림"/>
                </a:rPr>
                <a:t>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" name=""/>
          <p:cNvGrpSpPr/>
          <p:nvPr/>
        </p:nvGrpSpPr>
        <p:grpSpPr>
          <a:xfrm>
            <a:off x="5322960" y="4184280"/>
            <a:ext cx="3029040" cy="2864520"/>
            <a:chOff x="5322960" y="4184280"/>
            <a:chExt cx="3029040" cy="2864520"/>
          </a:xfrm>
        </p:grpSpPr>
        <p:sp>
          <p:nvSpPr>
            <p:cNvPr id="298" name=""/>
            <p:cNvSpPr/>
            <p:nvPr/>
          </p:nvSpPr>
          <p:spPr>
            <a:xfrm>
              <a:off x="6662520" y="4570560"/>
              <a:ext cx="327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Microsoft Sans Serif"/>
                  <a:ea typeface="새굴림"/>
                </a:rPr>
                <a:t>P</a:t>
              </a:r>
              <a:r>
                <a:rPr b="1" lang="en-US" sz="1200" spc="-1" strike="noStrike" baseline="-25000">
                  <a:solidFill>
                    <a:srgbClr val="333333"/>
                  </a:solidFill>
                  <a:latin typeface="Microsoft Sans Serif"/>
                  <a:ea typeface="새굴림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951520" y="5645160"/>
              <a:ext cx="327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Microsoft Sans Serif"/>
                  <a:ea typeface="새굴림"/>
                </a:rPr>
                <a:t>P</a:t>
              </a:r>
              <a:r>
                <a:rPr b="1" lang="en-US" sz="1200" spc="-1" strike="noStrike" baseline="-25000">
                  <a:solidFill>
                    <a:srgbClr val="333333"/>
                  </a:solidFill>
                  <a:latin typeface="Microsoft Sans Serif"/>
                  <a:ea typeface="새굴림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421400" y="5645160"/>
              <a:ext cx="327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Microsoft Sans Serif"/>
                  <a:ea typeface="새굴림"/>
                </a:rPr>
                <a:t>P</a:t>
              </a:r>
              <a:r>
                <a:rPr b="1" lang="en-US" sz="1200" spc="-1" strike="noStrike" baseline="-25000">
                  <a:solidFill>
                    <a:srgbClr val="333333"/>
                  </a:solidFill>
                  <a:latin typeface="Microsoft Sans Serif"/>
                  <a:ea typeface="새굴림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628960" y="6772320"/>
              <a:ext cx="285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Microsoft Sans Serif"/>
                  <a:ea typeface="새굴림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300360" y="6772320"/>
              <a:ext cx="278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Microsoft Sans Serif"/>
                  <a:ea typeface="새굴림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102080" y="677232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Microsoft Sans Serif"/>
                  <a:ea typeface="새굴림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762680" y="6772320"/>
              <a:ext cx="29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Microsoft Sans Serif"/>
                  <a:ea typeface="새굴림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956560" y="5035680"/>
              <a:ext cx="56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2396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Microsoft Sans Serif"/>
                  <a:ea typeface="새굴림"/>
                </a:rPr>
                <a:t>fro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06" name=""/>
            <p:cNvCxnSpPr>
              <a:stCxn id="298" idx="2"/>
              <a:endCxn id="299" idx="0"/>
            </p:cNvCxnSpPr>
            <p:nvPr/>
          </p:nvCxnSpPr>
          <p:spPr>
            <a:xfrm flipH="1">
              <a:off x="5403240" y="4184280"/>
              <a:ext cx="711720" cy="732600"/>
            </a:xfrm>
            <a:prstGeom prst="straightConnector1">
              <a:avLst/>
            </a:prstGeom>
            <a:ln w="19080">
              <a:solidFill>
                <a:srgbClr val="006699"/>
              </a:solidFill>
              <a:miter/>
            </a:ln>
          </p:spPr>
        </p:cxnSp>
        <p:cxnSp>
          <p:nvCxnSpPr>
            <p:cNvPr id="307" name=""/>
            <p:cNvCxnSpPr>
              <a:stCxn id="298" idx="2"/>
              <a:endCxn id="300" idx="0"/>
            </p:cNvCxnSpPr>
            <p:nvPr/>
          </p:nvCxnSpPr>
          <p:spPr>
            <a:xfrm>
              <a:off x="6067440" y="4184280"/>
              <a:ext cx="759600" cy="732600"/>
            </a:xfrm>
            <a:prstGeom prst="straightConnector1">
              <a:avLst/>
            </a:prstGeom>
            <a:ln w="19080">
              <a:solidFill>
                <a:srgbClr val="006699"/>
              </a:solidFill>
              <a:miter/>
            </a:ln>
          </p:spPr>
        </p:cxnSp>
        <p:cxnSp>
          <p:nvCxnSpPr>
            <p:cNvPr id="308" name=""/>
            <p:cNvCxnSpPr>
              <a:stCxn id="299" idx="2"/>
              <a:endCxn id="301" idx="0"/>
            </p:cNvCxnSpPr>
            <p:nvPr/>
          </p:nvCxnSpPr>
          <p:spPr>
            <a:xfrm flipH="1">
              <a:off x="5428440" y="5204880"/>
              <a:ext cx="343800" cy="785160"/>
            </a:xfrm>
            <a:prstGeom prst="straightConnector1">
              <a:avLst/>
            </a:prstGeom>
            <a:ln w="19080">
              <a:solidFill>
                <a:srgbClr val="006699"/>
              </a:solidFill>
              <a:miter/>
            </a:ln>
          </p:spPr>
        </p:cxnSp>
        <p:cxnSp>
          <p:nvCxnSpPr>
            <p:cNvPr id="309" name=""/>
            <p:cNvCxnSpPr>
              <a:stCxn id="299" idx="2"/>
              <a:endCxn id="302" idx="0"/>
            </p:cNvCxnSpPr>
            <p:nvPr/>
          </p:nvCxnSpPr>
          <p:spPr>
            <a:xfrm>
              <a:off x="5791320" y="5204880"/>
              <a:ext cx="326160" cy="785160"/>
            </a:xfrm>
            <a:prstGeom prst="straightConnector1">
              <a:avLst/>
            </a:prstGeom>
            <a:ln w="19080">
              <a:solidFill>
                <a:srgbClr val="006699"/>
              </a:solidFill>
              <a:miter/>
            </a:ln>
          </p:spPr>
        </p:cxnSp>
        <p:cxnSp>
          <p:nvCxnSpPr>
            <p:cNvPr id="310" name=""/>
            <p:cNvCxnSpPr>
              <a:stCxn id="300" idx="2"/>
              <a:endCxn id="303" idx="0"/>
            </p:cNvCxnSpPr>
            <p:nvPr/>
          </p:nvCxnSpPr>
          <p:spPr>
            <a:xfrm flipH="1">
              <a:off x="6903720" y="5204880"/>
              <a:ext cx="342000" cy="785160"/>
            </a:xfrm>
            <a:prstGeom prst="straightConnector1">
              <a:avLst/>
            </a:prstGeom>
            <a:ln w="19080">
              <a:solidFill>
                <a:srgbClr val="006699"/>
              </a:solidFill>
              <a:miter/>
            </a:ln>
          </p:spPr>
        </p:cxnSp>
        <p:cxnSp>
          <p:nvCxnSpPr>
            <p:cNvPr id="311" name=""/>
            <p:cNvCxnSpPr>
              <a:stCxn id="300" idx="2"/>
              <a:endCxn id="304" idx="0"/>
            </p:cNvCxnSpPr>
            <p:nvPr/>
          </p:nvCxnSpPr>
          <p:spPr>
            <a:xfrm>
              <a:off x="7261200" y="5204880"/>
              <a:ext cx="324720" cy="785160"/>
            </a:xfrm>
            <a:prstGeom prst="straightConnector1">
              <a:avLst/>
            </a:prstGeom>
            <a:ln w="19080">
              <a:solidFill>
                <a:srgbClr val="006699"/>
              </a:solidFill>
              <a:miter/>
            </a:ln>
          </p:spPr>
        </p:cxnSp>
        <p:sp>
          <p:nvSpPr>
            <p:cNvPr id="312" name=""/>
            <p:cNvSpPr/>
            <p:nvPr/>
          </p:nvSpPr>
          <p:spPr>
            <a:xfrm>
              <a:off x="5322960" y="6121440"/>
              <a:ext cx="56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2396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Microsoft Sans Serif"/>
                  <a:ea typeface="새굴림"/>
                </a:rPr>
                <a:t>fro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769440" y="6130800"/>
              <a:ext cx="56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2396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Microsoft Sans Serif"/>
                  <a:ea typeface="새굴림"/>
                </a:rPr>
                <a:t>fro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235280" y="5035680"/>
              <a:ext cx="540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2396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Microsoft Sans Serif"/>
                  <a:ea typeface="새굴림"/>
                </a:rPr>
                <a:t>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328800" y="6121440"/>
              <a:ext cx="540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2396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Microsoft Sans Serif"/>
                  <a:ea typeface="새굴림"/>
                </a:rPr>
                <a:t>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811640" y="6130800"/>
              <a:ext cx="540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2396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Microsoft Sans Serif"/>
                  <a:ea typeface="새굴림"/>
                </a:rPr>
                <a:t>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>
              <a:off x="7324560" y="6921360"/>
              <a:ext cx="447840" cy="18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>
              <a:off x="6527520" y="6921360"/>
              <a:ext cx="595080" cy="18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5841720" y="6921360"/>
              <a:ext cx="447480" cy="18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314004"/>
                </a:solidFill>
                <a:latin typeface="Arial"/>
              </a:rPr>
              <a:t>Método de subdivisión de áre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9071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 fontScale="99000"/>
          </a:bodyPr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ca ventaja de las coherencia de áre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ndo áreas visibles que representan una parte de una única superfic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iendo sucesivamente el área de viewing en rectángulos pequeñ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565000" indent="-42588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sta que cada área es la proyección de una sola superficie o de ningun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é  problemas que hay resolver (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ests de identificació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565000" indent="-42588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entificar un área con una superfici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2565000" indent="-42588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entificar si el área es demasiado compleja de analiz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qué estructura se pare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314004"/>
                </a:solidFill>
                <a:latin typeface="Arial"/>
              </a:rPr>
              <a:t>Método de subdivisión de áreas:algoritm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ilar a construir un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quadt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enzando con la vista comple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licar los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tests de identifica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 los tests indican que la vista dentro de un área es lo suficientemente comple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bdividi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licar ls tests a cada área más pequeñ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sta que contenga una sola superfici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sta que su tamaño sea de  un único pix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jemplo: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con resolución 1024x1024, si se divide  10 veces, el tamaño de cada área es de un pix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457200" y="4876920"/>
            <a:ext cx="1828800" cy="1752480"/>
            <a:chOff x="457200" y="4876920"/>
            <a:chExt cx="1828800" cy="1752480"/>
          </a:xfrm>
        </p:grpSpPr>
        <p:sp>
          <p:nvSpPr>
            <p:cNvPr id="325" name=""/>
            <p:cNvSpPr/>
            <p:nvPr/>
          </p:nvSpPr>
          <p:spPr>
            <a:xfrm>
              <a:off x="457200" y="4876920"/>
              <a:ext cx="1828800" cy="1752480"/>
            </a:xfrm>
            <a:prstGeom prst="rect">
              <a:avLst/>
            </a:prstGeom>
            <a:noFill/>
            <a:ln w="1908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371600" y="4876920"/>
              <a:ext cx="1440" cy="1752480"/>
            </a:xfrm>
            <a:prstGeom prst="line">
              <a:avLst/>
            </a:prstGeom>
            <a:ln w="1908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57200" y="5715000"/>
              <a:ext cx="1828800" cy="1440"/>
            </a:xfrm>
            <a:prstGeom prst="line">
              <a:avLst/>
            </a:prstGeom>
            <a:ln w="1908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828800" y="5715000"/>
              <a:ext cx="1440" cy="914400"/>
            </a:xfrm>
            <a:prstGeom prst="line">
              <a:avLst/>
            </a:prstGeom>
            <a:ln w="1908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371600" y="6172200"/>
              <a:ext cx="914400" cy="1440"/>
            </a:xfrm>
            <a:prstGeom prst="line">
              <a:avLst/>
            </a:prstGeom>
            <a:ln w="1908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057400" y="6172200"/>
              <a:ext cx="1440" cy="457200"/>
            </a:xfrm>
            <a:prstGeom prst="line">
              <a:avLst/>
            </a:prstGeom>
            <a:ln w="1908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828800" y="6400800"/>
              <a:ext cx="457200" cy="1440"/>
            </a:xfrm>
            <a:prstGeom prst="line">
              <a:avLst/>
            </a:prstGeom>
            <a:ln w="1908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314004"/>
                </a:solidFill>
                <a:latin typeface="Arial"/>
              </a:rPr>
              <a:t>Método de subdivisión de áreas: tests de identificació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4378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atro posibles rel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perficie rodea áre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perficie se superpone en parte del áre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perficie dentro del áre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perficie fuera del áre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 área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no se divide s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das las superficies están fuera del áre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iste solo una superficie rodeando, superpuesta parcialmento o dentro del áre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a superficie que rodea el área oculta todas las demás que la intersect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6629400" y="1143000"/>
            <a:ext cx="1600200" cy="1295280"/>
            <a:chOff x="6629400" y="1143000"/>
            <a:chExt cx="1600200" cy="1295280"/>
          </a:xfrm>
        </p:grpSpPr>
        <p:sp>
          <p:nvSpPr>
            <p:cNvPr id="335" name=""/>
            <p:cNvSpPr/>
            <p:nvPr/>
          </p:nvSpPr>
          <p:spPr>
            <a:xfrm>
              <a:off x="6629400" y="1143000"/>
              <a:ext cx="1600200" cy="1295280"/>
            </a:xfrm>
            <a:custGeom>
              <a:avLst/>
              <a:gdLst/>
              <a:ahLst/>
              <a:rect l="l" t="t" r="r" b="b"/>
              <a:pathLst>
                <a:path w="1056" h="816">
                  <a:moveTo>
                    <a:pt x="528" y="0"/>
                  </a:moveTo>
                  <a:lnTo>
                    <a:pt x="816" y="0"/>
                  </a:lnTo>
                  <a:lnTo>
                    <a:pt x="1056" y="672"/>
                  </a:lnTo>
                  <a:lnTo>
                    <a:pt x="720" y="816"/>
                  </a:lnTo>
                  <a:lnTo>
                    <a:pt x="192" y="672"/>
                  </a:lnTo>
                  <a:lnTo>
                    <a:pt x="0" y="288"/>
                  </a:lnTo>
                  <a:lnTo>
                    <a:pt x="528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162920" y="1447920"/>
              <a:ext cx="761760" cy="76176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8763120" y="2057400"/>
            <a:ext cx="1066680" cy="1143000"/>
            <a:chOff x="8763120" y="2057400"/>
            <a:chExt cx="1066680" cy="1143000"/>
          </a:xfrm>
        </p:grpSpPr>
        <p:sp>
          <p:nvSpPr>
            <p:cNvPr id="338" name=""/>
            <p:cNvSpPr/>
            <p:nvPr/>
          </p:nvSpPr>
          <p:spPr>
            <a:xfrm>
              <a:off x="8763120" y="2209680"/>
              <a:ext cx="761760" cy="76212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9144000" y="2057400"/>
              <a:ext cx="685800" cy="1143000"/>
            </a:xfrm>
            <a:custGeom>
              <a:avLst/>
              <a:gdLst/>
              <a:ahLst/>
              <a:rect l="l" t="t" r="r" b="b"/>
              <a:pathLst>
                <a:path w="432" h="720">
                  <a:moveTo>
                    <a:pt x="192" y="0"/>
                  </a:moveTo>
                  <a:lnTo>
                    <a:pt x="0" y="624"/>
                  </a:lnTo>
                  <a:lnTo>
                    <a:pt x="240" y="720"/>
                  </a:lnTo>
                  <a:lnTo>
                    <a:pt x="432" y="336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6781680" y="2971800"/>
            <a:ext cx="762120" cy="762120"/>
            <a:chOff x="6781680" y="2971800"/>
            <a:chExt cx="762120" cy="762120"/>
          </a:xfrm>
        </p:grpSpPr>
        <p:sp>
          <p:nvSpPr>
            <p:cNvPr id="341" name=""/>
            <p:cNvSpPr/>
            <p:nvPr/>
          </p:nvSpPr>
          <p:spPr>
            <a:xfrm>
              <a:off x="6781680" y="2971800"/>
              <a:ext cx="762120" cy="76212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 rot="480000">
              <a:off x="7088040" y="3198960"/>
              <a:ext cx="228600" cy="304560"/>
            </a:xfrm>
            <a:custGeom>
              <a:avLst/>
              <a:gdLst/>
              <a:ahLst/>
              <a:rect l="l" t="t" r="r" b="b"/>
              <a:pathLst>
                <a:path w="144" h="192">
                  <a:moveTo>
                    <a:pt x="0" y="48"/>
                  </a:moveTo>
                  <a:lnTo>
                    <a:pt x="144" y="0"/>
                  </a:lnTo>
                  <a:lnTo>
                    <a:pt x="96" y="144"/>
                  </a:lnTo>
                  <a:lnTo>
                    <a:pt x="0" y="192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8458200" y="3886200"/>
            <a:ext cx="952560" cy="914400"/>
            <a:chOff x="8458200" y="3886200"/>
            <a:chExt cx="952560" cy="914400"/>
          </a:xfrm>
        </p:grpSpPr>
        <p:sp>
          <p:nvSpPr>
            <p:cNvPr id="344" name=""/>
            <p:cNvSpPr/>
            <p:nvPr/>
          </p:nvSpPr>
          <p:spPr>
            <a:xfrm>
              <a:off x="8458200" y="4038480"/>
              <a:ext cx="762120" cy="76212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9220320" y="3886200"/>
              <a:ext cx="190440" cy="171360"/>
            </a:xfrm>
            <a:custGeom>
              <a:avLst/>
              <a:gdLst/>
              <a:ahLst/>
              <a:rect l="l" t="t" r="r" b="b"/>
              <a:pathLst>
                <a:path w="384" h="288">
                  <a:moveTo>
                    <a:pt x="0" y="192"/>
                  </a:moveTo>
                  <a:lnTo>
                    <a:pt x="192" y="288"/>
                  </a:lnTo>
                  <a:lnTo>
                    <a:pt x="384" y="192"/>
                  </a:lnTo>
                  <a:lnTo>
                    <a:pt x="0" y="0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8178840" y="1370160"/>
            <a:ext cx="1137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Microsoft Sans Serif"/>
                <a:ea typeface="새굴림"/>
              </a:rPr>
              <a:t>Surroun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Microsoft Sans Serif"/>
                <a:ea typeface="새굴림"/>
              </a:rPr>
              <a:t>Su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8512200" y="3198960"/>
            <a:ext cx="1122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Microsoft Sans Serif"/>
                <a:ea typeface="새굴림"/>
              </a:rPr>
              <a:t>Overlapp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Microsoft Sans Serif"/>
                <a:ea typeface="새굴림"/>
              </a:rPr>
              <a:t>Su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801400" y="3427560"/>
            <a:ext cx="752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Microsoft Sans Serif"/>
                <a:ea typeface="새굴림"/>
              </a:rPr>
              <a:t>In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Microsoft Sans Serif"/>
                <a:ea typeface="새굴림"/>
              </a:rPr>
              <a:t>Su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7578720" y="4114800"/>
            <a:ext cx="777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Microsoft Sans Serif"/>
                <a:ea typeface="새굴림"/>
              </a:rPr>
              <a:t>Out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Microsoft Sans Serif"/>
                <a:ea typeface="새굴림"/>
              </a:rPr>
              <a:t>Su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314004"/>
                </a:solidFill>
                <a:latin typeface="Arial"/>
              </a:rPr>
              <a:t>Método de subdivisión basado en octre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914040" y="137160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tensión del método de división de áre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 proyectan los nodos en el view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rden desde adelante hacia atrás (se recorren encuentran y analizan primero las superficies menos profund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s nodos de los primeros octantes son visitados primero que los nodos posterio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A un pixel se le asigna el color de la superficie que se encuentra en el primer nodo que le correspon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4395240" y="4903920"/>
            <a:ext cx="4158000" cy="2182680"/>
            <a:chOff x="4395240" y="4903920"/>
            <a:chExt cx="4158000" cy="2182680"/>
          </a:xfrm>
        </p:grpSpPr>
        <p:sp>
          <p:nvSpPr>
            <p:cNvPr id="353" name=""/>
            <p:cNvSpPr/>
            <p:nvPr/>
          </p:nvSpPr>
          <p:spPr>
            <a:xfrm>
              <a:off x="6580080" y="5699160"/>
              <a:ext cx="1800" cy="1387440"/>
            </a:xfrm>
            <a:prstGeom prst="line">
              <a:avLst/>
            </a:prstGeom>
            <a:ln w="1908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672320" y="5479920"/>
              <a:ext cx="1800" cy="1387440"/>
            </a:xfrm>
            <a:prstGeom prst="line">
              <a:avLst/>
            </a:prstGeom>
            <a:ln w="1908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55" name=""/>
            <p:cNvCxnSpPr/>
            <p:nvPr/>
          </p:nvCxnSpPr>
          <p:spPr>
            <a:xfrm flipV="1">
              <a:off x="5487480" y="6649200"/>
              <a:ext cx="1094760" cy="219960"/>
            </a:xfrm>
            <a:prstGeom prst="straightConnector1">
              <a:avLst/>
            </a:prstGeom>
            <a:ln w="19080">
              <a:solidFill>
                <a:srgbClr val="006699"/>
              </a:solidFill>
              <a:miter/>
            </a:ln>
          </p:spPr>
        </p:cxnSp>
        <p:cxnSp>
          <p:nvCxnSpPr>
            <p:cNvPr id="356" name=""/>
            <p:cNvCxnSpPr/>
            <p:nvPr/>
          </p:nvCxnSpPr>
          <p:spPr>
            <a:xfrm flipH="1">
              <a:off x="5487480" y="6649560"/>
              <a:ext cx="1092960" cy="219960"/>
            </a:xfrm>
            <a:prstGeom prst="straightConnector1">
              <a:avLst/>
            </a:prstGeom>
            <a:ln w="19080">
              <a:solidFill>
                <a:srgbClr val="006699"/>
              </a:solidFill>
              <a:miter/>
            </a:ln>
          </p:spPr>
        </p:cxnSp>
        <p:sp>
          <p:nvSpPr>
            <p:cNvPr id="357" name=""/>
            <p:cNvSpPr/>
            <p:nvPr/>
          </p:nvSpPr>
          <p:spPr>
            <a:xfrm>
              <a:off x="7135920" y="5591160"/>
              <a:ext cx="1440" cy="1387440"/>
            </a:xfrm>
            <a:prstGeom prst="line">
              <a:avLst/>
            </a:prstGeom>
            <a:ln w="1908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487840" y="5479920"/>
              <a:ext cx="1800" cy="1387440"/>
            </a:xfrm>
            <a:prstGeom prst="line">
              <a:avLst/>
            </a:prstGeom>
            <a:ln w="1908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59" name=""/>
            <p:cNvCxnSpPr/>
            <p:nvPr/>
          </p:nvCxnSpPr>
          <p:spPr>
            <a:xfrm>
              <a:off x="4395600" y="6649560"/>
              <a:ext cx="1092600" cy="219960"/>
            </a:xfrm>
            <a:prstGeom prst="straightConnector1">
              <a:avLst/>
            </a:prstGeom>
            <a:ln w="19080">
              <a:solidFill>
                <a:srgbClr val="006699"/>
              </a:solidFill>
              <a:miter/>
            </a:ln>
          </p:spPr>
        </p:cxnSp>
        <p:cxnSp>
          <p:nvCxnSpPr>
            <p:cNvPr id="360" name=""/>
            <p:cNvCxnSpPr/>
            <p:nvPr/>
          </p:nvCxnSpPr>
          <p:spPr>
            <a:xfrm flipH="1" flipV="1">
              <a:off x="4395240" y="6649200"/>
              <a:ext cx="1092600" cy="219960"/>
            </a:xfrm>
            <a:prstGeom prst="straightConnector1">
              <a:avLst/>
            </a:prstGeom>
            <a:ln w="19080">
              <a:solidFill>
                <a:srgbClr val="006699"/>
              </a:solidFill>
              <a:miter/>
            </a:ln>
          </p:spPr>
        </p:cxnSp>
        <p:sp>
          <p:nvSpPr>
            <p:cNvPr id="361" name=""/>
            <p:cNvSpPr/>
            <p:nvPr/>
          </p:nvSpPr>
          <p:spPr>
            <a:xfrm>
              <a:off x="6024600" y="5591160"/>
              <a:ext cx="1440" cy="1387440"/>
            </a:xfrm>
            <a:prstGeom prst="line">
              <a:avLst/>
            </a:prstGeom>
            <a:ln w="1908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62" name=""/>
            <p:cNvCxnSpPr/>
            <p:nvPr/>
          </p:nvCxnSpPr>
          <p:spPr>
            <a:xfrm flipH="1" flipV="1">
              <a:off x="5487480" y="5043240"/>
              <a:ext cx="1092960" cy="219600"/>
            </a:xfrm>
            <a:prstGeom prst="straightConnector1">
              <a:avLst/>
            </a:prstGeom>
            <a:ln w="19080">
              <a:solidFill>
                <a:srgbClr val="006699"/>
              </a:solidFill>
              <a:miter/>
            </a:ln>
          </p:spPr>
        </p:cxnSp>
        <p:cxnSp>
          <p:nvCxnSpPr>
            <p:cNvPr id="363" name=""/>
            <p:cNvCxnSpPr/>
            <p:nvPr/>
          </p:nvCxnSpPr>
          <p:spPr>
            <a:xfrm flipH="1">
              <a:off x="4395240" y="5043240"/>
              <a:ext cx="1092600" cy="221400"/>
            </a:xfrm>
            <a:prstGeom prst="straightConnector1">
              <a:avLst/>
            </a:prstGeom>
            <a:ln w="19080">
              <a:solidFill>
                <a:srgbClr val="006699"/>
              </a:solidFill>
              <a:miter/>
            </a:ln>
          </p:spPr>
        </p:cxnSp>
        <p:sp>
          <p:nvSpPr>
            <p:cNvPr id="364" name=""/>
            <p:cNvSpPr/>
            <p:nvPr/>
          </p:nvSpPr>
          <p:spPr>
            <a:xfrm flipV="1">
              <a:off x="6580080" y="6208200"/>
              <a:ext cx="1092240" cy="225720"/>
            </a:xfrm>
            <a:prstGeom prst="line">
              <a:avLst/>
            </a:prstGeom>
            <a:ln w="1908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 flipV="1">
              <a:off x="6024600" y="5367240"/>
              <a:ext cx="1092240" cy="225360"/>
            </a:xfrm>
            <a:prstGeom prst="line">
              <a:avLst/>
            </a:prstGeom>
            <a:ln w="1908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 flipV="1">
              <a:off x="5484600" y="6208200"/>
              <a:ext cx="1098360" cy="225720"/>
            </a:xfrm>
            <a:prstGeom prst="line">
              <a:avLst/>
            </a:prstGeom>
            <a:ln w="1908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 flipH="1" flipV="1">
              <a:off x="6040440" y="5367240"/>
              <a:ext cx="1098720" cy="225360"/>
            </a:xfrm>
            <a:prstGeom prst="line">
              <a:avLst/>
            </a:prstGeom>
            <a:ln w="1908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741720" y="590220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Microsoft Sans Serif"/>
                  <a:ea typeface="새굴림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275960" y="57754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Microsoft Sans Serif"/>
                  <a:ea typeface="새굴림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731280" y="65851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Microsoft Sans Serif"/>
                  <a:ea typeface="새굴림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276680" y="648000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Microsoft Sans Serif"/>
                  <a:ea typeface="새굴림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607360" y="64897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Microsoft Sans Serif"/>
                  <a:ea typeface="새굴림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890680" y="53355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Microsoft Sans Serif"/>
                  <a:ea typeface="새굴림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468480" y="52196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Microsoft Sans Serif"/>
                  <a:ea typeface="새굴림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929640" y="4903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Microsoft Sans Serif"/>
                  <a:ea typeface="새굴림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147080" y="5094360"/>
              <a:ext cx="182520" cy="252360"/>
            </a:xfrm>
            <a:custGeom>
              <a:avLst/>
              <a:gdLst/>
              <a:ahLst/>
              <a:rect l="l" t="t" r="r" b="b"/>
              <a:pathLst>
                <a:path w="104" h="144">
                  <a:moveTo>
                    <a:pt x="0" y="0"/>
                  </a:moveTo>
                  <a:cubicBezTo>
                    <a:pt x="44" y="36"/>
                    <a:pt x="88" y="72"/>
                    <a:pt x="96" y="96"/>
                  </a:cubicBezTo>
                  <a:cubicBezTo>
                    <a:pt x="104" y="120"/>
                    <a:pt x="76" y="132"/>
                    <a:pt x="48" y="144"/>
                  </a:cubicBezTo>
                </a:path>
              </a:pathLst>
            </a:custGeom>
            <a:noFill/>
            <a:ln w="1584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7" name=""/>
            <p:cNvGrpSpPr/>
            <p:nvPr/>
          </p:nvGrpSpPr>
          <p:grpSpPr>
            <a:xfrm>
              <a:off x="7746840" y="6172200"/>
              <a:ext cx="806400" cy="193680"/>
              <a:chOff x="7746840" y="6172200"/>
              <a:chExt cx="806400" cy="193680"/>
            </a:xfrm>
          </p:grpSpPr>
          <p:grpSp>
            <p:nvGrpSpPr>
              <p:cNvPr id="378" name=""/>
              <p:cNvGrpSpPr/>
              <p:nvPr/>
            </p:nvGrpSpPr>
            <p:grpSpPr>
              <a:xfrm>
                <a:off x="8248320" y="6172200"/>
                <a:ext cx="304920" cy="193680"/>
                <a:chOff x="8248320" y="6172200"/>
                <a:chExt cx="304920" cy="193680"/>
              </a:xfrm>
            </p:grpSpPr>
            <p:grpSp>
              <p:nvGrpSpPr>
                <p:cNvPr id="379" name=""/>
                <p:cNvGrpSpPr/>
                <p:nvPr/>
              </p:nvGrpSpPr>
              <p:grpSpPr>
                <a:xfrm>
                  <a:off x="8248320" y="6172200"/>
                  <a:ext cx="304920" cy="193680"/>
                  <a:chOff x="8248320" y="6172200"/>
                  <a:chExt cx="304920" cy="193680"/>
                </a:xfrm>
              </p:grpSpPr>
              <p:sp>
                <p:nvSpPr>
                  <p:cNvPr id="380" name=""/>
                  <p:cNvSpPr/>
                  <p:nvPr/>
                </p:nvSpPr>
                <p:spPr>
                  <a:xfrm flipV="1">
                    <a:off x="8250120" y="6327720"/>
                    <a:ext cx="301680" cy="38160"/>
                  </a:xfrm>
                  <a:prstGeom prst="line">
                    <a:avLst/>
                  </a:prstGeom>
                  <a:ln w="9360">
                    <a:solidFill>
                      <a:srgbClr val="3333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" name=""/>
                  <p:cNvSpPr/>
                  <p:nvPr/>
                </p:nvSpPr>
                <p:spPr>
                  <a:xfrm flipH="1" flipV="1">
                    <a:off x="8248320" y="6172200"/>
                    <a:ext cx="304920" cy="162000"/>
                  </a:xfrm>
                  <a:prstGeom prst="line">
                    <a:avLst/>
                  </a:prstGeom>
                  <a:ln w="9360">
                    <a:solidFill>
                      <a:srgbClr val="3333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2" name=""/>
                <p:cNvSpPr/>
                <p:nvPr/>
              </p:nvSpPr>
              <p:spPr>
                <a:xfrm flipV="1" rot="1680000">
                  <a:off x="8290080" y="6222960"/>
                  <a:ext cx="64800" cy="125280"/>
                </a:xfrm>
                <a:custGeom>
                  <a:avLst/>
                  <a:gdLst/>
                  <a:ahLst/>
                  <a:rect l="l" t="t" r="r" b="b"/>
                  <a:pathLst>
                    <a:path w="56" h="144">
                      <a:moveTo>
                        <a:pt x="56" y="0"/>
                      </a:moveTo>
                      <a:cubicBezTo>
                        <a:pt x="36" y="12"/>
                        <a:pt x="16" y="24"/>
                        <a:pt x="8" y="48"/>
                      </a:cubicBezTo>
                      <a:cubicBezTo>
                        <a:pt x="0" y="72"/>
                        <a:pt x="4" y="108"/>
                        <a:pt x="8" y="144"/>
                      </a:cubicBezTo>
                    </a:path>
                  </a:pathLst>
                </a:custGeom>
                <a:noFill/>
                <a:ln w="936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3" name=""/>
              <p:cNvSpPr/>
              <p:nvPr/>
            </p:nvSpPr>
            <p:spPr>
              <a:xfrm flipH="1" flipV="1">
                <a:off x="7746840" y="6205320"/>
                <a:ext cx="457200" cy="5220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cxnSp>
        <p:nvCxnSpPr>
          <p:cNvPr id="384" name=""/>
          <p:cNvCxnSpPr/>
          <p:nvPr/>
        </p:nvCxnSpPr>
        <p:spPr>
          <a:xfrm flipH="1" flipV="1">
            <a:off x="4444560" y="5277600"/>
            <a:ext cx="1092960" cy="219960"/>
          </a:xfrm>
          <a:prstGeom prst="straightConnector1">
            <a:avLst/>
          </a:prstGeom>
          <a:ln w="19080">
            <a:solidFill>
              <a:srgbClr val="006699"/>
            </a:solidFill>
            <a:miter/>
          </a:ln>
        </p:spPr>
      </p:cxnSp>
      <p:cxnSp>
        <p:nvCxnSpPr>
          <p:cNvPr id="385" name=""/>
          <p:cNvCxnSpPr/>
          <p:nvPr/>
        </p:nvCxnSpPr>
        <p:spPr>
          <a:xfrm flipH="1">
            <a:off x="5536800" y="5277960"/>
            <a:ext cx="1092960" cy="219960"/>
          </a:xfrm>
          <a:prstGeom prst="straightConnector1">
            <a:avLst/>
          </a:prstGeom>
          <a:ln w="19080">
            <a:solidFill>
              <a:srgbClr val="006699"/>
            </a:solidFill>
            <a:miter/>
          </a:ln>
        </p:spPr>
      </p:cxn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ntenido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étodo scan-li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étodo ordenamiento en produndidad (del pintor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étodo binary space partition tree (BSP-tre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étodo basado en subdivisión de áre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étodo basdo en octre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étodo ray cas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étodos para superficies curv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ració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314004"/>
                </a:solidFill>
                <a:latin typeface="Arial"/>
              </a:rPr>
              <a:t>Método de subdivisión basado en octre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914040" y="137160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ómo se dibuja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ociar (map) el octree a un quadtree de área vi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Recorrer los nodos del octree, recursivamente, desde adelante hacia atrá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La información del quadtree es cargada en el frame-buff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7634160" y="5037120"/>
            <a:ext cx="1800" cy="1774800"/>
          </a:xfrm>
          <a:prstGeom prst="line">
            <a:avLst/>
          </a:prstGeom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9323280" y="4476600"/>
            <a:ext cx="1800" cy="1773360"/>
          </a:xfrm>
          <a:prstGeom prst="line">
            <a:avLst/>
          </a:prstGeom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0" name=""/>
          <p:cNvCxnSpPr/>
          <p:nvPr/>
        </p:nvCxnSpPr>
        <p:spPr>
          <a:xfrm flipV="1">
            <a:off x="5945040" y="5691960"/>
            <a:ext cx="1689840" cy="561240"/>
          </a:xfrm>
          <a:prstGeom prst="straightConnector1">
            <a:avLst/>
          </a:prstGeom>
          <a:ln w="19080">
            <a:solidFill>
              <a:srgbClr val="006699"/>
            </a:solidFill>
            <a:miter/>
          </a:ln>
        </p:spPr>
      </p:cxnSp>
      <p:cxnSp>
        <p:nvCxnSpPr>
          <p:cNvPr id="391" name=""/>
          <p:cNvCxnSpPr/>
          <p:nvPr/>
        </p:nvCxnSpPr>
        <p:spPr>
          <a:xfrm flipH="1">
            <a:off x="5944680" y="5689080"/>
            <a:ext cx="1689840" cy="562680"/>
          </a:xfrm>
          <a:prstGeom prst="straightConnector1">
            <a:avLst/>
          </a:prstGeom>
          <a:ln w="19080">
            <a:solidFill>
              <a:srgbClr val="006699"/>
            </a:solidFill>
            <a:miter/>
          </a:ln>
        </p:spPr>
      </p:cxnSp>
      <p:sp>
        <p:nvSpPr>
          <p:cNvPr id="392" name=""/>
          <p:cNvSpPr/>
          <p:nvPr/>
        </p:nvSpPr>
        <p:spPr>
          <a:xfrm>
            <a:off x="8493120" y="4746600"/>
            <a:ext cx="1440" cy="1773360"/>
          </a:xfrm>
          <a:prstGeom prst="line">
            <a:avLst/>
          </a:prstGeom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946840" y="4498920"/>
            <a:ext cx="1440" cy="1774800"/>
          </a:xfrm>
          <a:prstGeom prst="line">
            <a:avLst/>
          </a:prstGeom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4" name=""/>
          <p:cNvCxnSpPr/>
          <p:nvPr/>
        </p:nvCxnSpPr>
        <p:spPr>
          <a:xfrm>
            <a:off x="4257720" y="5733720"/>
            <a:ext cx="1689840" cy="540360"/>
          </a:xfrm>
          <a:prstGeom prst="straightConnector1">
            <a:avLst/>
          </a:prstGeom>
          <a:ln w="19080">
            <a:solidFill>
              <a:srgbClr val="006699"/>
            </a:solidFill>
            <a:miter/>
          </a:ln>
        </p:spPr>
      </p:cxnSp>
      <p:cxnSp>
        <p:nvCxnSpPr>
          <p:cNvPr id="395" name=""/>
          <p:cNvCxnSpPr/>
          <p:nvPr/>
        </p:nvCxnSpPr>
        <p:spPr>
          <a:xfrm flipH="1" flipV="1">
            <a:off x="4255560" y="5736600"/>
            <a:ext cx="1689840" cy="538920"/>
          </a:xfrm>
          <a:prstGeom prst="straightConnector1">
            <a:avLst/>
          </a:prstGeom>
          <a:ln w="19080">
            <a:solidFill>
              <a:srgbClr val="006699"/>
            </a:solidFill>
            <a:miter/>
          </a:ln>
        </p:spPr>
      </p:cxnSp>
      <p:sp>
        <p:nvSpPr>
          <p:cNvPr id="396" name=""/>
          <p:cNvSpPr/>
          <p:nvPr/>
        </p:nvSpPr>
        <p:spPr>
          <a:xfrm>
            <a:off x="6762600" y="4757760"/>
            <a:ext cx="1800" cy="1773360"/>
          </a:xfrm>
          <a:prstGeom prst="line">
            <a:avLst/>
          </a:prstGeom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flipV="1">
            <a:off x="7634160" y="5370480"/>
            <a:ext cx="1689120" cy="603360"/>
          </a:xfrm>
          <a:prstGeom prst="line">
            <a:avLst/>
          </a:prstGeom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 flipV="1">
            <a:off x="5941800" y="5459040"/>
            <a:ext cx="1695240" cy="514440"/>
          </a:xfrm>
          <a:prstGeom prst="line">
            <a:avLst/>
          </a:prstGeom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8796600" y="49816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Microsoft Sans Serif"/>
                <a:ea typeface="새굴림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923600" y="618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Microsoft Sans Serif"/>
                <a:ea typeface="새굴림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8811000" y="5845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Microsoft Sans Serif"/>
                <a:ea typeface="새굴림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6207480" y="5856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Microsoft Sans Serif"/>
                <a:ea typeface="새굴림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616080" y="4332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Microsoft Sans Serif"/>
                <a:ea typeface="새굴림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748872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Microsoft Sans Serif"/>
                <a:ea typeface="새굴림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8079120" y="3578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Microsoft Sans Serif"/>
                <a:ea typeface="새굴림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352000" y="3811680"/>
            <a:ext cx="244440" cy="269640"/>
          </a:xfrm>
          <a:custGeom>
            <a:avLst/>
            <a:gdLst/>
            <a:ahLst/>
            <a:rect l="l" t="t" r="r" b="b"/>
            <a:pathLst>
              <a:path w="104" h="144">
                <a:moveTo>
                  <a:pt x="0" y="0"/>
                </a:moveTo>
                <a:cubicBezTo>
                  <a:pt x="44" y="36"/>
                  <a:pt x="88" y="72"/>
                  <a:pt x="96" y="96"/>
                </a:cubicBezTo>
                <a:cubicBezTo>
                  <a:pt x="104" y="120"/>
                  <a:pt x="76" y="132"/>
                  <a:pt x="48" y="144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flipH="1" flipV="1">
            <a:off x="6730560" y="4202280"/>
            <a:ext cx="1752840" cy="536400"/>
          </a:xfrm>
          <a:prstGeom prst="line">
            <a:avLst/>
          </a:prstGeom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flipV="1">
            <a:off x="5943600" y="3884400"/>
            <a:ext cx="1689120" cy="603000"/>
          </a:xfrm>
          <a:prstGeom prst="line">
            <a:avLst/>
          </a:prstGeom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V="1">
            <a:off x="6762600" y="4159080"/>
            <a:ext cx="1689120" cy="603360"/>
          </a:xfrm>
          <a:prstGeom prst="line">
            <a:avLst/>
          </a:prstGeom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7208640" y="4599000"/>
            <a:ext cx="795240" cy="270000"/>
          </a:xfrm>
          <a:prstGeom prst="line">
            <a:avLst/>
          </a:prstGeom>
          <a:ln w="158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7602120" y="5249880"/>
            <a:ext cx="917640" cy="314280"/>
          </a:xfrm>
          <a:prstGeom prst="line">
            <a:avLst/>
          </a:prstGeom>
          <a:ln w="158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184880" y="4599000"/>
            <a:ext cx="860400" cy="293760"/>
          </a:xfrm>
          <a:prstGeom prst="line">
            <a:avLst/>
          </a:prstGeom>
          <a:ln w="158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748560" y="5249880"/>
            <a:ext cx="909720" cy="314280"/>
          </a:xfrm>
          <a:prstGeom prst="line">
            <a:avLst/>
          </a:prstGeom>
          <a:ln w="158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184880" y="4913280"/>
            <a:ext cx="3240" cy="898560"/>
          </a:xfrm>
          <a:prstGeom prst="line">
            <a:avLst/>
          </a:prstGeom>
          <a:ln w="158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8070840" y="4913280"/>
            <a:ext cx="3240" cy="898560"/>
          </a:xfrm>
          <a:prstGeom prst="line">
            <a:avLst/>
          </a:prstGeom>
          <a:ln w="158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 flipV="1">
            <a:off x="7621560" y="5135400"/>
            <a:ext cx="449280" cy="185760"/>
          </a:xfrm>
          <a:prstGeom prst="line">
            <a:avLst/>
          </a:prstGeom>
          <a:ln w="158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 flipV="1">
            <a:off x="7381800" y="4797000"/>
            <a:ext cx="449280" cy="187560"/>
          </a:xfrm>
          <a:prstGeom prst="line">
            <a:avLst/>
          </a:prstGeom>
          <a:ln w="158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7184880" y="5205240"/>
            <a:ext cx="451080" cy="90720"/>
          </a:xfrm>
          <a:prstGeom prst="line">
            <a:avLst/>
          </a:prstGeom>
          <a:ln w="158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7396200" y="4824360"/>
            <a:ext cx="450720" cy="88920"/>
          </a:xfrm>
          <a:prstGeom prst="line">
            <a:avLst/>
          </a:prstGeom>
          <a:ln w="158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859880" y="4924440"/>
            <a:ext cx="2880" cy="538200"/>
          </a:xfrm>
          <a:prstGeom prst="line">
            <a:avLst/>
          </a:prstGeom>
          <a:ln w="158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7396200" y="4948200"/>
            <a:ext cx="3240" cy="538200"/>
          </a:xfrm>
          <a:prstGeom prst="line">
            <a:avLst/>
          </a:prstGeom>
          <a:ln w="158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938000" y="5307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Microsoft Sans Serif"/>
                <a:ea typeface="새굴림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934320" y="6761160"/>
            <a:ext cx="144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Microsoft Sans Serif"/>
                <a:ea typeface="새굴림"/>
              </a:rPr>
              <a:t>Octants in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 flipV="1">
            <a:off x="5941800" y="4570560"/>
            <a:ext cx="1695240" cy="514080"/>
          </a:xfrm>
          <a:prstGeom prst="line">
            <a:avLst/>
          </a:prstGeom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7678440" y="3884760"/>
            <a:ext cx="1695240" cy="514080"/>
          </a:xfrm>
          <a:prstGeom prst="line">
            <a:avLst/>
          </a:prstGeom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V="1">
            <a:off x="7683480" y="4427280"/>
            <a:ext cx="1689120" cy="603000"/>
          </a:xfrm>
          <a:prstGeom prst="line">
            <a:avLst/>
          </a:prstGeom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314004"/>
                </a:solidFill>
                <a:latin typeface="Arial"/>
              </a:rPr>
              <a:t>Método ray cas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914040" y="137160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asado en métodos ópticos geométric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zar caminos de rayos de luz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zar un rayo desde cada pixel, en la línea de visión, para intersectar la esce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ar qué objetos intersectan esta esce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icar la superficie visible cuyo con puntos de intersección más cercano al plano de visión (view pla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Considerar solo los rayos que pasan por un pix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Nota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étodo efectivo para escenas con superficies curv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314004"/>
                </a:solidFill>
                <a:latin typeface="Arial"/>
              </a:rPr>
              <a:t>Clasificación de los método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58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étodos en el espacio de las imáge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Depth-buff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A-Buff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Scan-lin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Subdivisión de áre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5151600" y="1767960"/>
            <a:ext cx="442584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Métodos en el espacio de los obje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DejaVu Sans"/>
              </a:rPr>
              <a:t>Detección de Back-f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DejaVu Sans"/>
              </a:rPr>
              <a:t>BSP-t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DejaVu Sans"/>
              </a:rPr>
              <a:t>Subdivisión de ár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DejaVu Sans"/>
              </a:rPr>
              <a:t>Octr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DejaVu Sans"/>
              </a:rPr>
              <a:t>Ray ca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314004"/>
                </a:solidFill>
                <a:latin typeface="Arial"/>
              </a:rPr>
              <a:t>Métodos para superficies curv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étodos efectivos para superficies cur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y ca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tr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roximar las superficies curvas con un conjunto de caras poligonales pla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licar alguno de los métodos vis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Más eficiente y preciso es usar ray casting y las ecuaciones que describen las superfic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314004"/>
                </a:solidFill>
                <a:latin typeface="Arial"/>
              </a:rPr>
              <a:t>Comparació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9070920" cy="55497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 fontScale="99000"/>
          </a:bodyPr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étodo back-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eno y efectivo para eliminar rapidamente las caras que no se ven pero no resuelve el problema completam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-buff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ápido y si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s buffers (colores y profundida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-buf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jora el z-buffer incluyendo transparencia, antialiasing,..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 respecto a la complejidad de la escena medido en la cantidad de polígonos que se superponen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scenas simples (hasta mil polígonos):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ordenamiento en profundidad, BSP tree, scan-lines, z-buff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scenas complejas (más de mil):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z-buffer, octre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314004"/>
                </a:solidFill>
                <a:latin typeface="Arial"/>
              </a:rPr>
              <a:t>Método scan-lin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29920" y="182880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Extensión del algoritmo para rellenar el interior de los polígon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r cada polígono que intersecta la scan-l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ar de izquierda a derech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r profundidad (depth) en caso que hay polígonos superpues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intensidad del punto más cercano se almacena en el frame buff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314004"/>
                </a:solidFill>
                <a:latin typeface="Arial"/>
              </a:rPr>
              <a:t>Método scan-lines: tabla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29920" y="182880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Tabla de arc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untos extremos de cada arc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endiente de la línea que pasa por el arc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dices (punteros) a los polígonos que lo contiene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Tabla de polígon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eficientes de la ecuación del plan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formación de los colores (intensidad) del polígon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dices (punteros) a la tabla de arc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314004"/>
                </a:solidFill>
                <a:latin typeface="Arial"/>
              </a:rPr>
              <a:t>Método scan-lines: ejempl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29920" y="182880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a activa para scan-line 1  (arc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abla de arco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314004"/>
                </a:solidFill>
                <a:latin typeface="Arial"/>
              </a:rPr>
              <a:t>AB, BC, EH, F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314004"/>
                </a:solidFill>
                <a:latin typeface="Arial"/>
              </a:rPr>
              <a:t>Entre AB y BC solo el flag d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314004"/>
                </a:solidFill>
                <a:latin typeface="Arial"/>
              </a:rPr>
              <a:t>está encendi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No es necesario calcular dept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El color de       se utiliz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 manera similar entre EH y FG solo el flag de        está encendi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5725080" y="1954080"/>
            <a:ext cx="3913920" cy="2617560"/>
            <a:chOff x="5725080" y="1954080"/>
            <a:chExt cx="3913920" cy="2617560"/>
          </a:xfrm>
        </p:grpSpPr>
        <p:sp>
          <p:nvSpPr>
            <p:cNvPr id="92" name=""/>
            <p:cNvSpPr/>
            <p:nvPr/>
          </p:nvSpPr>
          <p:spPr>
            <a:xfrm flipV="1">
              <a:off x="6000840" y="2409840"/>
              <a:ext cx="1440" cy="188928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000840" y="4297320"/>
              <a:ext cx="3124080" cy="180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305400" y="2163600"/>
              <a:ext cx="1447920" cy="1828800"/>
            </a:xfrm>
            <a:custGeom>
              <a:avLst/>
              <a:gdLst/>
              <a:ahLst/>
              <a:rect l="l" t="t" r="r" b="b"/>
              <a:pathLst>
                <a:path w="912" h="1152">
                  <a:moveTo>
                    <a:pt x="576" y="0"/>
                  </a:moveTo>
                  <a:lnTo>
                    <a:pt x="0" y="384"/>
                  </a:lnTo>
                  <a:lnTo>
                    <a:pt x="240" y="1152"/>
                  </a:lnTo>
                  <a:lnTo>
                    <a:pt x="912" y="960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7105680" y="2411280"/>
              <a:ext cx="1733400" cy="1752840"/>
              <a:chOff x="7105680" y="2411280"/>
              <a:chExt cx="1733400" cy="1752840"/>
            </a:xfrm>
          </p:grpSpPr>
          <p:sp>
            <p:nvSpPr>
              <p:cNvPr id="96" name=""/>
              <p:cNvSpPr/>
              <p:nvPr/>
            </p:nvSpPr>
            <p:spPr>
              <a:xfrm>
                <a:off x="7391520" y="2411280"/>
                <a:ext cx="1447560" cy="1752840"/>
              </a:xfrm>
              <a:custGeom>
                <a:avLst/>
                <a:gdLst/>
                <a:ahLst/>
                <a:rect l="l" t="t" r="r" b="b"/>
                <a:pathLst>
                  <a:path w="912" h="1104">
                    <a:moveTo>
                      <a:pt x="48" y="288"/>
                    </a:moveTo>
                    <a:lnTo>
                      <a:pt x="192" y="0"/>
                    </a:lnTo>
                    <a:lnTo>
                      <a:pt x="912" y="96"/>
                    </a:lnTo>
                    <a:lnTo>
                      <a:pt x="336" y="1104"/>
                    </a:lnTo>
                    <a:lnTo>
                      <a:pt x="0" y="864"/>
                    </a:lnTo>
                  </a:path>
                </a:pathLst>
              </a:custGeom>
              <a:noFill/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105680" y="2840040"/>
                <a:ext cx="380880" cy="914400"/>
              </a:xfrm>
              <a:custGeom>
                <a:avLst/>
                <a:gdLst/>
                <a:ahLst/>
                <a:rect l="l" t="t" r="r" b="b"/>
                <a:pathLst>
                  <a:path w="240" h="576">
                    <a:moveTo>
                      <a:pt x="240" y="0"/>
                    </a:moveTo>
                    <a:lnTo>
                      <a:pt x="0" y="480"/>
                    </a:lnTo>
                    <a:lnTo>
                      <a:pt x="144" y="576"/>
                    </a:lnTo>
                  </a:path>
                </a:pathLst>
              </a:custGeom>
              <a:noFill/>
              <a:ln w="15840">
                <a:solidFill>
                  <a:srgbClr val="333333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>
              <a:off x="6000840" y="2620800"/>
              <a:ext cx="3200400" cy="1800"/>
            </a:xfrm>
            <a:prstGeom prst="line">
              <a:avLst/>
            </a:prstGeom>
            <a:ln w="1908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000840" y="3230640"/>
              <a:ext cx="3200400" cy="1440"/>
            </a:xfrm>
            <a:prstGeom prst="line">
              <a:avLst/>
            </a:prstGeom>
            <a:ln w="1908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000840" y="3382920"/>
              <a:ext cx="3200400" cy="1800"/>
            </a:xfrm>
            <a:prstGeom prst="line">
              <a:avLst/>
            </a:prstGeom>
            <a:ln w="1908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848440" y="4270320"/>
              <a:ext cx="3196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Microsoft Sans Serif"/>
                  <a:ea typeface="새굴림"/>
                </a:rPr>
                <a:t>x</a:t>
              </a:r>
              <a:r>
                <a:rPr b="1" lang="en-US" sz="1200" spc="-1" strike="noStrike" baseline="-25000">
                  <a:solidFill>
                    <a:srgbClr val="333333"/>
                  </a:solidFill>
                  <a:latin typeface="Microsoft Sans Serif"/>
                  <a:ea typeface="새굴림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725080" y="2289240"/>
              <a:ext cx="3178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Microsoft Sans Serif"/>
                  <a:ea typeface="새굴림"/>
                </a:rPr>
                <a:t>y</a:t>
              </a:r>
              <a:r>
                <a:rPr b="1" lang="en-US" sz="1200" spc="-1" strike="noStrike" baseline="-25000">
                  <a:solidFill>
                    <a:srgbClr val="333333"/>
                  </a:solidFill>
                  <a:latin typeface="Microsoft Sans Serif"/>
                  <a:ea typeface="새굴림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100560" y="2670120"/>
              <a:ext cx="285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Microsoft Sans Serif"/>
                  <a:ea typeface="새굴림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050600" y="195408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Microsoft Sans Serif"/>
                  <a:ea typeface="새굴림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758280" y="2822400"/>
              <a:ext cx="3150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Microsoft Sans Serif"/>
                  <a:ea typeface="새굴림"/>
                </a:rPr>
                <a:t>S</a:t>
              </a:r>
              <a:r>
                <a:rPr b="1" lang="en-US" sz="1200" spc="-1" strike="noStrike" baseline="-25000">
                  <a:solidFill>
                    <a:srgbClr val="333333"/>
                  </a:solidFill>
                  <a:latin typeface="Microsoft Sans Serif"/>
                  <a:ea typeface="새굴림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73320" y="218268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Microsoft Sans Serif"/>
                  <a:ea typeface="새굴림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712360" y="2335320"/>
              <a:ext cx="264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Microsoft Sans Serif"/>
                  <a:ea typeface="새굴림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825320" y="2822400"/>
              <a:ext cx="3150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Microsoft Sans Serif"/>
                  <a:ea typeface="새굴림"/>
                </a:rPr>
                <a:t>S</a:t>
              </a:r>
              <a:r>
                <a:rPr b="1" lang="en-US" sz="1200" spc="-1" strike="noStrike" baseline="-25000">
                  <a:solidFill>
                    <a:srgbClr val="333333"/>
                  </a:solidFill>
                  <a:latin typeface="Microsoft Sans Serif"/>
                  <a:ea typeface="새굴림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67000" y="3432240"/>
              <a:ext cx="29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Microsoft Sans Serif"/>
                  <a:ea typeface="새굴림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496200" y="3927600"/>
              <a:ext cx="29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Microsoft Sans Serif"/>
                  <a:ea typeface="새굴림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704720" y="3584520"/>
              <a:ext cx="278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Microsoft Sans Serif"/>
                  <a:ea typeface="새굴림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894800" y="404172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Microsoft Sans Serif"/>
                  <a:ea typeface="새굴림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653680" y="2593800"/>
              <a:ext cx="985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2396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Microsoft Sans Serif"/>
                  <a:ea typeface="새굴림"/>
                </a:rPr>
                <a:t>Scan line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653680" y="2975040"/>
              <a:ext cx="985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2396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Microsoft Sans Serif"/>
                  <a:ea typeface="새굴림"/>
                </a:rPr>
                <a:t>Scan line 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8653680" y="3355920"/>
              <a:ext cx="985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2396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Microsoft Sans Serif"/>
                  <a:ea typeface="새굴림"/>
                </a:rPr>
                <a:t>Scan line 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5029200" y="3236760"/>
                <a:ext cx="45720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4343400" y="4608360"/>
                <a:ext cx="45720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7315200" y="5065560"/>
                <a:ext cx="45720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314004"/>
                </a:solidFill>
                <a:latin typeface="Arial"/>
              </a:rPr>
              <a:t>Método scan-lines: ejempl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29920" y="1828440"/>
            <a:ext cx="9070920" cy="5127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 fontScale="99000"/>
          </a:bodyPr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a activa para scan-line 2 y 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314004"/>
                </a:solidFill>
                <a:latin typeface="Arial"/>
              </a:rPr>
              <a:t>AD, BC, EH, F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314004"/>
                </a:solidFill>
                <a:latin typeface="Arial"/>
              </a:rPr>
              <a:t>Entre AD y EH solo el flag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314004"/>
                </a:solidFill>
                <a:latin typeface="Arial"/>
              </a:rPr>
              <a:t>está encendi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314004"/>
                </a:solidFill>
                <a:latin typeface="Arial"/>
              </a:rPr>
              <a:t>Entre EH y BC ambos flags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314004"/>
                </a:solidFill>
                <a:latin typeface="Arial"/>
              </a:rPr>
              <a:t>y           están encendi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2565000" indent="-42588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Calcular depth (profundidad de ambas superfici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2565000" indent="-42588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El color de       se utiliz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tener ventaja de la coherenci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sando de una scan-line a la sigui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n-line 3 tiene la misma lista activa que la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es necesario hacer cálculos de profundidad entre EH y 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5725080" y="1954080"/>
            <a:ext cx="3913920" cy="2617560"/>
            <a:chOff x="5725080" y="1954080"/>
            <a:chExt cx="3913920" cy="2617560"/>
          </a:xfrm>
        </p:grpSpPr>
        <p:sp>
          <p:nvSpPr>
            <p:cNvPr id="122" name=""/>
            <p:cNvSpPr/>
            <p:nvPr/>
          </p:nvSpPr>
          <p:spPr>
            <a:xfrm flipV="1">
              <a:off x="6000840" y="2409840"/>
              <a:ext cx="1440" cy="188928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00840" y="4297320"/>
              <a:ext cx="3124080" cy="180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305400" y="2163600"/>
              <a:ext cx="1447920" cy="1828800"/>
            </a:xfrm>
            <a:custGeom>
              <a:avLst/>
              <a:gdLst/>
              <a:ahLst/>
              <a:rect l="l" t="t" r="r" b="b"/>
              <a:pathLst>
                <a:path w="912" h="1152">
                  <a:moveTo>
                    <a:pt x="576" y="0"/>
                  </a:moveTo>
                  <a:lnTo>
                    <a:pt x="0" y="384"/>
                  </a:lnTo>
                  <a:lnTo>
                    <a:pt x="240" y="1152"/>
                  </a:lnTo>
                  <a:lnTo>
                    <a:pt x="912" y="960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" name=""/>
            <p:cNvGrpSpPr/>
            <p:nvPr/>
          </p:nvGrpSpPr>
          <p:grpSpPr>
            <a:xfrm>
              <a:off x="7105680" y="2411280"/>
              <a:ext cx="1733400" cy="1752840"/>
              <a:chOff x="7105680" y="2411280"/>
              <a:chExt cx="1733400" cy="1752840"/>
            </a:xfrm>
          </p:grpSpPr>
          <p:sp>
            <p:nvSpPr>
              <p:cNvPr id="126" name=""/>
              <p:cNvSpPr/>
              <p:nvPr/>
            </p:nvSpPr>
            <p:spPr>
              <a:xfrm>
                <a:off x="7391520" y="2411280"/>
                <a:ext cx="1447560" cy="1752840"/>
              </a:xfrm>
              <a:custGeom>
                <a:avLst/>
                <a:gdLst/>
                <a:ahLst/>
                <a:rect l="l" t="t" r="r" b="b"/>
                <a:pathLst>
                  <a:path w="912" h="1104">
                    <a:moveTo>
                      <a:pt x="48" y="288"/>
                    </a:moveTo>
                    <a:lnTo>
                      <a:pt x="192" y="0"/>
                    </a:lnTo>
                    <a:lnTo>
                      <a:pt x="912" y="96"/>
                    </a:lnTo>
                    <a:lnTo>
                      <a:pt x="336" y="1104"/>
                    </a:lnTo>
                    <a:lnTo>
                      <a:pt x="0" y="864"/>
                    </a:lnTo>
                  </a:path>
                </a:pathLst>
              </a:custGeom>
              <a:noFill/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7105680" y="2840040"/>
                <a:ext cx="380880" cy="914400"/>
              </a:xfrm>
              <a:custGeom>
                <a:avLst/>
                <a:gdLst/>
                <a:ahLst/>
                <a:rect l="l" t="t" r="r" b="b"/>
                <a:pathLst>
                  <a:path w="240" h="576">
                    <a:moveTo>
                      <a:pt x="240" y="0"/>
                    </a:moveTo>
                    <a:lnTo>
                      <a:pt x="0" y="480"/>
                    </a:lnTo>
                    <a:lnTo>
                      <a:pt x="144" y="576"/>
                    </a:lnTo>
                  </a:path>
                </a:pathLst>
              </a:custGeom>
              <a:noFill/>
              <a:ln w="15840">
                <a:solidFill>
                  <a:srgbClr val="333333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" name=""/>
            <p:cNvSpPr/>
            <p:nvPr/>
          </p:nvSpPr>
          <p:spPr>
            <a:xfrm>
              <a:off x="6000840" y="2620800"/>
              <a:ext cx="3200400" cy="1800"/>
            </a:xfrm>
            <a:prstGeom prst="line">
              <a:avLst/>
            </a:prstGeom>
            <a:ln w="1908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0840" y="3230640"/>
              <a:ext cx="3200400" cy="1440"/>
            </a:xfrm>
            <a:prstGeom prst="line">
              <a:avLst/>
            </a:prstGeom>
            <a:ln w="1908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000840" y="3382920"/>
              <a:ext cx="3200400" cy="1800"/>
            </a:xfrm>
            <a:prstGeom prst="line">
              <a:avLst/>
            </a:prstGeom>
            <a:ln w="1908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848440" y="4270320"/>
              <a:ext cx="3196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Microsoft Sans Serif"/>
                  <a:ea typeface="새굴림"/>
                </a:rPr>
                <a:t>x</a:t>
              </a:r>
              <a:r>
                <a:rPr b="1" lang="en-US" sz="1200" spc="-1" strike="noStrike" baseline="-25000">
                  <a:solidFill>
                    <a:srgbClr val="333333"/>
                  </a:solidFill>
                  <a:latin typeface="Microsoft Sans Serif"/>
                  <a:ea typeface="새굴림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725080" y="2289240"/>
              <a:ext cx="3178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Microsoft Sans Serif"/>
                  <a:ea typeface="새굴림"/>
                </a:rPr>
                <a:t>y</a:t>
              </a:r>
              <a:r>
                <a:rPr b="1" lang="en-US" sz="1200" spc="-1" strike="noStrike" baseline="-25000">
                  <a:solidFill>
                    <a:srgbClr val="333333"/>
                  </a:solidFill>
                  <a:latin typeface="Microsoft Sans Serif"/>
                  <a:ea typeface="새굴림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100560" y="2670120"/>
              <a:ext cx="285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Microsoft Sans Serif"/>
                  <a:ea typeface="새굴림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050600" y="195408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Microsoft Sans Serif"/>
                  <a:ea typeface="새굴림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758280" y="2822400"/>
              <a:ext cx="3150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Microsoft Sans Serif"/>
                  <a:ea typeface="새굴림"/>
                </a:rPr>
                <a:t>S</a:t>
              </a:r>
              <a:r>
                <a:rPr b="1" lang="en-US" sz="1200" spc="-1" strike="noStrike" baseline="-25000">
                  <a:solidFill>
                    <a:srgbClr val="333333"/>
                  </a:solidFill>
                  <a:latin typeface="Microsoft Sans Serif"/>
                  <a:ea typeface="새굴림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573320" y="218268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Microsoft Sans Serif"/>
                  <a:ea typeface="새굴림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712360" y="2335320"/>
              <a:ext cx="264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Microsoft Sans Serif"/>
                  <a:ea typeface="새굴림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825320" y="2822400"/>
              <a:ext cx="3150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Microsoft Sans Serif"/>
                  <a:ea typeface="새굴림"/>
                </a:rPr>
                <a:t>S</a:t>
              </a:r>
              <a:r>
                <a:rPr b="1" lang="en-US" sz="1200" spc="-1" strike="noStrike" baseline="-25000">
                  <a:solidFill>
                    <a:srgbClr val="333333"/>
                  </a:solidFill>
                  <a:latin typeface="Microsoft Sans Serif"/>
                  <a:ea typeface="새굴림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867000" y="3432240"/>
              <a:ext cx="29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Microsoft Sans Serif"/>
                  <a:ea typeface="새굴림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496200" y="3927600"/>
              <a:ext cx="29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Microsoft Sans Serif"/>
                  <a:ea typeface="새굴림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704720" y="3584520"/>
              <a:ext cx="278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Microsoft Sans Serif"/>
                  <a:ea typeface="새굴림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894800" y="404172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Microsoft Sans Serif"/>
                  <a:ea typeface="새굴림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653680" y="2593800"/>
              <a:ext cx="985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2396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Microsoft Sans Serif"/>
                  <a:ea typeface="새굴림"/>
                </a:rPr>
                <a:t>Scan line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653680" y="2975040"/>
              <a:ext cx="985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2396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Microsoft Sans Serif"/>
                  <a:ea typeface="새굴림"/>
                </a:rPr>
                <a:t>Scan line 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653680" y="3355920"/>
              <a:ext cx="985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2396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Microsoft Sans Serif"/>
                  <a:ea typeface="새굴림"/>
                </a:rPr>
                <a:t>Scan line 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4800600" y="2743200"/>
                <a:ext cx="365040" cy="33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343400" y="4836960"/>
                <a:ext cx="365040" cy="33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4892760" y="3548160"/>
                <a:ext cx="365040" cy="33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1600200" y="4005360"/>
                <a:ext cx="365040" cy="33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314004"/>
                </a:solidFill>
                <a:latin typeface="Arial"/>
              </a:rPr>
              <a:t>¿Cuándo hay problemas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1066680" y="3809880"/>
            <a:ext cx="6934320" cy="1905120"/>
            <a:chOff x="1066680" y="3809880"/>
            <a:chExt cx="6934320" cy="1905120"/>
          </a:xfrm>
        </p:grpSpPr>
        <p:grpSp>
          <p:nvGrpSpPr>
            <p:cNvPr id="152" name=""/>
            <p:cNvGrpSpPr/>
            <p:nvPr/>
          </p:nvGrpSpPr>
          <p:grpSpPr>
            <a:xfrm>
              <a:off x="1066680" y="3809880"/>
              <a:ext cx="1981440" cy="1905120"/>
              <a:chOff x="1066680" y="3809880"/>
              <a:chExt cx="1981440" cy="1905120"/>
            </a:xfrm>
          </p:grpSpPr>
          <p:sp>
            <p:nvSpPr>
              <p:cNvPr id="153" name=""/>
              <p:cNvSpPr/>
              <p:nvPr/>
            </p:nvSpPr>
            <p:spPr>
              <a:xfrm>
                <a:off x="1066680" y="4386240"/>
                <a:ext cx="1430280" cy="604800"/>
              </a:xfrm>
              <a:custGeom>
                <a:avLst/>
                <a:gdLst/>
                <a:ahLst/>
                <a:rect l="l" t="t" r="r" b="b"/>
                <a:pathLst>
                  <a:path w="624" h="288">
                    <a:moveTo>
                      <a:pt x="0" y="192"/>
                    </a:moveTo>
                    <a:lnTo>
                      <a:pt x="384" y="0"/>
                    </a:lnTo>
                    <a:lnTo>
                      <a:pt x="624" y="96"/>
                    </a:lnTo>
                    <a:lnTo>
                      <a:pt x="240" y="288"/>
                    </a:lnTo>
                    <a:lnTo>
                      <a:pt x="0" y="192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1617840" y="3809880"/>
                <a:ext cx="879120" cy="1905120"/>
              </a:xfrm>
              <a:custGeom>
                <a:avLst/>
                <a:gdLst/>
                <a:ahLst/>
                <a:rect l="l" t="t" r="r" b="b"/>
                <a:pathLst>
                  <a:path w="480" h="864">
                    <a:moveTo>
                      <a:pt x="0" y="240"/>
                    </a:moveTo>
                    <a:lnTo>
                      <a:pt x="480" y="0"/>
                    </a:lnTo>
                    <a:lnTo>
                      <a:pt x="480" y="624"/>
                    </a:lnTo>
                    <a:lnTo>
                      <a:pt x="0" y="864"/>
                    </a:lnTo>
                    <a:lnTo>
                      <a:pt x="0" y="24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1617840" y="4587840"/>
                <a:ext cx="1430280" cy="604800"/>
              </a:xfrm>
              <a:custGeom>
                <a:avLst/>
                <a:gdLst/>
                <a:ahLst/>
                <a:rect l="l" t="t" r="r" b="b"/>
                <a:pathLst>
                  <a:path w="624" h="288">
                    <a:moveTo>
                      <a:pt x="0" y="192"/>
                    </a:moveTo>
                    <a:lnTo>
                      <a:pt x="384" y="0"/>
                    </a:lnTo>
                    <a:lnTo>
                      <a:pt x="624" y="96"/>
                    </a:lnTo>
                    <a:lnTo>
                      <a:pt x="240" y="288"/>
                    </a:lnTo>
                    <a:lnTo>
                      <a:pt x="0" y="192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V="1">
                <a:off x="1617840" y="4586040"/>
                <a:ext cx="879120" cy="406440"/>
              </a:xfrm>
              <a:prstGeom prst="line">
                <a:avLst/>
              </a:prstGeom>
              <a:ln w="15840">
                <a:solidFill>
                  <a:srgbClr val="333333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3233880" y="3809880"/>
              <a:ext cx="2226960" cy="1905120"/>
              <a:chOff x="3233880" y="3809880"/>
              <a:chExt cx="2226960" cy="1905120"/>
            </a:xfrm>
          </p:grpSpPr>
          <p:sp>
            <p:nvSpPr>
              <p:cNvPr id="158" name=""/>
              <p:cNvSpPr/>
              <p:nvPr/>
            </p:nvSpPr>
            <p:spPr>
              <a:xfrm>
                <a:off x="4424400" y="4302000"/>
                <a:ext cx="1036440" cy="507960"/>
              </a:xfrm>
              <a:custGeom>
                <a:avLst/>
                <a:gdLst/>
                <a:ahLst/>
                <a:rect l="l" t="t" r="r" b="b"/>
                <a:pathLst>
                  <a:path w="480" h="192">
                    <a:moveTo>
                      <a:pt x="0" y="144"/>
                    </a:moveTo>
                    <a:lnTo>
                      <a:pt x="336" y="0"/>
                    </a:lnTo>
                    <a:lnTo>
                      <a:pt x="480" y="48"/>
                    </a:lnTo>
                    <a:lnTo>
                      <a:pt x="144" y="192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99ccff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3233880" y="4317840"/>
                <a:ext cx="1966680" cy="762120"/>
              </a:xfrm>
              <a:custGeom>
                <a:avLst/>
                <a:gdLst/>
                <a:ahLst/>
                <a:rect l="l" t="t" r="r" b="b"/>
                <a:pathLst>
                  <a:path w="1200" h="288">
                    <a:moveTo>
                      <a:pt x="192" y="0"/>
                    </a:moveTo>
                    <a:lnTo>
                      <a:pt x="0" y="96"/>
                    </a:lnTo>
                    <a:lnTo>
                      <a:pt x="1056" y="288"/>
                    </a:lnTo>
                    <a:lnTo>
                      <a:pt x="1200" y="192"/>
                    </a:lnTo>
                    <a:lnTo>
                      <a:pt x="192" y="0"/>
                    </a:lnTo>
                    <a:close/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3648240" y="3809880"/>
                <a:ext cx="309240" cy="1905120"/>
              </a:xfrm>
              <a:custGeom>
                <a:avLst/>
                <a:gdLst/>
                <a:ahLst/>
                <a:rect l="l" t="t" r="r" b="b"/>
                <a:pathLst>
                  <a:path w="192" h="720">
                    <a:moveTo>
                      <a:pt x="192" y="0"/>
                    </a:moveTo>
                    <a:lnTo>
                      <a:pt x="0" y="96"/>
                    </a:lnTo>
                    <a:lnTo>
                      <a:pt x="0" y="720"/>
                    </a:lnTo>
                    <a:lnTo>
                      <a:pt x="192" y="624"/>
                    </a:lnTo>
                    <a:lnTo>
                      <a:pt x="192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3441600" y="4826160"/>
                <a:ext cx="1035000" cy="507960"/>
              </a:xfrm>
              <a:custGeom>
                <a:avLst/>
                <a:gdLst/>
                <a:ahLst/>
                <a:rect l="l" t="t" r="r" b="b"/>
                <a:pathLst>
                  <a:path w="480" h="192">
                    <a:moveTo>
                      <a:pt x="336" y="0"/>
                    </a:moveTo>
                    <a:lnTo>
                      <a:pt x="0" y="144"/>
                    </a:lnTo>
                    <a:lnTo>
                      <a:pt x="144" y="192"/>
                    </a:lnTo>
                    <a:lnTo>
                      <a:pt x="480" y="48"/>
                    </a:lnTo>
                    <a:lnTo>
                      <a:pt x="336" y="0"/>
                    </a:lnTo>
                    <a:close/>
                  </a:path>
                </a:pathLst>
              </a:custGeom>
              <a:solidFill>
                <a:srgbClr val="99ccff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V="1">
                <a:off x="3700440" y="4792680"/>
                <a:ext cx="206280" cy="130320"/>
              </a:xfrm>
              <a:prstGeom prst="line">
                <a:avLst/>
              </a:prstGeom>
              <a:ln w="15840">
                <a:solidFill>
                  <a:srgbClr val="333333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5680080" y="3809880"/>
              <a:ext cx="2320920" cy="1905120"/>
              <a:chOff x="5680080" y="3809880"/>
              <a:chExt cx="2320920" cy="1905120"/>
            </a:xfrm>
          </p:grpSpPr>
          <p:sp>
            <p:nvSpPr>
              <p:cNvPr id="164" name=""/>
              <p:cNvSpPr/>
              <p:nvPr/>
            </p:nvSpPr>
            <p:spPr>
              <a:xfrm>
                <a:off x="5680080" y="4383000"/>
                <a:ext cx="990720" cy="484200"/>
              </a:xfrm>
              <a:custGeom>
                <a:avLst/>
                <a:gdLst/>
                <a:ahLst/>
                <a:rect l="l" t="t" r="r" b="b"/>
                <a:pathLst>
                  <a:path w="576" h="192">
                    <a:moveTo>
                      <a:pt x="576" y="0"/>
                    </a:moveTo>
                    <a:lnTo>
                      <a:pt x="48" y="48"/>
                    </a:lnTo>
                    <a:lnTo>
                      <a:pt x="0" y="192"/>
                    </a:lnTo>
                    <a:lnTo>
                      <a:pt x="576" y="144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6021360" y="3809880"/>
                <a:ext cx="1649520" cy="1905120"/>
              </a:xfrm>
              <a:custGeom>
                <a:avLst/>
                <a:gdLst/>
                <a:ahLst/>
                <a:rect l="l" t="t" r="r" b="b"/>
                <a:pathLst>
                  <a:path w="960" h="864">
                    <a:moveTo>
                      <a:pt x="192" y="192"/>
                    </a:moveTo>
                    <a:lnTo>
                      <a:pt x="0" y="240"/>
                    </a:lnTo>
                    <a:lnTo>
                      <a:pt x="0" y="864"/>
                    </a:lnTo>
                    <a:lnTo>
                      <a:pt x="960" y="624"/>
                    </a:lnTo>
                    <a:lnTo>
                      <a:pt x="960" y="0"/>
                    </a:lnTo>
                    <a:lnTo>
                      <a:pt x="768" y="48"/>
                    </a:lnTo>
                    <a:lnTo>
                      <a:pt x="768" y="432"/>
                    </a:lnTo>
                    <a:lnTo>
                      <a:pt x="192" y="576"/>
                    </a:lnTo>
                    <a:lnTo>
                      <a:pt x="192" y="192"/>
                    </a:lnTo>
                    <a:close/>
                  </a:path>
                </a:pathLst>
              </a:custGeom>
              <a:solidFill>
                <a:srgbClr val="99ccff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6351480" y="4233960"/>
                <a:ext cx="1649520" cy="552240"/>
              </a:xfrm>
              <a:custGeom>
                <a:avLst/>
                <a:gdLst/>
                <a:ahLst/>
                <a:rect l="l" t="t" r="r" b="b"/>
                <a:pathLst>
                  <a:path w="960" h="288">
                    <a:moveTo>
                      <a:pt x="0" y="96"/>
                    </a:moveTo>
                    <a:lnTo>
                      <a:pt x="960" y="0"/>
                    </a:lnTo>
                    <a:lnTo>
                      <a:pt x="912" y="192"/>
                    </a:lnTo>
                    <a:lnTo>
                      <a:pt x="0" y="288"/>
                    </a:ln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6835680" y="4361040"/>
                <a:ext cx="1800" cy="368280"/>
              </a:xfrm>
              <a:prstGeom prst="line">
                <a:avLst/>
              </a:prstGeom>
              <a:ln w="15840">
                <a:solidFill>
                  <a:srgbClr val="333333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e método funciona si polígonos no se superponen cíclicam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 de producen estos casos =&gt; dividir los polígo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314004"/>
                </a:solidFill>
                <a:latin typeface="Arial"/>
              </a:rPr>
              <a:t>Método ordenamiento en profundidad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ciones en el espacio de las imágenes y en el espacio de los objet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peraciones de ordenamiento en el espacio de las imágenes y en el espacio de los objet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an-conversion en el espacio de las imágen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unciones básica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perficies (polígonos) ordenadas en forma decrecient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an-conversion sobre las más lejanas primero (valor de depth más grand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314004"/>
                </a:solidFill>
                <a:latin typeface="Arial"/>
              </a:rPr>
              <a:t>Algoritm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ocido como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algoritmo del pint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ra crear un cuadro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mero pinta los colores del backgr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uego los objetos más dista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 continuación  los que los siguen en cercanía y asi sucesivam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lmente se pinta la superficie mas cercana (foregroun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denar los polígonos (superficies) de acuerdo a su distancia el viewpl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s intensidades(colores) de la más lejana se ingresa el frame buff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mar la superficie siguiente y repite el proce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2T15:58:27Z</dcterms:created>
  <dc:creator/>
  <dc:description/>
  <dc:language>en-US</dc:language>
  <cp:lastModifiedBy/>
  <dcterms:modified xsi:type="dcterms:W3CDTF">2012-05-31T15:40:44Z</dcterms:modified>
  <cp:revision>36</cp:revision>
  <dc:subject/>
  <dc:title/>
</cp:coreProperties>
</file>