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B04-E755-4D59-99E9-7CCD1B48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F2A-2CE2-49A1-B45E-D95C9006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E0D-94EC-4514-8777-1A8564DC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CC5-6BB2-45E3-A226-B99F6B75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6946-BAD8-4999-A229-FAB2AF30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F6DC-6894-48F1-8C10-29A81A4B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B81D-EAE5-4DAE-A278-EB01A551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E6C6-FC1B-4C48-824B-458DAE8F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8CFF-BE33-450C-A035-E1BC7F13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DF9B-6F3F-42EE-B1E6-3A3DDF06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BD70-88BC-4E36-A618-F742CA1D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A62-359A-435B-8F86-3797991F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5A46-7503-423D-9D8F-75B5730C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4E8C-D486-47E7-BF0E-D870FA83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54A8-39BF-4796-A4E3-28674E50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AA27-8955-4879-BBD9-C9EB6578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7AFC-3234-441B-AF42-271EC9F1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E3CE-83C6-4C50-908F-231380DC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194-0EF2-4B17-904C-4E5CF394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645-9C4C-4985-A26F-FE929353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B41-B69C-412C-A093-1E8D798F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AC6-6DCF-433B-989F-F048929B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821-42F7-458D-80C9-9286CB4F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EE0-AD86-43F9-9A15-0E6FAB36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2B40A-7550-4337-B799-101C54C46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741F4-DD88-477F-BE5C-FB8669237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étodos para detección de superficies visib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earn-Bak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e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Algoritm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e proceso se realiza en varios pas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s ordenadas con respecto al z-value mas pequ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superficie S con el z-value más grande es  analizada para ver si se superpone con ot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i no hay superposición en el eje z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&gt;  scan-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i hay superposición en el eje z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  analizar si las superficies deben ser reorde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Algoritmo: </a:t>
            </a:r>
            <a:r>
              <a:rPr b="1" lang="en-US" sz="2800" spc="-1" strike="noStrike">
                <a:solidFill>
                  <a:srgbClr val="314004"/>
                </a:solidFill>
                <a:latin typeface="Arial"/>
              </a:rPr>
              <a:t>ejemplos de overlapping usando una vista solo de los ejes x y 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136160" y="1598400"/>
            <a:ext cx="1116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88840" y="3465360"/>
            <a:ext cx="32004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85240" y="368784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18960" y="342900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9560" y="2133720"/>
            <a:ext cx="1200240" cy="1066680"/>
          </a:xfrm>
          <a:custGeom>
            <a:avLst/>
            <a:gdLst/>
            <a:ahLst/>
            <a:rect l="l" t="t" r="r" b="b"/>
            <a:pathLst>
              <a:path w="720" h="672">
                <a:moveTo>
                  <a:pt x="0" y="528"/>
                </a:moveTo>
                <a:lnTo>
                  <a:pt x="528" y="0"/>
                </a:lnTo>
                <a:lnTo>
                  <a:pt x="720" y="432"/>
                </a:lnTo>
                <a:lnTo>
                  <a:pt x="432" y="672"/>
                </a:lnTo>
                <a:lnTo>
                  <a:pt x="0" y="528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49600" y="1828800"/>
            <a:ext cx="1039680" cy="53352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240"/>
                </a:moveTo>
                <a:lnTo>
                  <a:pt x="384" y="0"/>
                </a:lnTo>
                <a:lnTo>
                  <a:pt x="624" y="144"/>
                </a:lnTo>
                <a:lnTo>
                  <a:pt x="336" y="336"/>
                </a:lnTo>
                <a:lnTo>
                  <a:pt x="0" y="240"/>
                </a:lnTo>
                <a:close/>
              </a:path>
            </a:pathLst>
          </a:cu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9560" y="2133720"/>
            <a:ext cx="1200240" cy="1066680"/>
          </a:xfrm>
          <a:prstGeom prst="rect">
            <a:avLst/>
          </a:prstGeom>
          <a:noFill/>
          <a:ln w="1584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49600" y="1828800"/>
            <a:ext cx="1039680" cy="533520"/>
          </a:xfrm>
          <a:prstGeom prst="rect">
            <a:avLst/>
          </a:prstGeom>
          <a:noFill/>
          <a:ln w="1584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145120" y="1674360"/>
            <a:ext cx="1440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1360" y="3465360"/>
            <a:ext cx="32004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47760" y="368784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81480" y="342900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34080" y="1913040"/>
            <a:ext cx="606240" cy="83664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040440" y="2593800"/>
            <a:ext cx="689040" cy="6876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47120" y="228600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67680" y="28195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1163160" y="4036680"/>
            <a:ext cx="4140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2720" y="5827680"/>
            <a:ext cx="32004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85240" y="60498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18960" y="57913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46480" y="4133880"/>
            <a:ext cx="752400" cy="11034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27240" y="4767120"/>
            <a:ext cx="514440" cy="75744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73680" y="414504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57480" y="536400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135400" y="4036680"/>
            <a:ext cx="2232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46680" y="5827680"/>
            <a:ext cx="31986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49200" y="60498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881480" y="57913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7040" y="4041720"/>
            <a:ext cx="847800" cy="88596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694480" y="4883040"/>
            <a:ext cx="512640" cy="75744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93080" y="409572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50040" y="539280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349400" y="6095880"/>
            <a:ext cx="889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endCxn id="208" idx="0"/>
          </p:cNvCxnSpPr>
          <p:nvPr/>
        </p:nvCxnSpPr>
        <p:spPr>
          <a:xfrm>
            <a:off x="7024680" y="3658680"/>
            <a:ext cx="186480" cy="1220040"/>
          </a:xfrm>
          <a:prstGeom prst="straightConnector1">
            <a:avLst/>
          </a:prstGeom>
          <a:ln w="12600">
            <a:solidFill>
              <a:srgbClr val="333333"/>
            </a:solidFill>
            <a:prstDash val="dash"/>
            <a:miter/>
          </a:ln>
        </p:spPr>
      </p:cxnSp>
      <p:cxnSp>
        <p:nvCxnSpPr>
          <p:cNvPr id="210" name=""/>
          <p:cNvCxnSpPr>
            <a:endCxn id="208" idx="7"/>
          </p:cNvCxnSpPr>
          <p:nvPr/>
        </p:nvCxnSpPr>
        <p:spPr>
          <a:xfrm>
            <a:off x="7088040" y="3750840"/>
            <a:ext cx="138960" cy="1180440"/>
          </a:xfrm>
          <a:prstGeom prst="straightConnector1">
            <a:avLst/>
          </a:prstGeom>
          <a:ln w="12600">
            <a:solidFill>
              <a:srgbClr val="333333"/>
            </a:solidFill>
            <a:prstDash val="dash"/>
            <a:miter/>
          </a:ln>
        </p:spPr>
      </p:cxnSp>
      <p:cxnSp>
        <p:nvCxnSpPr>
          <p:cNvPr id="211" name=""/>
          <p:cNvCxnSpPr>
            <a:endCxn id="208" idx="7"/>
          </p:cNvCxnSpPr>
          <p:nvPr/>
        </p:nvCxnSpPr>
        <p:spPr>
          <a:xfrm>
            <a:off x="5051520" y="3668400"/>
            <a:ext cx="1156320" cy="1221480"/>
          </a:xfrm>
          <a:prstGeom prst="straightConnector1">
            <a:avLst/>
          </a:prstGeom>
          <a:ln w="12600">
            <a:solidFill>
              <a:srgbClr val="333333"/>
            </a:solidFill>
            <a:prstDash val="dash"/>
            <a:miter/>
          </a:ln>
        </p:spPr>
      </p:cxnSp>
      <p:cxnSp>
        <p:nvCxnSpPr>
          <p:cNvPr id="212" name=""/>
          <p:cNvCxnSpPr>
            <a:endCxn id="208" idx="6"/>
          </p:cNvCxnSpPr>
          <p:nvPr/>
        </p:nvCxnSpPr>
        <p:spPr>
          <a:xfrm>
            <a:off x="5063760" y="3639600"/>
            <a:ext cx="1143720" cy="1248840"/>
          </a:xfrm>
          <a:prstGeom prst="straightConnector1">
            <a:avLst/>
          </a:prstGeom>
          <a:ln w="12600">
            <a:solidFill>
              <a:srgbClr val="333333"/>
            </a:solidFill>
            <a:prstDash val="dash"/>
            <a:miter/>
          </a:ln>
        </p:spPr>
      </p:cxnSp>
      <p:sp>
        <p:nvSpPr>
          <p:cNvPr id="213" name=""/>
          <p:cNvSpPr/>
          <p:nvPr/>
        </p:nvSpPr>
        <p:spPr>
          <a:xfrm flipH="1">
            <a:off x="6360840" y="5829480"/>
            <a:ext cx="725400" cy="1440"/>
          </a:xfrm>
          <a:prstGeom prst="line">
            <a:avLst/>
          </a:prstGeom>
          <a:ln w="2232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248600" y="5829480"/>
            <a:ext cx="95040" cy="1440"/>
          </a:xfrm>
          <a:prstGeom prst="line">
            <a:avLst/>
          </a:prstGeom>
          <a:ln w="2232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657600"/>
            <a:ext cx="46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657600"/>
            <a:ext cx="46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6172200"/>
            <a:ext cx="46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6110280"/>
            <a:ext cx="46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Algoritmo: ejemplos de overla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S pasa alguno de los siguientes tests (son verdaderos), no es necesario reorde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bounding rectangles (coordinate extents) de las dos superficies no se superponen en el plano XY (Figura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uperficie S está completamente detrás de la otra  mirada desde la posición de viewing (Figura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uperficie que se superpone está completamente adelante de S desde la posición de viewing (Figura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royección de los arcos del borde de cada polígono  no se superpo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s 4 tests fallan?  Qué casos exist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Algoritmo: ejemplos de overla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s 4 test fallan con S'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ambiar  S y S' en la lista orde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tir los tests para cada superficie que es re-ordenada en l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359000" y="3808080"/>
            <a:ext cx="3024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73160" y="5599080"/>
            <a:ext cx="320184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9560" y="58212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4720" y="55627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165400" y="4724280"/>
            <a:ext cx="318960" cy="828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996920" y="4495680"/>
            <a:ext cx="1057320" cy="7416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26080" y="449568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30480" y="45259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73160" y="5599080"/>
            <a:ext cx="320184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69560" y="58212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4720" y="55627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165400" y="4724280"/>
            <a:ext cx="318960" cy="828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996920" y="4495680"/>
            <a:ext cx="1057320" cy="7416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26080" y="449568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30480" y="45259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90680" y="574524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&lt;S </a:t>
            </a:r>
            <a:r>
              <a:rPr b="1" lang="en-US" sz="1200" spc="-1" strike="noStrike">
                <a:solidFill>
                  <a:srgbClr val="333333"/>
                </a:solidFill>
                <a:latin typeface="Wingdings"/>
                <a:ea typeface="Wingdings"/>
              </a:rPr>
              <a:t></a:t>
            </a: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 S’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73160" y="5599080"/>
            <a:ext cx="320184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9560" y="58212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04720" y="55627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65400" y="4724280"/>
            <a:ext cx="318960" cy="828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96920" y="4495680"/>
            <a:ext cx="1057320" cy="74160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26080" y="449568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30480" y="452592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90680" y="574524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&lt;S </a:t>
            </a:r>
            <a:r>
              <a:rPr b="1" lang="en-US" sz="1200" spc="-1" strike="noStrike">
                <a:solidFill>
                  <a:srgbClr val="333333"/>
                </a:solidFill>
                <a:latin typeface="Wingdings"/>
                <a:ea typeface="Wingdings"/>
              </a:rPr>
              <a:t></a:t>
            </a: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 S’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84720" y="3808080"/>
            <a:ext cx="1800" cy="2212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83040" y="5599080"/>
            <a:ext cx="3202200" cy="1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79440" y="5821200"/>
            <a:ext cx="30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z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14960" y="5562720"/>
            <a:ext cx="319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x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Microsoft Sans Serif"/>
                <a:ea typeface="새굴림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83320" y="4083120"/>
            <a:ext cx="799920" cy="67932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64200" y="4227480"/>
            <a:ext cx="687600" cy="68904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78800" y="441972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26360" y="449568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27800" y="4489560"/>
            <a:ext cx="633240" cy="852480"/>
          </a:xfrm>
          <a:prstGeom prst="line">
            <a:avLst/>
          </a:prstGeom>
          <a:ln w="19080">
            <a:solidFill>
              <a:srgbClr val="efa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11240" y="4343400"/>
            <a:ext cx="33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87640" y="574524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&lt;S </a:t>
            </a:r>
            <a:r>
              <a:rPr b="1" lang="en-US" sz="1200" spc="-1" strike="noStrike">
                <a:solidFill>
                  <a:srgbClr val="333333"/>
                </a:solidFill>
                <a:latin typeface="Wingdings"/>
                <a:ea typeface="Wingdings"/>
              </a:rPr>
              <a:t></a:t>
            </a: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 S’’, then S’’ </a:t>
            </a:r>
            <a:r>
              <a:rPr b="1" lang="en-US" sz="1200" spc="-1" strike="noStrike">
                <a:solidFill>
                  <a:srgbClr val="333333"/>
                </a:solidFill>
                <a:latin typeface="Wingdings"/>
                <a:ea typeface="Wingdings"/>
              </a:rPr>
              <a:t></a:t>
            </a: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 S’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Algoritmo: proble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dos o mas caras se “tapan”  una con ot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p infini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o evitarlo: marcar cada cara cuando ha sido reordenada a una profundidad más lej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puede ser reordenada de nue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intenta  reordenarla de nuev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ir el polígono en dos polígonos más pequ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uperficie original es ahora reemplazada por dos nuevas superf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143000" y="5410080"/>
            <a:ext cx="6934320" cy="1905120"/>
            <a:chOff x="1143000" y="5410080"/>
            <a:chExt cx="6934320" cy="1905120"/>
          </a:xfrm>
        </p:grpSpPr>
        <p:grpSp>
          <p:nvGrpSpPr>
            <p:cNvPr id="261" name=""/>
            <p:cNvGrpSpPr/>
            <p:nvPr/>
          </p:nvGrpSpPr>
          <p:grpSpPr>
            <a:xfrm>
              <a:off x="1143000" y="5410080"/>
              <a:ext cx="1981080" cy="1905120"/>
              <a:chOff x="1143000" y="5410080"/>
              <a:chExt cx="1981080" cy="1905120"/>
            </a:xfrm>
          </p:grpSpPr>
          <p:sp>
            <p:nvSpPr>
              <p:cNvPr id="262" name=""/>
              <p:cNvSpPr/>
              <p:nvPr/>
            </p:nvSpPr>
            <p:spPr>
              <a:xfrm>
                <a:off x="1143000" y="5986440"/>
                <a:ext cx="1430280" cy="604800"/>
              </a:xfrm>
              <a:custGeom>
                <a:avLst/>
                <a:gdLst/>
                <a:ahLst/>
                <a:rect l="l" t="t" r="r" b="b"/>
                <a:pathLst>
                  <a:path w="624" h="288">
                    <a:moveTo>
                      <a:pt x="0" y="192"/>
                    </a:moveTo>
                    <a:lnTo>
                      <a:pt x="384" y="0"/>
                    </a:lnTo>
                    <a:lnTo>
                      <a:pt x="624" y="96"/>
                    </a:lnTo>
                    <a:lnTo>
                      <a:pt x="240" y="28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93800" y="5410080"/>
                <a:ext cx="879480" cy="1905120"/>
              </a:xfrm>
              <a:custGeom>
                <a:avLst/>
                <a:gdLst/>
                <a:ahLst/>
                <a:rect l="l" t="t" r="r" b="b"/>
                <a:pathLst>
                  <a:path w="480" h="864">
                    <a:moveTo>
                      <a:pt x="0" y="240"/>
                    </a:moveTo>
                    <a:lnTo>
                      <a:pt x="480" y="0"/>
                    </a:lnTo>
                    <a:lnTo>
                      <a:pt x="480" y="624"/>
                    </a:lnTo>
                    <a:lnTo>
                      <a:pt x="0" y="864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693800" y="6188040"/>
                <a:ext cx="1430280" cy="604800"/>
              </a:xfrm>
              <a:custGeom>
                <a:avLst/>
                <a:gdLst/>
                <a:ahLst/>
                <a:rect l="l" t="t" r="r" b="b"/>
                <a:pathLst>
                  <a:path w="624" h="288">
                    <a:moveTo>
                      <a:pt x="0" y="192"/>
                    </a:moveTo>
                    <a:lnTo>
                      <a:pt x="384" y="0"/>
                    </a:lnTo>
                    <a:lnTo>
                      <a:pt x="624" y="96"/>
                    </a:lnTo>
                    <a:lnTo>
                      <a:pt x="240" y="28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1693800" y="6186240"/>
                <a:ext cx="879480" cy="40644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309840" y="5410080"/>
              <a:ext cx="2227320" cy="1905120"/>
              <a:chOff x="3309840" y="5410080"/>
              <a:chExt cx="2227320" cy="1905120"/>
            </a:xfrm>
          </p:grpSpPr>
          <p:sp>
            <p:nvSpPr>
              <p:cNvPr id="267" name=""/>
              <p:cNvSpPr/>
              <p:nvPr/>
            </p:nvSpPr>
            <p:spPr>
              <a:xfrm>
                <a:off x="4500720" y="5902200"/>
                <a:ext cx="1036440" cy="5079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44"/>
                    </a:moveTo>
                    <a:lnTo>
                      <a:pt x="336" y="0"/>
                    </a:lnTo>
                    <a:lnTo>
                      <a:pt x="480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09840" y="5918040"/>
                <a:ext cx="1967040" cy="76212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192" y="0"/>
                    </a:moveTo>
                    <a:lnTo>
                      <a:pt x="0" y="96"/>
                    </a:lnTo>
                    <a:lnTo>
                      <a:pt x="1056" y="288"/>
                    </a:lnTo>
                    <a:lnTo>
                      <a:pt x="1200" y="192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24200" y="5410080"/>
                <a:ext cx="309600" cy="1905120"/>
              </a:xfrm>
              <a:custGeom>
                <a:avLst/>
                <a:gdLst/>
                <a:ahLst/>
                <a:rect l="l" t="t" r="r" b="b"/>
                <a:pathLst>
                  <a:path w="192" h="720">
                    <a:moveTo>
                      <a:pt x="192" y="0"/>
                    </a:moveTo>
                    <a:lnTo>
                      <a:pt x="0" y="96"/>
                    </a:lnTo>
                    <a:lnTo>
                      <a:pt x="0" y="720"/>
                    </a:lnTo>
                    <a:lnTo>
                      <a:pt x="192" y="62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517920" y="6426360"/>
                <a:ext cx="1035000" cy="5079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336" y="0"/>
                    </a:moveTo>
                    <a:lnTo>
                      <a:pt x="0" y="144"/>
                    </a:lnTo>
                    <a:lnTo>
                      <a:pt x="144" y="192"/>
                    </a:lnTo>
                    <a:lnTo>
                      <a:pt x="480" y="48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3776760" y="6392880"/>
                <a:ext cx="206280" cy="13032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756400" y="5410080"/>
              <a:ext cx="2320920" cy="1905120"/>
              <a:chOff x="5756400" y="5410080"/>
              <a:chExt cx="2320920" cy="1905120"/>
            </a:xfrm>
          </p:grpSpPr>
          <p:sp>
            <p:nvSpPr>
              <p:cNvPr id="273" name=""/>
              <p:cNvSpPr/>
              <p:nvPr/>
            </p:nvSpPr>
            <p:spPr>
              <a:xfrm>
                <a:off x="5756400" y="5983200"/>
                <a:ext cx="990360" cy="484200"/>
              </a:xfrm>
              <a:custGeom>
                <a:avLst/>
                <a:gdLst/>
                <a:ahLst/>
                <a:rect l="l" t="t" r="r" b="b"/>
                <a:pathLst>
                  <a:path w="576" h="192">
                    <a:moveTo>
                      <a:pt x="576" y="0"/>
                    </a:moveTo>
                    <a:lnTo>
                      <a:pt x="48" y="48"/>
                    </a:lnTo>
                    <a:lnTo>
                      <a:pt x="0" y="192"/>
                    </a:lnTo>
                    <a:lnTo>
                      <a:pt x="576" y="144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097680" y="5410080"/>
                <a:ext cx="1649160" cy="1905120"/>
              </a:xfrm>
              <a:custGeom>
                <a:avLst/>
                <a:gdLst/>
                <a:ahLst/>
                <a:rect l="l" t="t" r="r" b="b"/>
                <a:pathLst>
                  <a:path w="960" h="864">
                    <a:moveTo>
                      <a:pt x="192" y="192"/>
                    </a:moveTo>
                    <a:lnTo>
                      <a:pt x="0" y="240"/>
                    </a:lnTo>
                    <a:lnTo>
                      <a:pt x="0" y="864"/>
                    </a:lnTo>
                    <a:lnTo>
                      <a:pt x="960" y="624"/>
                    </a:lnTo>
                    <a:lnTo>
                      <a:pt x="960" y="0"/>
                    </a:lnTo>
                    <a:lnTo>
                      <a:pt x="768" y="48"/>
                    </a:lnTo>
                    <a:lnTo>
                      <a:pt x="768" y="432"/>
                    </a:lnTo>
                    <a:lnTo>
                      <a:pt x="192" y="576"/>
                    </a:lnTo>
                    <a:lnTo>
                      <a:pt x="192" y="192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427800" y="5834160"/>
                <a:ext cx="1649520" cy="552240"/>
              </a:xfrm>
              <a:custGeom>
                <a:avLst/>
                <a:gdLst/>
                <a:ahLst/>
                <a:rect l="l" t="t" r="r" b="b"/>
                <a:pathLst>
                  <a:path w="960" h="288">
                    <a:moveTo>
                      <a:pt x="0" y="96"/>
                    </a:moveTo>
                    <a:lnTo>
                      <a:pt x="960" y="0"/>
                    </a:lnTo>
                    <a:lnTo>
                      <a:pt x="912" y="192"/>
                    </a:lnTo>
                    <a:lnTo>
                      <a:pt x="0" y="288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12000" y="5961240"/>
                <a:ext cx="1440" cy="36828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partición binaria del espacio (BS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 la visibilidad de los objetos pintando las caras desde la más profunda hasta la más cercana (parecido al algoritmo del pin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superficies(polígonos)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ue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entr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l plano de parti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ir los objetos intersectados por el plan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620000" y="4494240"/>
            <a:ext cx="2858040" cy="2364120"/>
            <a:chOff x="1620000" y="4494240"/>
            <a:chExt cx="2858040" cy="2364120"/>
          </a:xfrm>
        </p:grpSpPr>
        <p:sp>
          <p:nvSpPr>
            <p:cNvPr id="280" name=""/>
            <p:cNvSpPr/>
            <p:nvPr/>
          </p:nvSpPr>
          <p:spPr>
            <a:xfrm>
              <a:off x="1724040" y="5637240"/>
              <a:ext cx="1143000" cy="914400"/>
            </a:xfrm>
            <a:custGeom>
              <a:avLst/>
              <a:gdLst/>
              <a:ahLst/>
              <a:rect l="l" t="t" r="r" b="b"/>
              <a:pathLst>
                <a:path w="720" h="672">
                  <a:moveTo>
                    <a:pt x="0" y="96"/>
                  </a:moveTo>
                  <a:lnTo>
                    <a:pt x="432" y="0"/>
                  </a:lnTo>
                  <a:lnTo>
                    <a:pt x="720" y="67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62120" y="5103720"/>
              <a:ext cx="685800" cy="30492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192"/>
                  </a:moveTo>
                  <a:lnTo>
                    <a:pt x="384" y="288"/>
                  </a:lnTo>
                  <a:lnTo>
                    <a:pt x="432" y="48"/>
                  </a:lnTo>
                  <a:lnTo>
                    <a:pt x="192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4200" y="5180040"/>
              <a:ext cx="228600" cy="228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13120" y="4799160"/>
              <a:ext cx="1447560" cy="1904760"/>
            </a:xfrm>
            <a:prstGeom prst="line">
              <a:avLst/>
            </a:prstGeom>
            <a:ln w="19080">
              <a:solidFill>
                <a:srgbClr val="efa0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13120" y="4719240"/>
              <a:ext cx="1904760" cy="1987560"/>
            </a:xfrm>
            <a:prstGeom prst="line">
              <a:avLst/>
            </a:prstGeom>
            <a:ln w="19080">
              <a:solidFill>
                <a:srgbClr val="efa0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835280" y="4873680"/>
              <a:ext cx="234720" cy="152280"/>
            </a:xfrm>
            <a:prstGeom prst="line">
              <a:avLst/>
            </a:prstGeom>
            <a:ln w="9360">
              <a:solidFill>
                <a:srgbClr val="efa0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619080" y="4719240"/>
              <a:ext cx="158760" cy="158760"/>
            </a:xfrm>
            <a:prstGeom prst="line">
              <a:avLst/>
            </a:prstGeom>
            <a:ln w="9360">
              <a:solidFill>
                <a:srgbClr val="efa0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53920" y="452268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59200" y="449424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85040" y="490536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84640" y="513396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76320" y="54388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48600" y="62467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20000" y="639936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63160" y="658188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23560" y="655164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5160" y="647532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322960" y="4184280"/>
            <a:ext cx="3029040" cy="2864520"/>
            <a:chOff x="5322960" y="4184280"/>
            <a:chExt cx="3029040" cy="2864520"/>
          </a:xfrm>
        </p:grpSpPr>
        <p:sp>
          <p:nvSpPr>
            <p:cNvPr id="298" name=""/>
            <p:cNvSpPr/>
            <p:nvPr/>
          </p:nvSpPr>
          <p:spPr>
            <a:xfrm>
              <a:off x="6662520" y="457056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51520" y="564516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1400" y="5645160"/>
              <a:ext cx="327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P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28960" y="677232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0360" y="677232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02080" y="677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62680" y="677232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56560" y="503568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6" name=""/>
            <p:cNvCxnSpPr>
              <a:stCxn id="298" idx="2"/>
              <a:endCxn id="299" idx="0"/>
            </p:cNvCxnSpPr>
            <p:nvPr/>
          </p:nvCxnSpPr>
          <p:spPr>
            <a:xfrm flipH="1">
              <a:off x="5403240" y="4184280"/>
              <a:ext cx="711720" cy="73260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07" name=""/>
            <p:cNvCxnSpPr>
              <a:stCxn id="298" idx="2"/>
              <a:endCxn id="300" idx="0"/>
            </p:cNvCxnSpPr>
            <p:nvPr/>
          </p:nvCxnSpPr>
          <p:spPr>
            <a:xfrm>
              <a:off x="6067440" y="4184280"/>
              <a:ext cx="759600" cy="73260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08" name=""/>
            <p:cNvCxnSpPr>
              <a:stCxn id="299" idx="2"/>
              <a:endCxn id="301" idx="0"/>
            </p:cNvCxnSpPr>
            <p:nvPr/>
          </p:nvCxnSpPr>
          <p:spPr>
            <a:xfrm flipH="1">
              <a:off x="5428440" y="5204880"/>
              <a:ext cx="343800" cy="7851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09" name=""/>
            <p:cNvCxnSpPr>
              <a:stCxn id="299" idx="2"/>
              <a:endCxn id="302" idx="0"/>
            </p:cNvCxnSpPr>
            <p:nvPr/>
          </p:nvCxnSpPr>
          <p:spPr>
            <a:xfrm>
              <a:off x="5791320" y="5204880"/>
              <a:ext cx="326160" cy="7851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10" name=""/>
            <p:cNvCxnSpPr>
              <a:stCxn id="300" idx="2"/>
              <a:endCxn id="303" idx="0"/>
            </p:cNvCxnSpPr>
            <p:nvPr/>
          </p:nvCxnSpPr>
          <p:spPr>
            <a:xfrm flipH="1">
              <a:off x="6903720" y="5204880"/>
              <a:ext cx="342000" cy="7851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11" name=""/>
            <p:cNvCxnSpPr>
              <a:stCxn id="300" idx="2"/>
              <a:endCxn id="304" idx="0"/>
            </p:cNvCxnSpPr>
            <p:nvPr/>
          </p:nvCxnSpPr>
          <p:spPr>
            <a:xfrm>
              <a:off x="7261200" y="5204880"/>
              <a:ext cx="324720" cy="7851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sp>
          <p:nvSpPr>
            <p:cNvPr id="312" name=""/>
            <p:cNvSpPr/>
            <p:nvPr/>
          </p:nvSpPr>
          <p:spPr>
            <a:xfrm>
              <a:off x="5322960" y="612144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69440" y="613080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r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35280" y="503568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28800" y="612144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11640" y="6130800"/>
              <a:ext cx="54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324560" y="6921360"/>
              <a:ext cx="44784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527520" y="6921360"/>
              <a:ext cx="59508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841720" y="6921360"/>
              <a:ext cx="44748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de áre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ca ventaja de las coherencia de á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ndo áreas visibles que representan una parte de una única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endo sucesivamente el área de viewing en rectángulos peque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ta que cada área es la proyección de una sola superficie o de ning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 problemas que hay resolver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sts de identific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un área con una superfi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si el área es demasiado compleja de analiz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é estructura se pare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de áreas:algoritm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a construir u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uad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nzando con la vista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licar los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ests de identif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s tests indican que la vista dentro de un área es lo suficientemente comple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divid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licar ls tests a cada área más pequeñ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ta que contenga una sola superfi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ta que su tamaño sea de  un único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on resolución 1024x1024, si se divide  10 veces, el tamaño de cada área es de un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57200" y="4876920"/>
            <a:ext cx="1828800" cy="1752480"/>
            <a:chOff x="457200" y="4876920"/>
            <a:chExt cx="1828800" cy="1752480"/>
          </a:xfrm>
        </p:grpSpPr>
        <p:sp>
          <p:nvSpPr>
            <p:cNvPr id="325" name=""/>
            <p:cNvSpPr/>
            <p:nvPr/>
          </p:nvSpPr>
          <p:spPr>
            <a:xfrm>
              <a:off x="457200" y="4876920"/>
              <a:ext cx="1828800" cy="1752480"/>
            </a:xfrm>
            <a:prstGeom prst="rect">
              <a:avLst/>
            </a:prstGeom>
            <a:noFill/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71600" y="4876920"/>
              <a:ext cx="1440" cy="175248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200" y="5715000"/>
              <a:ext cx="18288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28800" y="5715000"/>
              <a:ext cx="1440" cy="9144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6172200"/>
              <a:ext cx="9144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57400" y="6172200"/>
              <a:ext cx="1440" cy="4572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28800" y="6400800"/>
              <a:ext cx="4572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de áreas: tests de identific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4378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tro posibles re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 rodea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 se superpone en parte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 dentro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 fuera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área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 se divide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s las superficies están fuera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e solo una superficie rodeando, superpuesta parcialmento o dentro del á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superficie que rodea el área oculta todas las demás que la intersect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629400" y="1143000"/>
            <a:ext cx="1600200" cy="1295280"/>
            <a:chOff x="6629400" y="1143000"/>
            <a:chExt cx="1600200" cy="1295280"/>
          </a:xfrm>
        </p:grpSpPr>
        <p:sp>
          <p:nvSpPr>
            <p:cNvPr id="335" name=""/>
            <p:cNvSpPr/>
            <p:nvPr/>
          </p:nvSpPr>
          <p:spPr>
            <a:xfrm>
              <a:off x="6629400" y="1143000"/>
              <a:ext cx="1600200" cy="1295280"/>
            </a:xfrm>
            <a:custGeom>
              <a:avLst/>
              <a:gdLst/>
              <a:ahLst/>
              <a:rect l="l" t="t" r="r" b="b"/>
              <a:pathLst>
                <a:path w="1056" h="816">
                  <a:moveTo>
                    <a:pt x="528" y="0"/>
                  </a:moveTo>
                  <a:lnTo>
                    <a:pt x="816" y="0"/>
                  </a:lnTo>
                  <a:lnTo>
                    <a:pt x="1056" y="672"/>
                  </a:lnTo>
                  <a:lnTo>
                    <a:pt x="720" y="816"/>
                  </a:lnTo>
                  <a:lnTo>
                    <a:pt x="192" y="672"/>
                  </a:lnTo>
                  <a:lnTo>
                    <a:pt x="0" y="288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62920" y="1447920"/>
              <a:ext cx="761760" cy="76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8763120" y="2057400"/>
            <a:ext cx="1066680" cy="1143000"/>
            <a:chOff x="8763120" y="2057400"/>
            <a:chExt cx="1066680" cy="1143000"/>
          </a:xfrm>
        </p:grpSpPr>
        <p:sp>
          <p:nvSpPr>
            <p:cNvPr id="338" name=""/>
            <p:cNvSpPr/>
            <p:nvPr/>
          </p:nvSpPr>
          <p:spPr>
            <a:xfrm>
              <a:off x="8763120" y="2209680"/>
              <a:ext cx="761760" cy="7621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144000" y="2057400"/>
              <a:ext cx="685800" cy="1143000"/>
            </a:xfrm>
            <a:custGeom>
              <a:avLst/>
              <a:gdLst/>
              <a:ahLst/>
              <a:rect l="l" t="t" r="r" b="b"/>
              <a:pathLst>
                <a:path w="432" h="720">
                  <a:moveTo>
                    <a:pt x="192" y="0"/>
                  </a:moveTo>
                  <a:lnTo>
                    <a:pt x="0" y="624"/>
                  </a:lnTo>
                  <a:lnTo>
                    <a:pt x="240" y="720"/>
                  </a:lnTo>
                  <a:lnTo>
                    <a:pt x="432" y="336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781680" y="2971800"/>
            <a:ext cx="762120" cy="762120"/>
            <a:chOff x="6781680" y="2971800"/>
            <a:chExt cx="762120" cy="762120"/>
          </a:xfrm>
        </p:grpSpPr>
        <p:sp>
          <p:nvSpPr>
            <p:cNvPr id="341" name=""/>
            <p:cNvSpPr/>
            <p:nvPr/>
          </p:nvSpPr>
          <p:spPr>
            <a:xfrm>
              <a:off x="6781680" y="2971800"/>
              <a:ext cx="762120" cy="7621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480000">
              <a:off x="7088040" y="319896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48"/>
                  </a:moveTo>
                  <a:lnTo>
                    <a:pt x="144" y="0"/>
                  </a:lnTo>
                  <a:lnTo>
                    <a:pt x="96" y="144"/>
                  </a:lnTo>
                  <a:lnTo>
                    <a:pt x="0" y="1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8458200" y="3886200"/>
            <a:ext cx="952560" cy="914400"/>
            <a:chOff x="8458200" y="3886200"/>
            <a:chExt cx="952560" cy="914400"/>
          </a:xfrm>
        </p:grpSpPr>
        <p:sp>
          <p:nvSpPr>
            <p:cNvPr id="344" name=""/>
            <p:cNvSpPr/>
            <p:nvPr/>
          </p:nvSpPr>
          <p:spPr>
            <a:xfrm>
              <a:off x="8458200" y="4038480"/>
              <a:ext cx="762120" cy="7621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220320" y="3886200"/>
              <a:ext cx="190440" cy="17136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192"/>
                  </a:moveTo>
                  <a:lnTo>
                    <a:pt x="192" y="288"/>
                  </a:lnTo>
                  <a:lnTo>
                    <a:pt x="384" y="192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178840" y="1370160"/>
            <a:ext cx="113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r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12200" y="319896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Overl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01400" y="3427560"/>
            <a:ext cx="75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78720" y="41148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basado en octr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ón del método de división de á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proyectan los nodos en el view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den desde adelante hacia atrás (se recorren encuentran y analizan primero las superficies menos profun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nodos de los primeros octantes son visitados primero que los nodos posteri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 un pixel se le asigna el color de la superficie que se encuentra en el primer nodo que le correspon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395240" y="4903920"/>
            <a:ext cx="4158000" cy="2182680"/>
            <a:chOff x="4395240" y="4903920"/>
            <a:chExt cx="4158000" cy="2182680"/>
          </a:xfrm>
        </p:grpSpPr>
        <p:sp>
          <p:nvSpPr>
            <p:cNvPr id="353" name=""/>
            <p:cNvSpPr/>
            <p:nvPr/>
          </p:nvSpPr>
          <p:spPr>
            <a:xfrm>
              <a:off x="6580080" y="5699160"/>
              <a:ext cx="180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72320" y="5479920"/>
              <a:ext cx="180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5" name=""/>
            <p:cNvCxnSpPr/>
            <p:nvPr/>
          </p:nvCxnSpPr>
          <p:spPr>
            <a:xfrm flipV="1">
              <a:off x="5487480" y="6649200"/>
              <a:ext cx="1094760" cy="2199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56" name=""/>
            <p:cNvCxnSpPr/>
            <p:nvPr/>
          </p:nvCxnSpPr>
          <p:spPr>
            <a:xfrm flipH="1">
              <a:off x="5487480" y="6649560"/>
              <a:ext cx="1092960" cy="2199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sp>
          <p:nvSpPr>
            <p:cNvPr id="357" name=""/>
            <p:cNvSpPr/>
            <p:nvPr/>
          </p:nvSpPr>
          <p:spPr>
            <a:xfrm>
              <a:off x="7135920" y="5591160"/>
              <a:ext cx="144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7840" y="5479920"/>
              <a:ext cx="180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9" name=""/>
            <p:cNvCxnSpPr/>
            <p:nvPr/>
          </p:nvCxnSpPr>
          <p:spPr>
            <a:xfrm>
              <a:off x="4395600" y="6649560"/>
              <a:ext cx="1092600" cy="2199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60" name=""/>
            <p:cNvCxnSpPr/>
            <p:nvPr/>
          </p:nvCxnSpPr>
          <p:spPr>
            <a:xfrm flipH="1" flipV="1">
              <a:off x="4395240" y="6649200"/>
              <a:ext cx="1092600" cy="21996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sp>
          <p:nvSpPr>
            <p:cNvPr id="361" name=""/>
            <p:cNvSpPr/>
            <p:nvPr/>
          </p:nvSpPr>
          <p:spPr>
            <a:xfrm>
              <a:off x="6024600" y="5591160"/>
              <a:ext cx="1440" cy="1387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2" name=""/>
            <p:cNvCxnSpPr/>
            <p:nvPr/>
          </p:nvCxnSpPr>
          <p:spPr>
            <a:xfrm flipH="1" flipV="1">
              <a:off x="5487480" y="5043240"/>
              <a:ext cx="1092960" cy="21960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cxnSp>
          <p:nvCxnSpPr>
            <p:cNvPr id="363" name=""/>
            <p:cNvCxnSpPr/>
            <p:nvPr/>
          </p:nvCxnSpPr>
          <p:spPr>
            <a:xfrm flipH="1">
              <a:off x="4395240" y="5043240"/>
              <a:ext cx="1092600" cy="221400"/>
            </a:xfrm>
            <a:prstGeom prst="straightConnector1">
              <a:avLst/>
            </a:prstGeom>
            <a:ln w="19080">
              <a:solidFill>
                <a:srgbClr val="006699"/>
              </a:solidFill>
              <a:miter/>
            </a:ln>
          </p:spPr>
        </p:cxnSp>
        <p:sp>
          <p:nvSpPr>
            <p:cNvPr id="364" name=""/>
            <p:cNvSpPr/>
            <p:nvPr/>
          </p:nvSpPr>
          <p:spPr>
            <a:xfrm flipV="1">
              <a:off x="6580080" y="6208200"/>
              <a:ext cx="1092240" cy="2257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024600" y="5367240"/>
              <a:ext cx="1092240" cy="225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5484600" y="6208200"/>
              <a:ext cx="1098360" cy="2257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6040440" y="5367240"/>
              <a:ext cx="1098720" cy="22536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41720" y="59022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275960" y="57754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31280" y="65851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76680" y="6480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07360" y="64897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90680" y="53355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68480" y="5219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29640" y="4903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47080" y="5094360"/>
              <a:ext cx="182520" cy="25236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0" y="0"/>
                  </a:moveTo>
                  <a:cubicBezTo>
                    <a:pt x="44" y="36"/>
                    <a:pt x="88" y="72"/>
                    <a:pt x="96" y="96"/>
                  </a:cubicBezTo>
                  <a:cubicBezTo>
                    <a:pt x="104" y="120"/>
                    <a:pt x="76" y="132"/>
                    <a:pt x="48" y="144"/>
                  </a:cubicBezTo>
                </a:path>
              </a:pathLst>
            </a:custGeom>
            <a:noFill/>
            <a:ln w="158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746840" y="6172200"/>
              <a:ext cx="806400" cy="193680"/>
              <a:chOff x="7746840" y="6172200"/>
              <a:chExt cx="806400" cy="19368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8248320" y="6172200"/>
                <a:ext cx="304920" cy="193680"/>
                <a:chOff x="8248320" y="6172200"/>
                <a:chExt cx="304920" cy="193680"/>
              </a:xfrm>
            </p:grpSpPr>
            <p:grpSp>
              <p:nvGrpSpPr>
                <p:cNvPr id="379" name=""/>
                <p:cNvGrpSpPr/>
                <p:nvPr/>
              </p:nvGrpSpPr>
              <p:grpSpPr>
                <a:xfrm>
                  <a:off x="8248320" y="6172200"/>
                  <a:ext cx="304920" cy="193680"/>
                  <a:chOff x="8248320" y="6172200"/>
                  <a:chExt cx="304920" cy="1936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flipV="1">
                    <a:off x="8250120" y="6327720"/>
                    <a:ext cx="301680" cy="38160"/>
                  </a:xfrm>
                  <a:prstGeom prst="line">
                    <a:avLst/>
                  </a:prstGeom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flipV="1">
                    <a:off x="8248320" y="6172200"/>
                    <a:ext cx="304920" cy="162000"/>
                  </a:xfrm>
                  <a:prstGeom prst="line">
                    <a:avLst/>
                  </a:prstGeom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"/>
                <p:cNvSpPr/>
                <p:nvPr/>
              </p:nvSpPr>
              <p:spPr>
                <a:xfrm flipV="1" rot="1680000">
                  <a:off x="8290080" y="6222960"/>
                  <a:ext cx="64800" cy="125280"/>
                </a:xfrm>
                <a:custGeom>
                  <a:avLst/>
                  <a:gdLst/>
                  <a:ahLst/>
                  <a:rect l="l" t="t" r="r" b="b"/>
                  <a:pathLst>
                    <a:path w="56" h="144">
                      <a:moveTo>
                        <a:pt x="56" y="0"/>
                      </a:moveTo>
                      <a:cubicBezTo>
                        <a:pt x="36" y="12"/>
                        <a:pt x="16" y="24"/>
                        <a:pt x="8" y="48"/>
                      </a:cubicBezTo>
                      <a:cubicBezTo>
                        <a:pt x="0" y="72"/>
                        <a:pt x="4" y="108"/>
                        <a:pt x="8" y="144"/>
                      </a:cubicBezTo>
                    </a:path>
                  </a:pathLst>
                </a:custGeom>
                <a:noFill/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 flipH="1" flipV="1">
                <a:off x="7746840" y="6205320"/>
                <a:ext cx="457200" cy="52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384" name=""/>
          <p:cNvCxnSpPr/>
          <p:nvPr/>
        </p:nvCxnSpPr>
        <p:spPr>
          <a:xfrm flipH="1" flipV="1">
            <a:off x="4444560" y="5277600"/>
            <a:ext cx="1092960" cy="21996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cxnSp>
        <p:nvCxnSpPr>
          <p:cNvPr id="385" name=""/>
          <p:cNvCxnSpPr/>
          <p:nvPr/>
        </p:nvCxnSpPr>
        <p:spPr>
          <a:xfrm flipH="1">
            <a:off x="5536800" y="5277960"/>
            <a:ext cx="1092960" cy="21996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scan-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ordenamiento en produndidad (del pin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binary space partition tree (BSP-t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basado en subdivisión de á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basdo en oct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ray ca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para superficies cur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de subdivisión basado en octr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se dibuj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ociar (map) el octree a un quadtree de área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correr los nodos del octree, recursivamente, desde adelante hacia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a información del quadtree es cargada en el frame-bu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34160" y="5037120"/>
            <a:ext cx="1800" cy="17748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323280" y="4476600"/>
            <a:ext cx="1800" cy="177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"/>
          <p:cNvCxnSpPr/>
          <p:nvPr/>
        </p:nvCxnSpPr>
        <p:spPr>
          <a:xfrm flipV="1">
            <a:off x="5945040" y="5691960"/>
            <a:ext cx="1689840" cy="56124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cxnSp>
        <p:nvCxnSpPr>
          <p:cNvPr id="391" name=""/>
          <p:cNvCxnSpPr/>
          <p:nvPr/>
        </p:nvCxnSpPr>
        <p:spPr>
          <a:xfrm flipH="1">
            <a:off x="5944680" y="5689080"/>
            <a:ext cx="1689840" cy="56268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8493120" y="4746600"/>
            <a:ext cx="1440" cy="177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946840" y="4498920"/>
            <a:ext cx="1440" cy="17748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/>
          <p:nvPr/>
        </p:nvCxnSpPr>
        <p:spPr>
          <a:xfrm>
            <a:off x="4257720" y="5733720"/>
            <a:ext cx="1689840" cy="54036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cxnSp>
        <p:nvCxnSpPr>
          <p:cNvPr id="395" name=""/>
          <p:cNvCxnSpPr/>
          <p:nvPr/>
        </p:nvCxnSpPr>
        <p:spPr>
          <a:xfrm flipH="1" flipV="1">
            <a:off x="4255560" y="5736600"/>
            <a:ext cx="1689840" cy="538920"/>
          </a:xfrm>
          <a:prstGeom prst="straightConnector1">
            <a:avLst/>
          </a:prstGeom>
          <a:ln w="19080">
            <a:solidFill>
              <a:srgbClr val="006699"/>
            </a:solidFill>
            <a:miter/>
          </a:ln>
        </p:spPr>
      </p:cxnSp>
      <p:sp>
        <p:nvSpPr>
          <p:cNvPr id="396" name=""/>
          <p:cNvSpPr/>
          <p:nvPr/>
        </p:nvSpPr>
        <p:spPr>
          <a:xfrm>
            <a:off x="6762600" y="4757760"/>
            <a:ext cx="1800" cy="177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7634160" y="5370480"/>
            <a:ext cx="1689120" cy="60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5941800" y="5459040"/>
            <a:ext cx="1695240" cy="51444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796600" y="4981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923600" y="618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811000" y="5845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07480" y="5856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616080" y="4332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8872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79120" y="35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352000" y="3811680"/>
            <a:ext cx="244440" cy="26964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0" y="0"/>
                </a:moveTo>
                <a:cubicBezTo>
                  <a:pt x="44" y="36"/>
                  <a:pt x="88" y="72"/>
                  <a:pt x="96" y="96"/>
                </a:cubicBezTo>
                <a:cubicBezTo>
                  <a:pt x="104" y="120"/>
                  <a:pt x="76" y="132"/>
                  <a:pt x="48" y="144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6730560" y="4202280"/>
            <a:ext cx="1752840" cy="5364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943600" y="3884400"/>
            <a:ext cx="1689120" cy="6030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762600" y="4159080"/>
            <a:ext cx="1689120" cy="60336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7208640" y="4599000"/>
            <a:ext cx="795240" cy="27000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7602120" y="5249880"/>
            <a:ext cx="917640" cy="31428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84880" y="4599000"/>
            <a:ext cx="860400" cy="2937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748560" y="5249880"/>
            <a:ext cx="909720" cy="31428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84880" y="4913280"/>
            <a:ext cx="3240" cy="8985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070840" y="4913280"/>
            <a:ext cx="3240" cy="8985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621560" y="5135400"/>
            <a:ext cx="449280" cy="1857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7381800" y="4797000"/>
            <a:ext cx="449280" cy="18756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4880" y="5205240"/>
            <a:ext cx="451080" cy="9072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96200" y="4824360"/>
            <a:ext cx="450720" cy="8892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859880" y="4924440"/>
            <a:ext cx="2880" cy="53820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396200" y="4948200"/>
            <a:ext cx="3240" cy="538200"/>
          </a:xfrm>
          <a:prstGeom prst="line">
            <a:avLst/>
          </a:prstGeom>
          <a:ln w="15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938000" y="5307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676116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Microsoft Sans Serif"/>
                <a:ea typeface="새굴림"/>
              </a:rPr>
              <a:t>Octan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5941800" y="4570560"/>
            <a:ext cx="1695240" cy="51408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7678440" y="3884760"/>
            <a:ext cx="1695240" cy="51408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83480" y="4427280"/>
            <a:ext cx="1689120" cy="603000"/>
          </a:xfrm>
          <a:prstGeom prst="line">
            <a:avLst/>
          </a:prstGeom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 ray ca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ado en métodos ópticos geométr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zar caminos de rayos de lu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zar un rayo desde cada pixel, en la línea de visión, para intersectar la es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r qué objetos intersectan esta es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la superficie visible cuyo con puntos de intersección más cercano al plano de visión (view pla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onsiderar solo los rayos que pasan por un pix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Not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efectivo para escenas con superficies cur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Clasificación de los métod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en el espacio de las imág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pth-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A-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Scan-li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Subdivisión de á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étodos en el espacio de los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Detección de Back-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BSP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Subdivisión de 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Oc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DejaVu Sans"/>
              </a:rPr>
              <a:t>Ray 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Métodos para superficies curv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 efectivos para superficies cur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y 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imar las superficies curvas con un conjunto de caras poligonales pl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r alguno de los métodos vi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ás eficiente y preciso es usar ray casting y las ecuaciones que describen las superfi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14004"/>
                </a:solidFill>
                <a:latin typeface="Arial"/>
              </a:rPr>
              <a:t>Compar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back-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eno y efectivo para eliminar rapidamente las caras que no se ven pero no resuelve el problema comple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-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ápido y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buffers (colores y profund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el z-buffer incluyendo transparencia, antialiasing,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respecto a la complejidad de la escena medido en la cantidad de polígonos que se superpone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enas simples (hasta mil polígonos)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ordenamiento en profundidad, BSP tree, scan-lines, z-bu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enas complejas (más de mil)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z-buffer, octr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scan-li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xtensión del algoritmo para rellenar el interior de los políg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 cada polígono que intersecta la scan-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ar de izquierda a derec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profundidad (depth) en caso que hay polígonos super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intensidad del punto más cercano se almacena en el fram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scan-lines: tabl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abla de ar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ntos extremos de cada ar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ndiente de la línea que pasa por el ar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ces (punteros) a los polígonos que lo contien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abla de políg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eficientes de la ecuación del pla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 los colores (intensidad) del políg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ces (punteros) a la tabla de ar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scan-lines: 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a activa para scan-line 1  (ar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la de arc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AB, BC, EH, F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Entre AB y BC solo el flag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está encend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 es necesario calcular dep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color de       se utili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anera similar entre EH y FG solo el flag de        está encend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725080" y="1954080"/>
            <a:ext cx="3913920" cy="2617560"/>
            <a:chOff x="5725080" y="1954080"/>
            <a:chExt cx="3913920" cy="2617560"/>
          </a:xfrm>
        </p:grpSpPr>
        <p:sp>
          <p:nvSpPr>
            <p:cNvPr id="92" name=""/>
            <p:cNvSpPr/>
            <p:nvPr/>
          </p:nvSpPr>
          <p:spPr>
            <a:xfrm flipV="1">
              <a:off x="6000840" y="2409840"/>
              <a:ext cx="1440" cy="1889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00840" y="4297320"/>
              <a:ext cx="312408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05400" y="2163600"/>
              <a:ext cx="1447920" cy="1828800"/>
            </a:xfrm>
            <a:custGeom>
              <a:avLst/>
              <a:gdLst/>
              <a:ahLst/>
              <a:rect l="l" t="t" r="r" b="b"/>
              <a:pathLst>
                <a:path w="912" h="1152">
                  <a:moveTo>
                    <a:pt x="576" y="0"/>
                  </a:moveTo>
                  <a:lnTo>
                    <a:pt x="0" y="384"/>
                  </a:lnTo>
                  <a:lnTo>
                    <a:pt x="240" y="1152"/>
                  </a:lnTo>
                  <a:lnTo>
                    <a:pt x="912" y="960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7105680" y="2411280"/>
              <a:ext cx="1733400" cy="1752840"/>
              <a:chOff x="7105680" y="2411280"/>
              <a:chExt cx="1733400" cy="1752840"/>
            </a:xfrm>
          </p:grpSpPr>
          <p:sp>
            <p:nvSpPr>
              <p:cNvPr id="96" name=""/>
              <p:cNvSpPr/>
              <p:nvPr/>
            </p:nvSpPr>
            <p:spPr>
              <a:xfrm>
                <a:off x="7391520" y="2411280"/>
                <a:ext cx="1447560" cy="1752840"/>
              </a:xfrm>
              <a:custGeom>
                <a:avLst/>
                <a:gdLst/>
                <a:ahLst/>
                <a:rect l="l" t="t" r="r" b="b"/>
                <a:pathLst>
                  <a:path w="912" h="1104">
                    <a:moveTo>
                      <a:pt x="48" y="288"/>
                    </a:moveTo>
                    <a:lnTo>
                      <a:pt x="192" y="0"/>
                    </a:lnTo>
                    <a:lnTo>
                      <a:pt x="912" y="96"/>
                    </a:lnTo>
                    <a:lnTo>
                      <a:pt x="336" y="1104"/>
                    </a:lnTo>
                    <a:lnTo>
                      <a:pt x="0" y="864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05680" y="2840040"/>
                <a:ext cx="380880" cy="914400"/>
              </a:xfrm>
              <a:custGeom>
                <a:avLst/>
                <a:gdLst/>
                <a:ahLst/>
                <a:rect l="l" t="t" r="r" b="b"/>
                <a:pathLst>
                  <a:path w="240" h="576">
                    <a:moveTo>
                      <a:pt x="240" y="0"/>
                    </a:moveTo>
                    <a:lnTo>
                      <a:pt x="0" y="480"/>
                    </a:lnTo>
                    <a:lnTo>
                      <a:pt x="144" y="576"/>
                    </a:lnTo>
                  </a:path>
                </a:pathLst>
              </a:custGeom>
              <a:noFill/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6000840" y="2620800"/>
              <a:ext cx="3200400" cy="18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00840" y="3230640"/>
              <a:ext cx="32004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00840" y="3382920"/>
              <a:ext cx="3200400" cy="18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48440" y="4270320"/>
              <a:ext cx="319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x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5080" y="2289240"/>
              <a:ext cx="317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y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00560" y="267012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50600" y="19540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58280" y="2822400"/>
              <a:ext cx="31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73320" y="2182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12360" y="233532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25320" y="2822400"/>
              <a:ext cx="31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67000" y="3432240"/>
              <a:ext cx="2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96200" y="392760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4720" y="358452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94800" y="40417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53680" y="259380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53680" y="297504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3680" y="335592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029200" y="3236760"/>
                <a:ext cx="457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343400" y="4608360"/>
                <a:ext cx="457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15200" y="5065560"/>
                <a:ext cx="457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scan-lines: 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9920" y="1828440"/>
            <a:ext cx="907092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a activa para scan-line 2 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AD, BC, EH, 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Entre AD y EH solo el flag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está enc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Entre EH y BC ambos flag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y           están encend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alcular depth (profundidad de ambas superfic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color de       se utili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ener ventaja de la coheren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ando de una scan-line a l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-line 3 tiene la misma lista activa que l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s necesario hacer cálculos de profundidad entre EH 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725080" y="1954080"/>
            <a:ext cx="3913920" cy="2617560"/>
            <a:chOff x="5725080" y="1954080"/>
            <a:chExt cx="3913920" cy="2617560"/>
          </a:xfrm>
        </p:grpSpPr>
        <p:sp>
          <p:nvSpPr>
            <p:cNvPr id="122" name=""/>
            <p:cNvSpPr/>
            <p:nvPr/>
          </p:nvSpPr>
          <p:spPr>
            <a:xfrm flipV="1">
              <a:off x="6000840" y="2409840"/>
              <a:ext cx="1440" cy="1889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00840" y="4297320"/>
              <a:ext cx="312408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05400" y="2163600"/>
              <a:ext cx="1447920" cy="1828800"/>
            </a:xfrm>
            <a:custGeom>
              <a:avLst/>
              <a:gdLst/>
              <a:ahLst/>
              <a:rect l="l" t="t" r="r" b="b"/>
              <a:pathLst>
                <a:path w="912" h="1152">
                  <a:moveTo>
                    <a:pt x="576" y="0"/>
                  </a:moveTo>
                  <a:lnTo>
                    <a:pt x="0" y="384"/>
                  </a:lnTo>
                  <a:lnTo>
                    <a:pt x="240" y="1152"/>
                  </a:lnTo>
                  <a:lnTo>
                    <a:pt x="912" y="960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7105680" y="2411280"/>
              <a:ext cx="1733400" cy="1752840"/>
              <a:chOff x="7105680" y="2411280"/>
              <a:chExt cx="1733400" cy="1752840"/>
            </a:xfrm>
          </p:grpSpPr>
          <p:sp>
            <p:nvSpPr>
              <p:cNvPr id="126" name=""/>
              <p:cNvSpPr/>
              <p:nvPr/>
            </p:nvSpPr>
            <p:spPr>
              <a:xfrm>
                <a:off x="7391520" y="2411280"/>
                <a:ext cx="1447560" cy="1752840"/>
              </a:xfrm>
              <a:custGeom>
                <a:avLst/>
                <a:gdLst/>
                <a:ahLst/>
                <a:rect l="l" t="t" r="r" b="b"/>
                <a:pathLst>
                  <a:path w="912" h="1104">
                    <a:moveTo>
                      <a:pt x="48" y="288"/>
                    </a:moveTo>
                    <a:lnTo>
                      <a:pt x="192" y="0"/>
                    </a:lnTo>
                    <a:lnTo>
                      <a:pt x="912" y="96"/>
                    </a:lnTo>
                    <a:lnTo>
                      <a:pt x="336" y="1104"/>
                    </a:lnTo>
                    <a:lnTo>
                      <a:pt x="0" y="864"/>
                    </a:lnTo>
                  </a:path>
                </a:pathLst>
              </a:cu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105680" y="2840040"/>
                <a:ext cx="380880" cy="914400"/>
              </a:xfrm>
              <a:custGeom>
                <a:avLst/>
                <a:gdLst/>
                <a:ahLst/>
                <a:rect l="l" t="t" r="r" b="b"/>
                <a:pathLst>
                  <a:path w="240" h="576">
                    <a:moveTo>
                      <a:pt x="240" y="0"/>
                    </a:moveTo>
                    <a:lnTo>
                      <a:pt x="0" y="480"/>
                    </a:lnTo>
                    <a:lnTo>
                      <a:pt x="144" y="576"/>
                    </a:lnTo>
                  </a:path>
                </a:pathLst>
              </a:custGeom>
              <a:noFill/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6000840" y="2620800"/>
              <a:ext cx="3200400" cy="18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0840" y="3230640"/>
              <a:ext cx="3200400" cy="144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00840" y="3382920"/>
              <a:ext cx="3200400" cy="180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848440" y="4270320"/>
              <a:ext cx="319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x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25080" y="2289240"/>
              <a:ext cx="317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y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00560" y="267012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50600" y="19540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58280" y="2822400"/>
              <a:ext cx="31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73320" y="2182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12360" y="233532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25320" y="2822400"/>
              <a:ext cx="31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</a:t>
              </a:r>
              <a:r>
                <a:rPr b="1" lang="en-US" sz="1200" spc="-1" strike="noStrike" baseline="-25000">
                  <a:solidFill>
                    <a:srgbClr val="333333"/>
                  </a:solidFill>
                  <a:latin typeface="Microsoft Sans Serif"/>
                  <a:ea typeface="새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67000" y="3432240"/>
              <a:ext cx="2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96200" y="3927600"/>
              <a:ext cx="29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04720" y="358452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94800" y="40417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53680" y="259380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53680" y="297504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53680" y="335592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icrosoft Sans Serif"/>
                  <a:ea typeface="새굴림"/>
                </a:rPr>
                <a:t>Scan line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00600" y="2743200"/>
                <a:ext cx="3650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343400" y="4836960"/>
                <a:ext cx="36504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892760" y="3548160"/>
                <a:ext cx="3650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00200" y="4005360"/>
                <a:ext cx="3650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¿Cuándo hay problema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066680" y="3809880"/>
            <a:ext cx="6934320" cy="1905120"/>
            <a:chOff x="1066680" y="3809880"/>
            <a:chExt cx="6934320" cy="1905120"/>
          </a:xfrm>
        </p:grpSpPr>
        <p:grpSp>
          <p:nvGrpSpPr>
            <p:cNvPr id="152" name=""/>
            <p:cNvGrpSpPr/>
            <p:nvPr/>
          </p:nvGrpSpPr>
          <p:grpSpPr>
            <a:xfrm>
              <a:off x="1066680" y="3809880"/>
              <a:ext cx="1981440" cy="1905120"/>
              <a:chOff x="1066680" y="3809880"/>
              <a:chExt cx="1981440" cy="1905120"/>
            </a:xfrm>
          </p:grpSpPr>
          <p:sp>
            <p:nvSpPr>
              <p:cNvPr id="153" name=""/>
              <p:cNvSpPr/>
              <p:nvPr/>
            </p:nvSpPr>
            <p:spPr>
              <a:xfrm>
                <a:off x="1066680" y="4386240"/>
                <a:ext cx="1430280" cy="604800"/>
              </a:xfrm>
              <a:custGeom>
                <a:avLst/>
                <a:gdLst/>
                <a:ahLst/>
                <a:rect l="l" t="t" r="r" b="b"/>
                <a:pathLst>
                  <a:path w="624" h="288">
                    <a:moveTo>
                      <a:pt x="0" y="192"/>
                    </a:moveTo>
                    <a:lnTo>
                      <a:pt x="384" y="0"/>
                    </a:lnTo>
                    <a:lnTo>
                      <a:pt x="624" y="96"/>
                    </a:lnTo>
                    <a:lnTo>
                      <a:pt x="240" y="28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17840" y="3809880"/>
                <a:ext cx="879120" cy="1905120"/>
              </a:xfrm>
              <a:custGeom>
                <a:avLst/>
                <a:gdLst/>
                <a:ahLst/>
                <a:rect l="l" t="t" r="r" b="b"/>
                <a:pathLst>
                  <a:path w="480" h="864">
                    <a:moveTo>
                      <a:pt x="0" y="240"/>
                    </a:moveTo>
                    <a:lnTo>
                      <a:pt x="480" y="0"/>
                    </a:lnTo>
                    <a:lnTo>
                      <a:pt x="480" y="624"/>
                    </a:lnTo>
                    <a:lnTo>
                      <a:pt x="0" y="864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617840" y="4587840"/>
                <a:ext cx="1430280" cy="604800"/>
              </a:xfrm>
              <a:custGeom>
                <a:avLst/>
                <a:gdLst/>
                <a:ahLst/>
                <a:rect l="l" t="t" r="r" b="b"/>
                <a:pathLst>
                  <a:path w="624" h="288">
                    <a:moveTo>
                      <a:pt x="0" y="192"/>
                    </a:moveTo>
                    <a:lnTo>
                      <a:pt x="384" y="0"/>
                    </a:lnTo>
                    <a:lnTo>
                      <a:pt x="624" y="96"/>
                    </a:lnTo>
                    <a:lnTo>
                      <a:pt x="240" y="28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1617840" y="4586040"/>
                <a:ext cx="879120" cy="40644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233880" y="3809880"/>
              <a:ext cx="2226960" cy="1905120"/>
              <a:chOff x="3233880" y="3809880"/>
              <a:chExt cx="2226960" cy="1905120"/>
            </a:xfrm>
          </p:grpSpPr>
          <p:sp>
            <p:nvSpPr>
              <p:cNvPr id="158" name=""/>
              <p:cNvSpPr/>
              <p:nvPr/>
            </p:nvSpPr>
            <p:spPr>
              <a:xfrm>
                <a:off x="4424400" y="4302000"/>
                <a:ext cx="1036440" cy="5079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44"/>
                    </a:moveTo>
                    <a:lnTo>
                      <a:pt x="336" y="0"/>
                    </a:lnTo>
                    <a:lnTo>
                      <a:pt x="480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33880" y="4317840"/>
                <a:ext cx="1966680" cy="762120"/>
              </a:xfrm>
              <a:custGeom>
                <a:avLst/>
                <a:gdLst/>
                <a:ahLst/>
                <a:rect l="l" t="t" r="r" b="b"/>
                <a:pathLst>
                  <a:path w="1200" h="288">
                    <a:moveTo>
                      <a:pt x="192" y="0"/>
                    </a:moveTo>
                    <a:lnTo>
                      <a:pt x="0" y="96"/>
                    </a:lnTo>
                    <a:lnTo>
                      <a:pt x="1056" y="288"/>
                    </a:lnTo>
                    <a:lnTo>
                      <a:pt x="1200" y="192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648240" y="3809880"/>
                <a:ext cx="309240" cy="1905120"/>
              </a:xfrm>
              <a:custGeom>
                <a:avLst/>
                <a:gdLst/>
                <a:ahLst/>
                <a:rect l="l" t="t" r="r" b="b"/>
                <a:pathLst>
                  <a:path w="192" h="720">
                    <a:moveTo>
                      <a:pt x="192" y="0"/>
                    </a:moveTo>
                    <a:lnTo>
                      <a:pt x="0" y="96"/>
                    </a:lnTo>
                    <a:lnTo>
                      <a:pt x="0" y="720"/>
                    </a:lnTo>
                    <a:lnTo>
                      <a:pt x="192" y="62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441600" y="4826160"/>
                <a:ext cx="1035000" cy="5079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336" y="0"/>
                    </a:moveTo>
                    <a:lnTo>
                      <a:pt x="0" y="144"/>
                    </a:lnTo>
                    <a:lnTo>
                      <a:pt x="144" y="192"/>
                    </a:lnTo>
                    <a:lnTo>
                      <a:pt x="480" y="48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3700440" y="4792680"/>
                <a:ext cx="206280" cy="13032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680080" y="3809880"/>
              <a:ext cx="2320920" cy="1905120"/>
              <a:chOff x="5680080" y="3809880"/>
              <a:chExt cx="2320920" cy="1905120"/>
            </a:xfrm>
          </p:grpSpPr>
          <p:sp>
            <p:nvSpPr>
              <p:cNvPr id="164" name=""/>
              <p:cNvSpPr/>
              <p:nvPr/>
            </p:nvSpPr>
            <p:spPr>
              <a:xfrm>
                <a:off x="5680080" y="4383000"/>
                <a:ext cx="990720" cy="484200"/>
              </a:xfrm>
              <a:custGeom>
                <a:avLst/>
                <a:gdLst/>
                <a:ahLst/>
                <a:rect l="l" t="t" r="r" b="b"/>
                <a:pathLst>
                  <a:path w="576" h="192">
                    <a:moveTo>
                      <a:pt x="576" y="0"/>
                    </a:moveTo>
                    <a:lnTo>
                      <a:pt x="48" y="48"/>
                    </a:lnTo>
                    <a:lnTo>
                      <a:pt x="0" y="192"/>
                    </a:lnTo>
                    <a:lnTo>
                      <a:pt x="576" y="144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21360" y="3809880"/>
                <a:ext cx="1649520" cy="1905120"/>
              </a:xfrm>
              <a:custGeom>
                <a:avLst/>
                <a:gdLst/>
                <a:ahLst/>
                <a:rect l="l" t="t" r="r" b="b"/>
                <a:pathLst>
                  <a:path w="960" h="864">
                    <a:moveTo>
                      <a:pt x="192" y="192"/>
                    </a:moveTo>
                    <a:lnTo>
                      <a:pt x="0" y="240"/>
                    </a:lnTo>
                    <a:lnTo>
                      <a:pt x="0" y="864"/>
                    </a:lnTo>
                    <a:lnTo>
                      <a:pt x="960" y="624"/>
                    </a:lnTo>
                    <a:lnTo>
                      <a:pt x="960" y="0"/>
                    </a:lnTo>
                    <a:lnTo>
                      <a:pt x="768" y="48"/>
                    </a:lnTo>
                    <a:lnTo>
                      <a:pt x="768" y="432"/>
                    </a:lnTo>
                    <a:lnTo>
                      <a:pt x="192" y="576"/>
                    </a:lnTo>
                    <a:lnTo>
                      <a:pt x="192" y="192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51480" y="4233960"/>
                <a:ext cx="1649520" cy="552240"/>
              </a:xfrm>
              <a:custGeom>
                <a:avLst/>
                <a:gdLst/>
                <a:ahLst/>
                <a:rect l="l" t="t" r="r" b="b"/>
                <a:pathLst>
                  <a:path w="960" h="288">
                    <a:moveTo>
                      <a:pt x="0" y="96"/>
                    </a:moveTo>
                    <a:lnTo>
                      <a:pt x="960" y="0"/>
                    </a:lnTo>
                    <a:lnTo>
                      <a:pt x="912" y="192"/>
                    </a:lnTo>
                    <a:lnTo>
                      <a:pt x="0" y="288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35680" y="4361040"/>
                <a:ext cx="1800" cy="368280"/>
              </a:xfrm>
              <a:prstGeom prst="line">
                <a:avLst/>
              </a:prstGeom>
              <a:ln w="158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método funciona si polígonos no se superponen cícl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de producen estos casos =&gt; dividir los políg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Método ordenamiento en profund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ciones en el espacio de las imágenes y en el espacio de los obje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ciones de ordenamiento en el espacio de las imágenes y en el espacio de los ob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-conversion en el espacio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iones básic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ficies (polígonos) ordenadas en forma decreci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-conversion sobre las más lejanas primero (valor de depth más gran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314004"/>
                </a:solidFill>
                <a:latin typeface="Arial"/>
              </a:rPr>
              <a:t>Algoritm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ido como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lgoritmo del pin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crear un cuadr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o pinta los colores del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 los objetos más dis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continuación  los que los siguen en cercanía y asi suces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mente se pinta la superficie mas cercana (foregr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nar los polígonos (superficies) de acuerdo a su distancia el view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intensidades(colores) de la más lejana se ingresa el fram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r la superficie siguiente y repite 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5:58:27Z</dcterms:created>
  <dc:creator/>
  <dc:description/>
  <dc:language>en-US</dc:language>
  <cp:lastModifiedBy/>
  <dcterms:modified xsi:type="dcterms:W3CDTF">2012-05-31T15:40:44Z</dcterms:modified>
  <cp:revision>36</cp:revision>
  <dc:subject/>
  <dc:title/>
</cp:coreProperties>
</file>