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27B-DFA1-4379-B438-8785AD78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D90-D5D9-47E0-8AF5-B58C1B25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48B-B1BA-44FE-B94C-C2F41626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F2F-5B89-4B84-B8D5-1E38FF0D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AD6B-3471-47FC-A49A-E5917A57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D202-0BE9-4EFE-8B41-9089FE99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47FE-5250-4D37-9A39-B701C93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A99F-FF0A-4238-8E90-B8221EF8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FFD1-B9BA-46A2-8AF0-7E755485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1CFC-7BFE-4522-86FA-884C2A1E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29D7-1E76-473E-B852-465F996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15F-6A73-41D5-B759-D99CBC66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E68C-4462-47DA-9543-AC46110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E04C-E264-4C29-A3F5-5A68C15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1F38-3A3A-40AC-B53E-7FEE8733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29ED-ECA4-491B-9CEE-C296DE7E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EB6C-5FDD-4F8E-8F3F-367CF89E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42C-A402-4F6B-BD7C-1D038F9E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8D3-F5AE-4974-84B8-44EC9EC6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C52-C038-44A5-BEEE-B1EF233F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A77-C80C-4F9E-B4BC-67D4A81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BD7-6052-445E-9896-F356ED91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B2A-6B13-45BC-95DC-0E36B701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535-2A3A-490D-BD10-49E4DFCD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AC5B4-92E4-48DA-AE40-51B7EC5FA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1EDB1-5BE0-428C-AE82-EDA14CA1E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étodos para detección de superficies visib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arn-Ba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Algorit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 proceso se realiza en varios pas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s ordenadas con respecto al z-value mas pequ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uperficie S con el z-value más grande es  analizada para ver si se superpone con ot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 no hay superposición en el eje 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&gt;  scan-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 hay superposición en el eje z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 analizar si las superficies deben ser reorde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</a:t>
            </a:r>
            <a:r>
              <a:rPr b="1" lang="en-US" sz="2800" spc="-1" strike="noStrike">
                <a:solidFill>
                  <a:srgbClr val="314004"/>
                </a:solidFill>
                <a:latin typeface="Arial"/>
              </a:rPr>
              <a:t>ejemplos de overlapping usando una vista solo de los ejes x y 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136160" y="1598400"/>
            <a:ext cx="1116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8840" y="346536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5240" y="368784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18960" y="342900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9560" y="2133720"/>
            <a:ext cx="1200240" cy="1066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528"/>
                </a:moveTo>
                <a:lnTo>
                  <a:pt x="528" y="0"/>
                </a:lnTo>
                <a:lnTo>
                  <a:pt x="720" y="432"/>
                </a:lnTo>
                <a:lnTo>
                  <a:pt x="432" y="672"/>
                </a:lnTo>
                <a:lnTo>
                  <a:pt x="0" y="528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9600" y="1828800"/>
            <a:ext cx="103968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240"/>
                </a:moveTo>
                <a:lnTo>
                  <a:pt x="384" y="0"/>
                </a:lnTo>
                <a:lnTo>
                  <a:pt x="624" y="144"/>
                </a:lnTo>
                <a:lnTo>
                  <a:pt x="336" y="336"/>
                </a:lnTo>
                <a:lnTo>
                  <a:pt x="0" y="240"/>
                </a:lnTo>
                <a:close/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9560" y="2133720"/>
            <a:ext cx="1200240" cy="1066680"/>
          </a:xfrm>
          <a:prstGeom prst="rect">
            <a:avLst/>
          </a:prstGeom>
          <a:noFill/>
          <a:ln w="1584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49600" y="1828800"/>
            <a:ext cx="1039680" cy="533520"/>
          </a:xfrm>
          <a:prstGeom prst="rect">
            <a:avLst/>
          </a:prstGeom>
          <a:noFill/>
          <a:ln w="1584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5120" y="1674360"/>
            <a:ext cx="144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1360" y="346536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47760" y="368784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81480" y="342900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34080" y="1913040"/>
            <a:ext cx="606240" cy="8366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040440" y="2593800"/>
            <a:ext cx="689040" cy="687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47120" y="228600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67680" y="28195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1163160" y="4036680"/>
            <a:ext cx="414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720" y="582768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5240" y="60498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18960" y="57913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6480" y="4133880"/>
            <a:ext cx="752400" cy="11034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27240" y="4767120"/>
            <a:ext cx="514440" cy="7574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73680" y="414504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57480" y="53640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135400" y="4036680"/>
            <a:ext cx="2232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6680" y="5827680"/>
            <a:ext cx="31986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49200" y="60498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81480" y="57913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4041720"/>
            <a:ext cx="847800" cy="88596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694480" y="4883040"/>
            <a:ext cx="512640" cy="7574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93080" y="4095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50040" y="53928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349400" y="6095880"/>
            <a:ext cx="889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endCxn id="208" idx="0"/>
          </p:cNvCxnSpPr>
          <p:nvPr/>
        </p:nvCxnSpPr>
        <p:spPr>
          <a:xfrm>
            <a:off x="7024680" y="3658680"/>
            <a:ext cx="186480" cy="12200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0" name=""/>
          <p:cNvCxnSpPr>
            <a:endCxn id="208" idx="7"/>
          </p:cNvCxnSpPr>
          <p:nvPr/>
        </p:nvCxnSpPr>
        <p:spPr>
          <a:xfrm>
            <a:off x="7088040" y="3750840"/>
            <a:ext cx="138960" cy="11804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1" name=""/>
          <p:cNvCxnSpPr>
            <a:endCxn id="208" idx="7"/>
          </p:cNvCxnSpPr>
          <p:nvPr/>
        </p:nvCxnSpPr>
        <p:spPr>
          <a:xfrm>
            <a:off x="5051520" y="3668400"/>
            <a:ext cx="1156320" cy="122148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2" name=""/>
          <p:cNvCxnSpPr>
            <a:endCxn id="208" idx="6"/>
          </p:cNvCxnSpPr>
          <p:nvPr/>
        </p:nvCxnSpPr>
        <p:spPr>
          <a:xfrm>
            <a:off x="5063760" y="3639600"/>
            <a:ext cx="1143720" cy="12488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sp>
        <p:nvSpPr>
          <p:cNvPr id="213" name=""/>
          <p:cNvSpPr/>
          <p:nvPr/>
        </p:nvSpPr>
        <p:spPr>
          <a:xfrm flipH="1">
            <a:off x="6360840" y="5829480"/>
            <a:ext cx="725400" cy="1440"/>
          </a:xfrm>
          <a:prstGeom prst="line">
            <a:avLst/>
          </a:prstGeom>
          <a:ln w="2232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248600" y="5829480"/>
            <a:ext cx="95040" cy="1440"/>
          </a:xfrm>
          <a:prstGeom prst="line">
            <a:avLst/>
          </a:prstGeom>
          <a:ln w="2232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6576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6576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61722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611028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ejemplos de overl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S pasa alguno de los siguientes tests (son verdaderos), no es necesario reorde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bounding rectangles (coordinate extents) de las dos superficies no se superponen en el plano XY (Figura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S está completamente detrás de la otra  mirada desde la posición de viewing (Figura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que se superpone está completamente adelante de S desde la posición de viewing (Figura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oyección de los arcos del borde de cada polígono  no se superp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4 tests fallan?  Qué casos exist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ejemplos de overl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4 test fallan con S'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ambiar  S y S' en la lista ord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ir los tests para cada superficie que es re-ordenada en l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359000" y="3808080"/>
            <a:ext cx="3024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90680" y="57452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0680" y="57452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4720" y="3808080"/>
            <a:ext cx="18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83040" y="5599080"/>
            <a:ext cx="32022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7944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496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83320" y="4083120"/>
            <a:ext cx="799920" cy="67932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64200" y="4227480"/>
            <a:ext cx="687600" cy="6890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8800" y="4419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26360" y="449568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27800" y="4489560"/>
            <a:ext cx="633240" cy="85248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11240" y="4343400"/>
            <a:ext cx="3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87640" y="574524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’, then S’’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probl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os o mas caras se “tapan”  una con o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p infin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o evitarlo: marcar cada cara cuando ha sido reordenada a una profundidad más lej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uede ser reordenada de nue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intenta  reordenarla de nuev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el polígono en dos polígonos más pequ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original es ahora reemplazada por dos nuevas superf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143000" y="5410080"/>
            <a:ext cx="6934320" cy="1905120"/>
            <a:chOff x="1143000" y="5410080"/>
            <a:chExt cx="6934320" cy="1905120"/>
          </a:xfrm>
        </p:grpSpPr>
        <p:grpSp>
          <p:nvGrpSpPr>
            <p:cNvPr id="261" name=""/>
            <p:cNvGrpSpPr/>
            <p:nvPr/>
          </p:nvGrpSpPr>
          <p:grpSpPr>
            <a:xfrm>
              <a:off x="1143000" y="5410080"/>
              <a:ext cx="1981080" cy="1905120"/>
              <a:chOff x="1143000" y="5410080"/>
              <a:chExt cx="1981080" cy="1905120"/>
            </a:xfrm>
          </p:grpSpPr>
          <p:sp>
            <p:nvSpPr>
              <p:cNvPr id="262" name=""/>
              <p:cNvSpPr/>
              <p:nvPr/>
            </p:nvSpPr>
            <p:spPr>
              <a:xfrm>
                <a:off x="1143000" y="59864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93800" y="5410080"/>
                <a:ext cx="879480" cy="1905120"/>
              </a:xfrm>
              <a:custGeom>
                <a:avLst/>
                <a:gdLst/>
                <a:ahLst/>
                <a:rect l="l" t="t" r="r" b="b"/>
                <a:pathLst>
                  <a:path w="480" h="864">
                    <a:moveTo>
                      <a:pt x="0" y="240"/>
                    </a:moveTo>
                    <a:lnTo>
                      <a:pt x="480" y="0"/>
                    </a:lnTo>
                    <a:lnTo>
                      <a:pt x="480" y="624"/>
                    </a:lnTo>
                    <a:lnTo>
                      <a:pt x="0" y="864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93800" y="61880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693800" y="6186240"/>
                <a:ext cx="879480" cy="40644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309840" y="5410080"/>
              <a:ext cx="2227320" cy="1905120"/>
              <a:chOff x="3309840" y="5410080"/>
              <a:chExt cx="2227320" cy="1905120"/>
            </a:xfrm>
          </p:grpSpPr>
          <p:sp>
            <p:nvSpPr>
              <p:cNvPr id="267" name=""/>
              <p:cNvSpPr/>
              <p:nvPr/>
            </p:nvSpPr>
            <p:spPr>
              <a:xfrm>
                <a:off x="4500720" y="5902200"/>
                <a:ext cx="103644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44"/>
                    </a:moveTo>
                    <a:lnTo>
                      <a:pt x="336" y="0"/>
                    </a:lnTo>
                    <a:lnTo>
                      <a:pt x="480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09840" y="5918040"/>
                <a:ext cx="1967040" cy="76212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192" y="0"/>
                    </a:moveTo>
                    <a:lnTo>
                      <a:pt x="0" y="96"/>
                    </a:lnTo>
                    <a:lnTo>
                      <a:pt x="1056" y="288"/>
                    </a:lnTo>
                    <a:lnTo>
                      <a:pt x="120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24200" y="5410080"/>
                <a:ext cx="309600" cy="1905120"/>
              </a:xfrm>
              <a:custGeom>
                <a:avLst/>
                <a:gdLst/>
                <a:ahLst/>
                <a:rect l="l" t="t" r="r" b="b"/>
                <a:pathLst>
                  <a:path w="192" h="720">
                    <a:moveTo>
                      <a:pt x="192" y="0"/>
                    </a:moveTo>
                    <a:lnTo>
                      <a:pt x="0" y="96"/>
                    </a:lnTo>
                    <a:lnTo>
                      <a:pt x="0" y="720"/>
                    </a:lnTo>
                    <a:lnTo>
                      <a:pt x="192" y="62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17920" y="6426360"/>
                <a:ext cx="103500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336" y="0"/>
                    </a:moveTo>
                    <a:lnTo>
                      <a:pt x="0" y="144"/>
                    </a:lnTo>
                    <a:lnTo>
                      <a:pt x="144" y="192"/>
                    </a:lnTo>
                    <a:lnTo>
                      <a:pt x="480" y="48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3776760" y="6392880"/>
                <a:ext cx="206280" cy="13032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756400" y="5410080"/>
              <a:ext cx="2320920" cy="1905120"/>
              <a:chOff x="5756400" y="5410080"/>
              <a:chExt cx="2320920" cy="1905120"/>
            </a:xfrm>
          </p:grpSpPr>
          <p:sp>
            <p:nvSpPr>
              <p:cNvPr id="273" name=""/>
              <p:cNvSpPr/>
              <p:nvPr/>
            </p:nvSpPr>
            <p:spPr>
              <a:xfrm>
                <a:off x="5756400" y="5983200"/>
                <a:ext cx="990360" cy="48420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576" y="0"/>
                    </a:moveTo>
                    <a:lnTo>
                      <a:pt x="48" y="48"/>
                    </a:lnTo>
                    <a:lnTo>
                      <a:pt x="0" y="192"/>
                    </a:lnTo>
                    <a:lnTo>
                      <a:pt x="576" y="144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97680" y="5410080"/>
                <a:ext cx="1649160" cy="1905120"/>
              </a:xfrm>
              <a:custGeom>
                <a:avLst/>
                <a:gdLst/>
                <a:ahLst/>
                <a:rect l="l" t="t" r="r" b="b"/>
                <a:pathLst>
                  <a:path w="960" h="864">
                    <a:moveTo>
                      <a:pt x="192" y="192"/>
                    </a:moveTo>
                    <a:lnTo>
                      <a:pt x="0" y="240"/>
                    </a:lnTo>
                    <a:lnTo>
                      <a:pt x="0" y="864"/>
                    </a:lnTo>
                    <a:lnTo>
                      <a:pt x="960" y="624"/>
                    </a:lnTo>
                    <a:lnTo>
                      <a:pt x="960" y="0"/>
                    </a:lnTo>
                    <a:lnTo>
                      <a:pt x="768" y="48"/>
                    </a:lnTo>
                    <a:lnTo>
                      <a:pt x="768" y="432"/>
                    </a:lnTo>
                    <a:lnTo>
                      <a:pt x="192" y="576"/>
                    </a:lnTo>
                    <a:lnTo>
                      <a:pt x="192" y="19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27800" y="5834160"/>
                <a:ext cx="1649520" cy="552240"/>
              </a:xfrm>
              <a:custGeom>
                <a:avLst/>
                <a:gdLst/>
                <a:ahLst/>
                <a:rect l="l" t="t" r="r" b="b"/>
                <a:pathLst>
                  <a:path w="960" h="288">
                    <a:moveTo>
                      <a:pt x="0" y="96"/>
                    </a:moveTo>
                    <a:lnTo>
                      <a:pt x="960" y="0"/>
                    </a:lnTo>
                    <a:lnTo>
                      <a:pt x="912" y="192"/>
                    </a:lnTo>
                    <a:lnTo>
                      <a:pt x="0" y="28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12000" y="5961240"/>
                <a:ext cx="1440" cy="36828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partición binaria del espacio (BS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 la visibilidad de los objetos pintando las caras desde la más profunda hasta la más cercana (parecido al algoritmo del pin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superficies(polígonos)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ue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entr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l plano de parti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ir los objetos intersectados por el plan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620000" y="4494240"/>
            <a:ext cx="2858040" cy="2364120"/>
            <a:chOff x="1620000" y="4494240"/>
            <a:chExt cx="2858040" cy="2364120"/>
          </a:xfrm>
        </p:grpSpPr>
        <p:sp>
          <p:nvSpPr>
            <p:cNvPr id="280" name=""/>
            <p:cNvSpPr/>
            <p:nvPr/>
          </p:nvSpPr>
          <p:spPr>
            <a:xfrm>
              <a:off x="1724040" y="563724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672">
                  <a:moveTo>
                    <a:pt x="0" y="96"/>
                  </a:moveTo>
                  <a:lnTo>
                    <a:pt x="432" y="0"/>
                  </a:lnTo>
                  <a:lnTo>
                    <a:pt x="720" y="67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62120" y="5103720"/>
              <a:ext cx="685800" cy="30492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192"/>
                  </a:moveTo>
                  <a:lnTo>
                    <a:pt x="384" y="288"/>
                  </a:lnTo>
                  <a:lnTo>
                    <a:pt x="432" y="48"/>
                  </a:lnTo>
                  <a:lnTo>
                    <a:pt x="192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4200" y="518004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13120" y="4799160"/>
              <a:ext cx="1447560" cy="1904760"/>
            </a:xfrm>
            <a:prstGeom prst="line">
              <a:avLst/>
            </a:prstGeom>
            <a:ln w="19080">
              <a:solidFill>
                <a:srgbClr val="efa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13120" y="4719240"/>
              <a:ext cx="1904760" cy="1987560"/>
            </a:xfrm>
            <a:prstGeom prst="line">
              <a:avLst/>
            </a:prstGeom>
            <a:ln w="19080">
              <a:solidFill>
                <a:srgbClr val="efa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835280" y="4873680"/>
              <a:ext cx="234720" cy="152280"/>
            </a:xfrm>
            <a:prstGeom prst="line">
              <a:avLst/>
            </a:prstGeom>
            <a:ln w="9360">
              <a:solidFill>
                <a:srgbClr val="efa0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619080" y="4719240"/>
              <a:ext cx="158760" cy="158760"/>
            </a:xfrm>
            <a:prstGeom prst="line">
              <a:avLst/>
            </a:prstGeom>
            <a:ln w="9360">
              <a:solidFill>
                <a:srgbClr val="efa0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3920" y="452268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59200" y="449424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85040" y="490536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84640" y="513396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76320" y="54388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8600" y="62467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20000" y="639936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63160" y="658188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3560" y="655164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5160" y="647532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322960" y="4184280"/>
            <a:ext cx="3029040" cy="2864520"/>
            <a:chOff x="5322960" y="4184280"/>
            <a:chExt cx="3029040" cy="2864520"/>
          </a:xfrm>
        </p:grpSpPr>
        <p:sp>
          <p:nvSpPr>
            <p:cNvPr id="298" name=""/>
            <p:cNvSpPr/>
            <p:nvPr/>
          </p:nvSpPr>
          <p:spPr>
            <a:xfrm>
              <a:off x="6662520" y="45705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51520" y="56451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1400" y="56451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8960" y="67723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360" y="67723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02080" y="677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2680" y="677232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56560" y="503568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298" idx="2"/>
              <a:endCxn id="299" idx="0"/>
            </p:cNvCxnSpPr>
            <p:nvPr/>
          </p:nvCxnSpPr>
          <p:spPr>
            <a:xfrm flipH="1">
              <a:off x="5403240" y="4184280"/>
              <a:ext cx="711720" cy="732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7" name=""/>
            <p:cNvCxnSpPr>
              <a:stCxn id="298" idx="2"/>
              <a:endCxn id="300" idx="0"/>
            </p:cNvCxnSpPr>
            <p:nvPr/>
          </p:nvCxnSpPr>
          <p:spPr>
            <a:xfrm>
              <a:off x="6067440" y="4184280"/>
              <a:ext cx="759600" cy="732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8" name=""/>
            <p:cNvCxnSpPr>
              <a:stCxn id="299" idx="2"/>
              <a:endCxn id="301" idx="0"/>
            </p:cNvCxnSpPr>
            <p:nvPr/>
          </p:nvCxnSpPr>
          <p:spPr>
            <a:xfrm flipH="1">
              <a:off x="5428440" y="5204880"/>
              <a:ext cx="34380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9" name=""/>
            <p:cNvCxnSpPr>
              <a:stCxn id="299" idx="2"/>
              <a:endCxn id="302" idx="0"/>
            </p:cNvCxnSpPr>
            <p:nvPr/>
          </p:nvCxnSpPr>
          <p:spPr>
            <a:xfrm>
              <a:off x="5791320" y="5204880"/>
              <a:ext cx="32616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10" name=""/>
            <p:cNvCxnSpPr>
              <a:stCxn id="300" idx="2"/>
              <a:endCxn id="303" idx="0"/>
            </p:cNvCxnSpPr>
            <p:nvPr/>
          </p:nvCxnSpPr>
          <p:spPr>
            <a:xfrm flipH="1">
              <a:off x="6903720" y="5204880"/>
              <a:ext cx="34200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11" name=""/>
            <p:cNvCxnSpPr>
              <a:stCxn id="300" idx="2"/>
              <a:endCxn id="304" idx="0"/>
            </p:cNvCxnSpPr>
            <p:nvPr/>
          </p:nvCxnSpPr>
          <p:spPr>
            <a:xfrm>
              <a:off x="7261200" y="5204880"/>
              <a:ext cx="32472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12" name=""/>
            <p:cNvSpPr/>
            <p:nvPr/>
          </p:nvSpPr>
          <p:spPr>
            <a:xfrm>
              <a:off x="5322960" y="61214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69440" y="613080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35280" y="503568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28800" y="612144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11640" y="613080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324560" y="6921360"/>
              <a:ext cx="4478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527520" y="6921360"/>
              <a:ext cx="5950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841720" y="6921360"/>
              <a:ext cx="4474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ca ventaja de las coherencia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ndo áreas visibles que representan una parte de una únic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endo sucesivamente el área de viewing en rectángulos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cada área es la proyección de una sola superficie o de ning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 problemas que hay resolver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s de identifi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un área con un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si el área es demasiado compleja de analiz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é estructura se pare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:algorit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a construir u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ad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nzando con la vist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r lo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ests de ident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tests indican que la vista dentro de un área es lo suficientemente comple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divid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r ls tests a cada área más pequeñ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contenga una sol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su tamaño sea de  un único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n resolución 1024x1024, si se divide  10 veces, el tamaño de cada área es de un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" y="4876920"/>
            <a:ext cx="1828800" cy="1752480"/>
            <a:chOff x="457200" y="4876920"/>
            <a:chExt cx="1828800" cy="1752480"/>
          </a:xfrm>
        </p:grpSpPr>
        <p:sp>
          <p:nvSpPr>
            <p:cNvPr id="325" name=""/>
            <p:cNvSpPr/>
            <p:nvPr/>
          </p:nvSpPr>
          <p:spPr>
            <a:xfrm>
              <a:off x="457200" y="4876920"/>
              <a:ext cx="1828800" cy="1752480"/>
            </a:xfrm>
            <a:prstGeom prst="rect">
              <a:avLst/>
            </a:prstGeom>
            <a:noFill/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71600" y="4876920"/>
              <a:ext cx="1440" cy="175248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" y="5715000"/>
              <a:ext cx="18288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5715000"/>
              <a:ext cx="1440" cy="9144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6172200"/>
              <a:ext cx="914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400" y="6172200"/>
              <a:ext cx="1440" cy="4572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8800" y="6400800"/>
              <a:ext cx="4572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: tests de identific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4378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tro posibles 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rodea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se superpone en parte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dentro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fuera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áre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 se divide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s las superficies están fuera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 solo una superficie rodeando, superpuesta parcialmento o dentro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superficie que rodea el área oculta todas las demás que la intersect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629400" y="1143000"/>
            <a:ext cx="1600200" cy="1295280"/>
            <a:chOff x="6629400" y="1143000"/>
            <a:chExt cx="1600200" cy="1295280"/>
          </a:xfrm>
        </p:grpSpPr>
        <p:sp>
          <p:nvSpPr>
            <p:cNvPr id="335" name=""/>
            <p:cNvSpPr/>
            <p:nvPr/>
          </p:nvSpPr>
          <p:spPr>
            <a:xfrm>
              <a:off x="6629400" y="1143000"/>
              <a:ext cx="1600200" cy="1295280"/>
            </a:xfrm>
            <a:custGeom>
              <a:avLst/>
              <a:gdLst/>
              <a:ahLst/>
              <a:rect l="l" t="t" r="r" b="b"/>
              <a:pathLst>
                <a:path w="1056" h="816">
                  <a:moveTo>
                    <a:pt x="528" y="0"/>
                  </a:moveTo>
                  <a:lnTo>
                    <a:pt x="816" y="0"/>
                  </a:lnTo>
                  <a:lnTo>
                    <a:pt x="1056" y="672"/>
                  </a:lnTo>
                  <a:lnTo>
                    <a:pt x="720" y="816"/>
                  </a:lnTo>
                  <a:lnTo>
                    <a:pt x="192" y="672"/>
                  </a:lnTo>
                  <a:lnTo>
                    <a:pt x="0" y="28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2920" y="1447920"/>
              <a:ext cx="761760" cy="76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763120" y="2057400"/>
            <a:ext cx="1066680" cy="1143000"/>
            <a:chOff x="8763120" y="2057400"/>
            <a:chExt cx="1066680" cy="1143000"/>
          </a:xfrm>
        </p:grpSpPr>
        <p:sp>
          <p:nvSpPr>
            <p:cNvPr id="338" name=""/>
            <p:cNvSpPr/>
            <p:nvPr/>
          </p:nvSpPr>
          <p:spPr>
            <a:xfrm>
              <a:off x="8763120" y="2209680"/>
              <a:ext cx="76176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144000" y="2057400"/>
              <a:ext cx="685800" cy="114300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192" y="0"/>
                  </a:moveTo>
                  <a:lnTo>
                    <a:pt x="0" y="624"/>
                  </a:lnTo>
                  <a:lnTo>
                    <a:pt x="240" y="720"/>
                  </a:lnTo>
                  <a:lnTo>
                    <a:pt x="432" y="33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81680" y="2971800"/>
            <a:ext cx="762120" cy="762120"/>
            <a:chOff x="6781680" y="2971800"/>
            <a:chExt cx="762120" cy="762120"/>
          </a:xfrm>
        </p:grpSpPr>
        <p:sp>
          <p:nvSpPr>
            <p:cNvPr id="341" name=""/>
            <p:cNvSpPr/>
            <p:nvPr/>
          </p:nvSpPr>
          <p:spPr>
            <a:xfrm>
              <a:off x="6781680" y="2971800"/>
              <a:ext cx="76212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80000">
              <a:off x="7088040" y="319896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48"/>
                  </a:moveTo>
                  <a:lnTo>
                    <a:pt x="144" y="0"/>
                  </a:lnTo>
                  <a:lnTo>
                    <a:pt x="96" y="144"/>
                  </a:lnTo>
                  <a:lnTo>
                    <a:pt x="0" y="1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458200" y="3886200"/>
            <a:ext cx="952560" cy="914400"/>
            <a:chOff x="8458200" y="3886200"/>
            <a:chExt cx="952560" cy="914400"/>
          </a:xfrm>
        </p:grpSpPr>
        <p:sp>
          <p:nvSpPr>
            <p:cNvPr id="344" name=""/>
            <p:cNvSpPr/>
            <p:nvPr/>
          </p:nvSpPr>
          <p:spPr>
            <a:xfrm>
              <a:off x="8458200" y="4038480"/>
              <a:ext cx="76212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220320" y="3886200"/>
              <a:ext cx="190440" cy="17136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192"/>
                  </a:moveTo>
                  <a:lnTo>
                    <a:pt x="192" y="288"/>
                  </a:lnTo>
                  <a:lnTo>
                    <a:pt x="384" y="192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178840" y="137016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r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12200" y="319896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verl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01400" y="3427560"/>
            <a:ext cx="75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78720" y="41148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basado en octr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ón del método de división de á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proyectan los nodos en el view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n desde adelante hacia atrás (se recorren encuentran y analizan primero las superficies menos profun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nodos de los primeros octantes son visitados primero que los nodos pos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 un pixel se le asigna el color de la superficie que se encuentra en el primer nodo que le correspo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95240" y="4903920"/>
            <a:ext cx="4158000" cy="2182680"/>
            <a:chOff x="4395240" y="4903920"/>
            <a:chExt cx="4158000" cy="2182680"/>
          </a:xfrm>
        </p:grpSpPr>
        <p:sp>
          <p:nvSpPr>
            <p:cNvPr id="353" name=""/>
            <p:cNvSpPr/>
            <p:nvPr/>
          </p:nvSpPr>
          <p:spPr>
            <a:xfrm>
              <a:off x="6580080" y="569916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72320" y="547992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5" name=""/>
            <p:cNvCxnSpPr/>
            <p:nvPr/>
          </p:nvCxnSpPr>
          <p:spPr>
            <a:xfrm flipV="1">
              <a:off x="5487480" y="6649200"/>
              <a:ext cx="109476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56" name=""/>
            <p:cNvCxnSpPr/>
            <p:nvPr/>
          </p:nvCxnSpPr>
          <p:spPr>
            <a:xfrm flipH="1">
              <a:off x="5487480" y="6649560"/>
              <a:ext cx="109296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57" name=""/>
            <p:cNvSpPr/>
            <p:nvPr/>
          </p:nvSpPr>
          <p:spPr>
            <a:xfrm>
              <a:off x="7135920" y="5591160"/>
              <a:ext cx="144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7840" y="547992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9" name=""/>
            <p:cNvCxnSpPr/>
            <p:nvPr/>
          </p:nvCxnSpPr>
          <p:spPr>
            <a:xfrm>
              <a:off x="4395600" y="6649560"/>
              <a:ext cx="109260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60" name=""/>
            <p:cNvCxnSpPr/>
            <p:nvPr/>
          </p:nvCxnSpPr>
          <p:spPr>
            <a:xfrm flipH="1" flipV="1">
              <a:off x="4395240" y="6649200"/>
              <a:ext cx="109260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61" name=""/>
            <p:cNvSpPr/>
            <p:nvPr/>
          </p:nvSpPr>
          <p:spPr>
            <a:xfrm>
              <a:off x="6024600" y="5591160"/>
              <a:ext cx="144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2" name=""/>
            <p:cNvCxnSpPr/>
            <p:nvPr/>
          </p:nvCxnSpPr>
          <p:spPr>
            <a:xfrm flipH="1" flipV="1">
              <a:off x="5487480" y="5043240"/>
              <a:ext cx="1092960" cy="219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63" name=""/>
            <p:cNvCxnSpPr/>
            <p:nvPr/>
          </p:nvCxnSpPr>
          <p:spPr>
            <a:xfrm flipH="1">
              <a:off x="4395240" y="5043240"/>
              <a:ext cx="1092600" cy="2214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64" name=""/>
            <p:cNvSpPr/>
            <p:nvPr/>
          </p:nvSpPr>
          <p:spPr>
            <a:xfrm flipV="1">
              <a:off x="6580080" y="6208200"/>
              <a:ext cx="1092240" cy="2257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24600" y="5367240"/>
              <a:ext cx="1092240" cy="225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5484600" y="6208200"/>
              <a:ext cx="1098360" cy="2257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6040440" y="5367240"/>
              <a:ext cx="1098720" cy="225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41720" y="59022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75960" y="57754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1280" y="658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76680" y="6480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7360" y="64897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90680" y="5335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8480" y="5219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29640" y="4903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47080" y="5094360"/>
              <a:ext cx="182520" cy="25236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0"/>
                  </a:moveTo>
                  <a:cubicBezTo>
                    <a:pt x="44" y="36"/>
                    <a:pt x="88" y="72"/>
                    <a:pt x="96" y="96"/>
                  </a:cubicBezTo>
                  <a:cubicBezTo>
                    <a:pt x="104" y="120"/>
                    <a:pt x="76" y="132"/>
                    <a:pt x="48" y="144"/>
                  </a:cubicBezTo>
                </a:path>
              </a:pathLst>
            </a:custGeom>
            <a:noFill/>
            <a:ln w="158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746840" y="6172200"/>
              <a:ext cx="806400" cy="193680"/>
              <a:chOff x="7746840" y="6172200"/>
              <a:chExt cx="806400" cy="1936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8248320" y="6172200"/>
                <a:ext cx="304920" cy="193680"/>
                <a:chOff x="8248320" y="6172200"/>
                <a:chExt cx="304920" cy="19368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8248320" y="6172200"/>
                  <a:ext cx="304920" cy="193680"/>
                  <a:chOff x="8248320" y="6172200"/>
                  <a:chExt cx="304920" cy="1936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V="1">
                    <a:off x="8250120" y="6327720"/>
                    <a:ext cx="301680" cy="38160"/>
                  </a:xfrm>
                  <a:prstGeom prst="line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8248320" y="6172200"/>
                    <a:ext cx="304920" cy="162000"/>
                  </a:xfrm>
                  <a:prstGeom prst="line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 flipV="1" rot="1680000">
                  <a:off x="8290080" y="6222960"/>
                  <a:ext cx="64800" cy="125280"/>
                </a:xfrm>
                <a:custGeom>
                  <a:avLst/>
                  <a:gdLst/>
                  <a:ahLst/>
                  <a:rect l="l" t="t" r="r" b="b"/>
                  <a:pathLst>
                    <a:path w="56" h="144">
                      <a:moveTo>
                        <a:pt x="56" y="0"/>
                      </a:moveTo>
                      <a:cubicBezTo>
                        <a:pt x="36" y="12"/>
                        <a:pt x="16" y="24"/>
                        <a:pt x="8" y="48"/>
                      </a:cubicBezTo>
                      <a:cubicBezTo>
                        <a:pt x="0" y="72"/>
                        <a:pt x="4" y="108"/>
                        <a:pt x="8" y="144"/>
                      </a:cubicBezTo>
                    </a:path>
                  </a:pathLst>
                </a:custGeom>
                <a:noFill/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 flipH="1" flipV="1">
                <a:off x="7746840" y="6205320"/>
                <a:ext cx="457200" cy="52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384" name=""/>
          <p:cNvCxnSpPr/>
          <p:nvPr/>
        </p:nvCxnSpPr>
        <p:spPr>
          <a:xfrm flipH="1" flipV="1">
            <a:off x="4444560" y="5277600"/>
            <a:ext cx="1092960" cy="2199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85" name=""/>
          <p:cNvCxnSpPr/>
          <p:nvPr/>
        </p:nvCxnSpPr>
        <p:spPr>
          <a:xfrm flipH="1">
            <a:off x="5536800" y="5277960"/>
            <a:ext cx="1092960" cy="2199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scan-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ordenamiento en produndidad (del pin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inary space partition tree (BSP-t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asado en subdivisión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asdo en oc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ray ca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para superficies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basado en octr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se dibuj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r (map) el octree a un quadtree de área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correr los nodos del octree, recursivamente, desde adelante hacia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información del quadtree es cargada en el frame-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34160" y="5037120"/>
            <a:ext cx="1800" cy="17748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323280" y="4476600"/>
            <a:ext cx="180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/>
          <p:nvPr/>
        </p:nvCxnSpPr>
        <p:spPr>
          <a:xfrm flipV="1">
            <a:off x="5945040" y="5691960"/>
            <a:ext cx="1689840" cy="56124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91" name=""/>
          <p:cNvCxnSpPr/>
          <p:nvPr/>
        </p:nvCxnSpPr>
        <p:spPr>
          <a:xfrm flipH="1">
            <a:off x="5944680" y="5689080"/>
            <a:ext cx="1689840" cy="56268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8493120" y="4746600"/>
            <a:ext cx="144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46840" y="4498920"/>
            <a:ext cx="1440" cy="17748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/>
          <p:nvPr/>
        </p:nvCxnSpPr>
        <p:spPr>
          <a:xfrm>
            <a:off x="4257720" y="5733720"/>
            <a:ext cx="1689840" cy="5403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95" name=""/>
          <p:cNvCxnSpPr/>
          <p:nvPr/>
        </p:nvCxnSpPr>
        <p:spPr>
          <a:xfrm flipH="1" flipV="1">
            <a:off x="4255560" y="5736600"/>
            <a:ext cx="1689840" cy="53892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6762600" y="4757760"/>
            <a:ext cx="180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634160" y="5370480"/>
            <a:ext cx="1689120" cy="60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941800" y="5459040"/>
            <a:ext cx="1695240" cy="51444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796600" y="4981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23600" y="618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811000" y="5845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07480" y="5856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16080" y="433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8872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79120" y="35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52000" y="3811680"/>
            <a:ext cx="244440" cy="26964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0" y="0"/>
                </a:moveTo>
                <a:cubicBezTo>
                  <a:pt x="44" y="36"/>
                  <a:pt x="88" y="72"/>
                  <a:pt x="96" y="96"/>
                </a:cubicBezTo>
                <a:cubicBezTo>
                  <a:pt x="104" y="120"/>
                  <a:pt x="76" y="132"/>
                  <a:pt x="48" y="144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6730560" y="4202280"/>
            <a:ext cx="1752840" cy="5364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943600" y="3884400"/>
            <a:ext cx="1689120" cy="6030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62600" y="4159080"/>
            <a:ext cx="1689120" cy="60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208640" y="4599000"/>
            <a:ext cx="795240" cy="2700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602120" y="5249880"/>
            <a:ext cx="917640" cy="31428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84880" y="4599000"/>
            <a:ext cx="860400" cy="2937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48560" y="5249880"/>
            <a:ext cx="909720" cy="31428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84880" y="4913280"/>
            <a:ext cx="3240" cy="898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70840" y="4913280"/>
            <a:ext cx="3240" cy="898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621560" y="5135400"/>
            <a:ext cx="449280" cy="1857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381800" y="4797000"/>
            <a:ext cx="449280" cy="187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4880" y="5205240"/>
            <a:ext cx="451080" cy="9072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96200" y="4824360"/>
            <a:ext cx="450720" cy="8892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859880" y="4924440"/>
            <a:ext cx="2880" cy="5382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6200" y="4948200"/>
            <a:ext cx="3240" cy="5382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38000" y="530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676116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ctan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5941800" y="4570560"/>
            <a:ext cx="1695240" cy="51408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7678440" y="3884760"/>
            <a:ext cx="1695240" cy="51408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83480" y="4427280"/>
            <a:ext cx="1689120" cy="6030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ray ca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ado en métodos ópticos geomét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zar caminos de rayos de lu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zar un rayo desde cada pixel, en la línea de visión, para intersectar l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qué objetos intersectan est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la superficie visible cuyo con puntos de intersección más cercano al plano de visión (view pl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onsiderar solo los rayos que pasan por un pix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efectivo para escenas con superficies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Clasificación de los métod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en el espacio de las imág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pth-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-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can-l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ubdivisión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étodos en el espacio de los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Detección de Back-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BSP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Subdivisión de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Ray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s para superficies curv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fectivos para superficies cur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r las superficies curvas con un conjunto de caras poligonales pl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r alguno de los métodos v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ás eficiente y preciso es usar ray casting y las ecuaciones que describen las superf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Compar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back-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o y efectivo para eliminar rapidamente las caras que no se ven pero no resuelve el problema comple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-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ápido y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buffers (colores y profund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el z-buffer incluyendo transparencia, antialiasing,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respecto a la complejidad de la escena medido en la cantidad de polígonos que se superpone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enas simples (hasta mil polígonos)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rdenamiento en profundidad, BSP tree, scan-lines, z-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enas complejas (más de mil)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z-buffer, oc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tensión del algoritmo para rellenar el interior de los 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cada polígono que intersecta la scan-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ar de izquierda a dere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profundidad (depth) en caso que hay polígonos super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tensidad del punto más cercano se almacena en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tabl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abla de ar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os extremos de cada ar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ente de la línea que pasa por el ar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es (punteros) a los polígonos que lo contien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abla de 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eficientes de la ecuación del pla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 los colores (intensidad) del políg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es (punteros) a la tabla de ar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activa para scan-line 1  (ar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a de arc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AB, BC, EH, 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ntre AB y BC solo el flag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stá ence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es necesario calcular dep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color de       se util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nera similar entre EH y FG solo el flag de        está ence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25080" y="1954080"/>
            <a:ext cx="3913920" cy="2617560"/>
            <a:chOff x="5725080" y="1954080"/>
            <a:chExt cx="3913920" cy="2617560"/>
          </a:xfrm>
        </p:grpSpPr>
        <p:sp>
          <p:nvSpPr>
            <p:cNvPr id="92" name=""/>
            <p:cNvSpPr/>
            <p:nvPr/>
          </p:nvSpPr>
          <p:spPr>
            <a:xfrm flipV="1">
              <a:off x="6000840" y="2409840"/>
              <a:ext cx="1440" cy="188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00840" y="4297320"/>
              <a:ext cx="31240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05400" y="2163600"/>
              <a:ext cx="144792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576" y="0"/>
                  </a:moveTo>
                  <a:lnTo>
                    <a:pt x="0" y="384"/>
                  </a:lnTo>
                  <a:lnTo>
                    <a:pt x="240" y="1152"/>
                  </a:lnTo>
                  <a:lnTo>
                    <a:pt x="912" y="96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105680" y="2411280"/>
              <a:ext cx="1733400" cy="1752840"/>
              <a:chOff x="7105680" y="2411280"/>
              <a:chExt cx="1733400" cy="1752840"/>
            </a:xfrm>
          </p:grpSpPr>
          <p:sp>
            <p:nvSpPr>
              <p:cNvPr id="96" name=""/>
              <p:cNvSpPr/>
              <p:nvPr/>
            </p:nvSpPr>
            <p:spPr>
              <a:xfrm>
                <a:off x="7391520" y="2411280"/>
                <a:ext cx="1447560" cy="1752840"/>
              </a:xfrm>
              <a:custGeom>
                <a:avLst/>
                <a:gdLst/>
                <a:ahLst/>
                <a:rect l="l" t="t" r="r" b="b"/>
                <a:pathLst>
                  <a:path w="912" h="1104">
                    <a:moveTo>
                      <a:pt x="48" y="288"/>
                    </a:moveTo>
                    <a:lnTo>
                      <a:pt x="192" y="0"/>
                    </a:lnTo>
                    <a:lnTo>
                      <a:pt x="912" y="96"/>
                    </a:lnTo>
                    <a:lnTo>
                      <a:pt x="336" y="1104"/>
                    </a:lnTo>
                    <a:lnTo>
                      <a:pt x="0" y="86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05680" y="2840040"/>
                <a:ext cx="380880" cy="914400"/>
              </a:xfrm>
              <a:custGeom>
                <a:avLst/>
                <a:gdLst/>
                <a:ahLst/>
                <a:rect l="l" t="t" r="r" b="b"/>
                <a:pathLst>
                  <a:path w="240" h="576">
                    <a:moveTo>
                      <a:pt x="240" y="0"/>
                    </a:moveTo>
                    <a:lnTo>
                      <a:pt x="0" y="480"/>
                    </a:lnTo>
                    <a:lnTo>
                      <a:pt x="144" y="576"/>
                    </a:lnTo>
                  </a:path>
                </a:pathLst>
              </a:custGeom>
              <a:noFill/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000840" y="262080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0840" y="3230640"/>
              <a:ext cx="3200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00840" y="338292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48440" y="4270320"/>
              <a:ext cx="319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x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5080" y="228924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y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00560" y="26701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50600" y="1954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5828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73320" y="2182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12360" y="233532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2532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67000" y="3432240"/>
              <a:ext cx="2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96200" y="392760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4720" y="35845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94800" y="4041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53680" y="259380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53680" y="2975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3680" y="335592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32367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43400" y="46083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15200" y="50655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activa para scan-line 2 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AD, BC, EH, 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ntre AD y EH solo el flag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stá enc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ntre EH y BC ambos flag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y           están encen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lcular depth (profundidad de ambas superfic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color de       se util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r ventaja de la cohe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ando de una scan-line a l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-line 3 tiene la misma lista activa que 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s necesario hacer cálculos de profundidad entre EH 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725080" y="1954080"/>
            <a:ext cx="3913920" cy="2617560"/>
            <a:chOff x="5725080" y="1954080"/>
            <a:chExt cx="3913920" cy="2617560"/>
          </a:xfrm>
        </p:grpSpPr>
        <p:sp>
          <p:nvSpPr>
            <p:cNvPr id="122" name=""/>
            <p:cNvSpPr/>
            <p:nvPr/>
          </p:nvSpPr>
          <p:spPr>
            <a:xfrm flipV="1">
              <a:off x="6000840" y="2409840"/>
              <a:ext cx="1440" cy="188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00840" y="4297320"/>
              <a:ext cx="31240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5400" y="2163600"/>
              <a:ext cx="144792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576" y="0"/>
                  </a:moveTo>
                  <a:lnTo>
                    <a:pt x="0" y="384"/>
                  </a:lnTo>
                  <a:lnTo>
                    <a:pt x="240" y="1152"/>
                  </a:lnTo>
                  <a:lnTo>
                    <a:pt x="912" y="96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105680" y="2411280"/>
              <a:ext cx="1733400" cy="1752840"/>
              <a:chOff x="7105680" y="2411280"/>
              <a:chExt cx="1733400" cy="1752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391520" y="2411280"/>
                <a:ext cx="1447560" cy="1752840"/>
              </a:xfrm>
              <a:custGeom>
                <a:avLst/>
                <a:gdLst/>
                <a:ahLst/>
                <a:rect l="l" t="t" r="r" b="b"/>
                <a:pathLst>
                  <a:path w="912" h="1104">
                    <a:moveTo>
                      <a:pt x="48" y="288"/>
                    </a:moveTo>
                    <a:lnTo>
                      <a:pt x="192" y="0"/>
                    </a:lnTo>
                    <a:lnTo>
                      <a:pt x="912" y="96"/>
                    </a:lnTo>
                    <a:lnTo>
                      <a:pt x="336" y="1104"/>
                    </a:lnTo>
                    <a:lnTo>
                      <a:pt x="0" y="86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05680" y="2840040"/>
                <a:ext cx="380880" cy="914400"/>
              </a:xfrm>
              <a:custGeom>
                <a:avLst/>
                <a:gdLst/>
                <a:ahLst/>
                <a:rect l="l" t="t" r="r" b="b"/>
                <a:pathLst>
                  <a:path w="240" h="576">
                    <a:moveTo>
                      <a:pt x="240" y="0"/>
                    </a:moveTo>
                    <a:lnTo>
                      <a:pt x="0" y="480"/>
                    </a:lnTo>
                    <a:lnTo>
                      <a:pt x="144" y="576"/>
                    </a:lnTo>
                  </a:path>
                </a:pathLst>
              </a:custGeom>
              <a:noFill/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000840" y="262080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0840" y="3230640"/>
              <a:ext cx="3200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00840" y="338292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48440" y="4270320"/>
              <a:ext cx="319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x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25080" y="228924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y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00560" y="26701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50600" y="1954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828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3320" y="2182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12360" y="233532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2532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7000" y="3432240"/>
              <a:ext cx="2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96200" y="392760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04720" y="35845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94800" y="4041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53680" y="259380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53680" y="2975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53680" y="335592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00600" y="274320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343400" y="4836960"/>
                <a:ext cx="36504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92760" y="354816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400536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¿Cuándo hay problema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3809880"/>
            <a:ext cx="6934320" cy="1905120"/>
            <a:chOff x="1066680" y="3809880"/>
            <a:chExt cx="6934320" cy="1905120"/>
          </a:xfrm>
        </p:grpSpPr>
        <p:grpSp>
          <p:nvGrpSpPr>
            <p:cNvPr id="152" name=""/>
            <p:cNvGrpSpPr/>
            <p:nvPr/>
          </p:nvGrpSpPr>
          <p:grpSpPr>
            <a:xfrm>
              <a:off x="1066680" y="3809880"/>
              <a:ext cx="1981440" cy="1905120"/>
              <a:chOff x="1066680" y="3809880"/>
              <a:chExt cx="1981440" cy="1905120"/>
            </a:xfrm>
          </p:grpSpPr>
          <p:sp>
            <p:nvSpPr>
              <p:cNvPr id="153" name=""/>
              <p:cNvSpPr/>
              <p:nvPr/>
            </p:nvSpPr>
            <p:spPr>
              <a:xfrm>
                <a:off x="1066680" y="43862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17840" y="3809880"/>
                <a:ext cx="879120" cy="1905120"/>
              </a:xfrm>
              <a:custGeom>
                <a:avLst/>
                <a:gdLst/>
                <a:ahLst/>
                <a:rect l="l" t="t" r="r" b="b"/>
                <a:pathLst>
                  <a:path w="480" h="864">
                    <a:moveTo>
                      <a:pt x="0" y="240"/>
                    </a:moveTo>
                    <a:lnTo>
                      <a:pt x="480" y="0"/>
                    </a:lnTo>
                    <a:lnTo>
                      <a:pt x="480" y="624"/>
                    </a:lnTo>
                    <a:lnTo>
                      <a:pt x="0" y="864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17840" y="45878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1617840" y="4586040"/>
                <a:ext cx="879120" cy="40644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233880" y="3809880"/>
              <a:ext cx="2226960" cy="1905120"/>
              <a:chOff x="3233880" y="3809880"/>
              <a:chExt cx="2226960" cy="1905120"/>
            </a:xfrm>
          </p:grpSpPr>
          <p:sp>
            <p:nvSpPr>
              <p:cNvPr id="158" name=""/>
              <p:cNvSpPr/>
              <p:nvPr/>
            </p:nvSpPr>
            <p:spPr>
              <a:xfrm>
                <a:off x="4424400" y="4302000"/>
                <a:ext cx="103644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44"/>
                    </a:moveTo>
                    <a:lnTo>
                      <a:pt x="336" y="0"/>
                    </a:lnTo>
                    <a:lnTo>
                      <a:pt x="480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33880" y="4317840"/>
                <a:ext cx="1966680" cy="76212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192" y="0"/>
                    </a:moveTo>
                    <a:lnTo>
                      <a:pt x="0" y="96"/>
                    </a:lnTo>
                    <a:lnTo>
                      <a:pt x="1056" y="288"/>
                    </a:lnTo>
                    <a:lnTo>
                      <a:pt x="120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48240" y="3809880"/>
                <a:ext cx="309240" cy="1905120"/>
              </a:xfrm>
              <a:custGeom>
                <a:avLst/>
                <a:gdLst/>
                <a:ahLst/>
                <a:rect l="l" t="t" r="r" b="b"/>
                <a:pathLst>
                  <a:path w="192" h="720">
                    <a:moveTo>
                      <a:pt x="192" y="0"/>
                    </a:moveTo>
                    <a:lnTo>
                      <a:pt x="0" y="96"/>
                    </a:lnTo>
                    <a:lnTo>
                      <a:pt x="0" y="720"/>
                    </a:lnTo>
                    <a:lnTo>
                      <a:pt x="192" y="62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41600" y="4826160"/>
                <a:ext cx="103500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336" y="0"/>
                    </a:moveTo>
                    <a:lnTo>
                      <a:pt x="0" y="144"/>
                    </a:lnTo>
                    <a:lnTo>
                      <a:pt x="144" y="192"/>
                    </a:lnTo>
                    <a:lnTo>
                      <a:pt x="480" y="48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700440" y="4792680"/>
                <a:ext cx="206280" cy="13032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680080" y="3809880"/>
              <a:ext cx="2320920" cy="1905120"/>
              <a:chOff x="5680080" y="3809880"/>
              <a:chExt cx="2320920" cy="1905120"/>
            </a:xfrm>
          </p:grpSpPr>
          <p:sp>
            <p:nvSpPr>
              <p:cNvPr id="164" name=""/>
              <p:cNvSpPr/>
              <p:nvPr/>
            </p:nvSpPr>
            <p:spPr>
              <a:xfrm>
                <a:off x="5680080" y="4383000"/>
                <a:ext cx="990720" cy="48420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576" y="0"/>
                    </a:moveTo>
                    <a:lnTo>
                      <a:pt x="48" y="48"/>
                    </a:lnTo>
                    <a:lnTo>
                      <a:pt x="0" y="192"/>
                    </a:lnTo>
                    <a:lnTo>
                      <a:pt x="576" y="144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21360" y="3809880"/>
                <a:ext cx="1649520" cy="1905120"/>
              </a:xfrm>
              <a:custGeom>
                <a:avLst/>
                <a:gdLst/>
                <a:ahLst/>
                <a:rect l="l" t="t" r="r" b="b"/>
                <a:pathLst>
                  <a:path w="960" h="864">
                    <a:moveTo>
                      <a:pt x="192" y="192"/>
                    </a:moveTo>
                    <a:lnTo>
                      <a:pt x="0" y="240"/>
                    </a:lnTo>
                    <a:lnTo>
                      <a:pt x="0" y="864"/>
                    </a:lnTo>
                    <a:lnTo>
                      <a:pt x="960" y="624"/>
                    </a:lnTo>
                    <a:lnTo>
                      <a:pt x="960" y="0"/>
                    </a:lnTo>
                    <a:lnTo>
                      <a:pt x="768" y="48"/>
                    </a:lnTo>
                    <a:lnTo>
                      <a:pt x="768" y="432"/>
                    </a:lnTo>
                    <a:lnTo>
                      <a:pt x="192" y="576"/>
                    </a:lnTo>
                    <a:lnTo>
                      <a:pt x="192" y="19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51480" y="4233960"/>
                <a:ext cx="1649520" cy="552240"/>
              </a:xfrm>
              <a:custGeom>
                <a:avLst/>
                <a:gdLst/>
                <a:ahLst/>
                <a:rect l="l" t="t" r="r" b="b"/>
                <a:pathLst>
                  <a:path w="960" h="288">
                    <a:moveTo>
                      <a:pt x="0" y="96"/>
                    </a:moveTo>
                    <a:lnTo>
                      <a:pt x="960" y="0"/>
                    </a:lnTo>
                    <a:lnTo>
                      <a:pt x="912" y="192"/>
                    </a:lnTo>
                    <a:lnTo>
                      <a:pt x="0" y="28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35680" y="4361040"/>
                <a:ext cx="1800" cy="36828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étodo funciona si polígonos no se superponen cícl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e producen estos casos =&gt; dividir los políg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ordenamiento en profund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n el espacio de las imágenes y en el espacio de los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ciones de ordenamiento en el espacio de las imágenes y en el espacio de los ob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-conversion en el espacio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iones bás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s (polígonos) ordenadas en forma decreci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-conversion sobre las más lejanas primero (valor de depth más gran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Algorit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do com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lgoritmo del pin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crear un cuadr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o pinta los colores del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los objetos más di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continuación  los que los siguen en cercanía y asi suces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mente se pinta la superficie mas cercana (foreg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nar los polígonos (superficies) de acuerdo a su distancia el view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intensidades(colores) de la más lejana se ingresa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r la superficie siguiente y repite 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5:58:27Z</dcterms:created>
  <dc:creator/>
  <dc:description/>
  <dc:language>en-US</dc:language>
  <cp:lastModifiedBy/>
  <dcterms:modified xsi:type="dcterms:W3CDTF">2012-05-31T15:40:44Z</dcterms:modified>
  <cp:revision>36</cp:revision>
  <dc:subject/>
  <dc:title/>
</cp:coreProperties>
</file>