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6FB2-4393-4A51-80BB-221353CC2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FE9E-24A8-45E3-BF8F-CD36B30BB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A582-08D8-4E5F-8049-4D4442704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9561-1F53-4A30-812C-2A2606103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0C012-0465-46B4-AB78-8A8DA3F2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86A7D-27BF-4461-84E2-B86FFC56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64815-431A-4EC7-8B7A-DA8FA126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F637A-F86E-4512-91D9-E99A0BC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C34DA-7F08-46D8-BD58-8077C9AC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D37BD-3F59-487D-BCB5-805CFE17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45FCC-92AF-4AD8-9DAA-C411964A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15BA-E811-4910-BB67-400987158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9DFE2-D717-40BE-BB96-CA24837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2F11A-6523-4AED-ABBD-AD2FB14A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78029-D418-4081-AE50-B175BF6A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637C5-37E8-41F9-8B2A-6C539459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4D0A8-AB89-46D6-AB84-2C97988A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02AA-728F-4851-AED0-DE14D87B2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DBC1-47C3-459D-981A-400EBD272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C444-86DE-4B94-A197-9A76F426D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591D-29A2-42FB-98F9-A0BE51183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4252-AC07-4598-8712-79192563E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0D73-B39C-48CD-A85E-00D9BA791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CDF0-021F-4EAE-AA3B-BFF502AEF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D0C08-DDFC-4697-B390-0E61F49DFD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C8808-E34C-48DD-BEFC-186510168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2520" y="1523880"/>
            <a:ext cx="7182000" cy="5178600"/>
            <a:chOff x="182520" y="1523880"/>
            <a:chExt cx="7182000" cy="5178600"/>
          </a:xfrm>
        </p:grpSpPr>
        <p:sp>
          <p:nvSpPr>
            <p:cNvPr id="84" name=""/>
            <p:cNvSpPr/>
            <p:nvPr/>
          </p:nvSpPr>
          <p:spPr>
            <a:xfrm>
              <a:off x="2421000" y="1523880"/>
              <a:ext cx="1263600" cy="12636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CSG 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1400" y="297180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5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99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"/>
            <p:cNvCxnSpPr>
              <a:stCxn id="86" idx="7"/>
              <a:endCxn id="85" idx="3"/>
            </p:cNvCxnSpPr>
            <p:nvPr/>
          </p:nvCxnSpPr>
          <p:spPr>
            <a:xfrm flipV="1">
              <a:off x="87660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>
              <a:stCxn id="87" idx="1"/>
              <a:endCxn id="85" idx="5"/>
            </p:cNvCxnSpPr>
            <p:nvPr/>
          </p:nvCxnSpPr>
          <p:spPr>
            <a:xfrm flipH="1" flipV="1">
              <a:off x="190512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4481640" y="299232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276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2132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1" idx="7"/>
              <a:endCxn id="90" idx="3"/>
            </p:cNvCxnSpPr>
            <p:nvPr/>
          </p:nvCxnSpPr>
          <p:spPr>
            <a:xfrm flipV="1">
              <a:off x="4146840" y="368640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2" idx="1"/>
              <a:endCxn id="90" idx="5"/>
            </p:cNvCxnSpPr>
            <p:nvPr/>
          </p:nvCxnSpPr>
          <p:spPr>
            <a:xfrm flipH="1" flipV="1">
              <a:off x="5175360" y="3686400"/>
              <a:ext cx="46512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>
              <a:off x="44942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16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95" idx="7"/>
              <a:endCxn id="92" idx="3"/>
            </p:cNvCxnSpPr>
            <p:nvPr/>
          </p:nvCxnSpPr>
          <p:spPr>
            <a:xfrm flipV="1">
              <a:off x="5188320" y="5115240"/>
              <a:ext cx="45216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96" idx="1"/>
              <a:endCxn id="92" idx="5"/>
            </p:cNvCxnSpPr>
            <p:nvPr/>
          </p:nvCxnSpPr>
          <p:spPr>
            <a:xfrm flipH="1" flipV="1">
              <a:off x="6215400" y="5115240"/>
              <a:ext cx="45540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85" idx="7"/>
              <a:endCxn id="84" idx="3"/>
            </p:cNvCxnSpPr>
            <p:nvPr/>
          </p:nvCxnSpPr>
          <p:spPr>
            <a:xfrm flipV="1">
              <a:off x="1905120" y="2602440"/>
              <a:ext cx="701280" cy="48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0" idx="1"/>
              <a:endCxn id="84" idx="5"/>
            </p:cNvCxnSpPr>
            <p:nvPr/>
          </p:nvCxnSpPr>
          <p:spPr>
            <a:xfrm flipH="1" flipV="1">
              <a:off x="3499560" y="2602440"/>
              <a:ext cx="1101240" cy="509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01" name=""/>
          <p:cNvSpPr/>
          <p:nvPr/>
        </p:nvSpPr>
        <p:spPr>
          <a:xfrm>
            <a:off x="4781520" y="1389240"/>
            <a:ext cx="39052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SG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34023" t="30817" r="32093" b="19207"/>
          <a:stretch/>
        </p:blipFill>
        <p:spPr>
          <a:xfrm>
            <a:off x="1789200" y="2030400"/>
            <a:ext cx="529740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jemplo Ray 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529" t="29097" r="50321" b="44241"/>
          <a:stretch/>
        </p:blipFill>
        <p:spPr>
          <a:xfrm>
            <a:off x="307800" y="1322280"/>
            <a:ext cx="7553520" cy="418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59591" t="36714" r="14171" b="44241"/>
          <a:stretch/>
        </p:blipFill>
        <p:spPr>
          <a:xfrm>
            <a:off x="4851360" y="4560840"/>
            <a:ext cx="3878280" cy="21146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-3240" y="1763640"/>
            <a:ext cx="282600" cy="5094360"/>
            <a:chOff x="-3240" y="1763640"/>
            <a:chExt cx="282600" cy="5094360"/>
          </a:xfrm>
        </p:grpSpPr>
        <p:sp>
          <p:nvSpPr>
            <p:cNvPr id="110" name=""/>
            <p:cNvSpPr/>
            <p:nvPr/>
          </p:nvSpPr>
          <p:spPr>
            <a:xfrm>
              <a:off x="6480" y="1763640"/>
              <a:ext cx="268200" cy="4880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vert="eaVer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100" spc="-1" strike="noStrike">
                  <a:solidFill>
                    <a:srgbClr val="ffffff"/>
                  </a:solidFill>
                  <a:latin typeface="Arial"/>
                </a:rPr>
                <a:t>Images taken from Hearn &amp; Baker, “Computer Graphics with OpenGL” (2004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rcRect l="0" t="12172" r="0" b="13246"/>
            <a:stretch/>
          </p:blipFill>
          <p:spPr>
            <a:xfrm>
              <a:off x="-3240" y="6647040"/>
              <a:ext cx="282600" cy="210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SG tree: un ejemplo e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typedef struct _csg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Operator 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Quadric primit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r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} CSGTreePt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a nodo hoja representa una prim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’ es un operador (union, interseccion o re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sectando un  ra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612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 código para  intersección ray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46240" y="2386080"/>
            <a:ext cx="5862600" cy="3527280"/>
            <a:chOff x="2046240" y="2386080"/>
            <a:chExt cx="5862600" cy="352728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2046240" y="2386080"/>
              <a:ext cx="58626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046240" y="2386080"/>
              <a:ext cx="586260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sectando un  ray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l resultado es una secuencia de puntos de interes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…,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 hay  n inters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intersección individual es normalmente un seg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unción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 de su a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que, el conjunto de operaciones se aplica en el segundo nivel o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28800" y="1979640"/>
            <a:ext cx="5153040" cy="3278160"/>
            <a:chOff x="1828800" y="1979640"/>
            <a:chExt cx="5153040" cy="32781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828800" y="1979640"/>
              <a:ext cx="515304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28800" y="1979640"/>
              <a:ext cx="5153040" cy="32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ormación adicional B-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Mirar el cálculos de la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Euler characteristic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distintas figuras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http://en.wikipedia.org/wiki/Euler_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13:15Z</dcterms:created>
  <dc:creator>Paddon</dc:creator>
  <dc:description/>
  <dc:language>en-US</dc:language>
  <cp:lastModifiedBy>Derek Paddon</cp:lastModifiedBy>
  <dcterms:modified xsi:type="dcterms:W3CDTF">2009-03-25T09:14:30Z</dcterms:modified>
  <cp:revision>42</cp:revision>
  <dc:subject/>
  <dc:title>CSG</dc:title>
</cp:coreProperties>
</file>