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703A-9DCB-4BDC-B4CB-197ADBB1A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63B4-4643-4253-B3FA-DD707C7FD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1E1E-33D4-4DC8-8B68-1F6308E71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477A-677A-4967-AFED-40C94733E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99BE5-C93E-4B72-B22F-2AE5B364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66310-7A87-421E-A1A4-A86A18CE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4A330-7A11-40B4-8E5A-6020AF5F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5643E-C5AA-4F59-BA3C-692AB8B3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4E7B6-AE51-4D56-A874-4BEDA061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3966D-4F7D-4740-8A9D-A35AF3A6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5B12A-B0E5-449E-9696-F5568B84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71E8-1671-4206-B898-A9786909B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868CF-C4C3-420E-AE12-92589F42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27DB4-C976-42FC-9BE6-DB371DB1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4A0F7-B004-4541-845B-F2B3AEC4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AEE58-1DBC-4E2B-B5C2-0844DA1B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2A3EC-7BF8-4633-84FD-FE216563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B7B9-EAEA-4060-9B2C-761EDAC55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88BD-24BE-45EA-97EE-63FDE54B9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A91F-2E13-4CF2-B759-13F07D21F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72E6-DF2A-4364-9B2B-FD4B09C69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08CA-5707-4C5A-916B-63EEDAB52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03F1-473E-4BBF-9A6C-8BE84A468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4B11-484B-461F-A8BB-69D9B242F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79EF4-9CF8-4464-BE73-AAB32889687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5BA5A-B359-491A-89D6-981BE8AC8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ometría sólida constructiva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82520" y="1523880"/>
            <a:ext cx="7182000" cy="5178600"/>
            <a:chOff x="182520" y="1523880"/>
            <a:chExt cx="7182000" cy="5178600"/>
          </a:xfrm>
        </p:grpSpPr>
        <p:sp>
          <p:nvSpPr>
            <p:cNvPr id="84" name=""/>
            <p:cNvSpPr/>
            <p:nvPr/>
          </p:nvSpPr>
          <p:spPr>
            <a:xfrm>
              <a:off x="2421000" y="1523880"/>
              <a:ext cx="1263600" cy="12636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CSG 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11400" y="2971800"/>
              <a:ext cx="81252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520" y="440064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39920" y="440064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"/>
            <p:cNvCxnSpPr>
              <a:stCxn id="86" idx="7"/>
              <a:endCxn id="85" idx="3"/>
            </p:cNvCxnSpPr>
            <p:nvPr/>
          </p:nvCxnSpPr>
          <p:spPr>
            <a:xfrm flipV="1">
              <a:off x="876600" y="366588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>
              <a:stCxn id="87" idx="1"/>
              <a:endCxn id="85" idx="5"/>
            </p:cNvCxnSpPr>
            <p:nvPr/>
          </p:nvCxnSpPr>
          <p:spPr>
            <a:xfrm flipH="1" flipV="1">
              <a:off x="1905120" y="366588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>
              <a:off x="4481640" y="2992320"/>
              <a:ext cx="81252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2760" y="442116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21320" y="442116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1" idx="7"/>
              <a:endCxn id="90" idx="3"/>
            </p:cNvCxnSpPr>
            <p:nvPr/>
          </p:nvCxnSpPr>
          <p:spPr>
            <a:xfrm flipV="1">
              <a:off x="4146840" y="368640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2" idx="1"/>
              <a:endCxn id="90" idx="5"/>
            </p:cNvCxnSpPr>
            <p:nvPr/>
          </p:nvCxnSpPr>
          <p:spPr>
            <a:xfrm flipH="1" flipV="1">
              <a:off x="5175360" y="3686400"/>
              <a:ext cx="46512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>
              <a:off x="4494240" y="588960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1640" y="588960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95" idx="7"/>
              <a:endCxn id="92" idx="3"/>
            </p:cNvCxnSpPr>
            <p:nvPr/>
          </p:nvCxnSpPr>
          <p:spPr>
            <a:xfrm flipV="1">
              <a:off x="5188320" y="5115240"/>
              <a:ext cx="452160" cy="89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>
              <a:stCxn id="96" idx="1"/>
              <a:endCxn id="92" idx="5"/>
            </p:cNvCxnSpPr>
            <p:nvPr/>
          </p:nvCxnSpPr>
          <p:spPr>
            <a:xfrm flipH="1" flipV="1">
              <a:off x="6215400" y="5115240"/>
              <a:ext cx="455400" cy="89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9" name=""/>
            <p:cNvCxnSpPr>
              <a:stCxn id="85" idx="7"/>
              <a:endCxn id="84" idx="3"/>
            </p:cNvCxnSpPr>
            <p:nvPr/>
          </p:nvCxnSpPr>
          <p:spPr>
            <a:xfrm flipV="1">
              <a:off x="1905120" y="2602440"/>
              <a:ext cx="701280" cy="48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0" name=""/>
            <p:cNvCxnSpPr>
              <a:stCxn id="90" idx="1"/>
              <a:endCxn id="84" idx="5"/>
            </p:cNvCxnSpPr>
            <p:nvPr/>
          </p:nvCxnSpPr>
          <p:spPr>
            <a:xfrm flipH="1" flipV="1">
              <a:off x="3499560" y="2602440"/>
              <a:ext cx="1101240" cy="509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101" name=""/>
          <p:cNvSpPr/>
          <p:nvPr/>
        </p:nvSpPr>
        <p:spPr>
          <a:xfrm>
            <a:off x="4781520" y="1389240"/>
            <a:ext cx="39052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SG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34023" t="30817" r="32093" b="19207"/>
          <a:stretch/>
        </p:blipFill>
        <p:spPr>
          <a:xfrm>
            <a:off x="1789200" y="2030400"/>
            <a:ext cx="5297400" cy="43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jemplo Ray 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3529" t="29097" r="50321" b="44241"/>
          <a:stretch/>
        </p:blipFill>
        <p:spPr>
          <a:xfrm>
            <a:off x="307800" y="1322280"/>
            <a:ext cx="7553520" cy="4186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59591" t="36714" r="14171" b="44241"/>
          <a:stretch/>
        </p:blipFill>
        <p:spPr>
          <a:xfrm>
            <a:off x="4851360" y="4560840"/>
            <a:ext cx="3878280" cy="21146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-3240" y="1763640"/>
            <a:ext cx="282600" cy="5094360"/>
            <a:chOff x="-3240" y="1763640"/>
            <a:chExt cx="282600" cy="5094360"/>
          </a:xfrm>
        </p:grpSpPr>
        <p:sp>
          <p:nvSpPr>
            <p:cNvPr id="110" name=""/>
            <p:cNvSpPr/>
            <p:nvPr/>
          </p:nvSpPr>
          <p:spPr>
            <a:xfrm>
              <a:off x="6480" y="1763640"/>
              <a:ext cx="268200" cy="48801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vert="eaVer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100" spc="-1" strike="noStrike">
                  <a:solidFill>
                    <a:srgbClr val="ffffff"/>
                  </a:solidFill>
                  <a:latin typeface="Arial"/>
                </a:rPr>
                <a:t>Images taken from Hearn &amp; Baker, “Computer Graphics with OpenGL” (2004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4"/>
            <a:srcRect l="0" t="12172" r="0" b="13246"/>
            <a:stretch/>
          </p:blipFill>
          <p:spPr>
            <a:xfrm>
              <a:off x="-3240" y="6647040"/>
              <a:ext cx="282600" cy="210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SG tree: un ejemplo e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cc"/>
                </a:solidFill>
                <a:latin typeface="Arial"/>
              </a:rPr>
              <a:t>typedef struct _csg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Operator 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Quadric primiti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struct _csgtree *rig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struct _csgtree *lef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cc"/>
                </a:solidFill>
                <a:latin typeface="Arial"/>
              </a:rPr>
              <a:t>} CSGTreePt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da nodo hoja representa una primi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’ es un operador (union, interseccion o re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sectando un  ra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612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 código para  intersección ray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046240" y="2386080"/>
            <a:ext cx="5862600" cy="3527280"/>
            <a:chOff x="2046240" y="2386080"/>
            <a:chExt cx="5862600" cy="352728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2046240" y="2386080"/>
              <a:ext cx="586260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046240" y="2386080"/>
              <a:ext cx="586260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sectando un  ray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l resultado es una secuencia de puntos de interes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…,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 hay  n interse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da intersección individual es normalmente un segme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función Comb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0520" y="150480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 de su apl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r que, el conjunto de operaciones se aplica en el segundo nivel o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28800" y="1979640"/>
            <a:ext cx="5153040" cy="3278160"/>
            <a:chOff x="1828800" y="1979640"/>
            <a:chExt cx="5153040" cy="327816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1828800" y="1979640"/>
              <a:ext cx="515304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828800" y="1979640"/>
              <a:ext cx="5153040" cy="32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ormación adicional B-r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0520" y="150480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Mirar el cálculos de la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Euler characteristic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ra distintas figuras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http://en.wikipedia.org/wiki/Euler_characteri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3:13:15Z</dcterms:created>
  <dc:creator>Paddon</dc:creator>
  <dc:description/>
  <dc:language>en-US</dc:language>
  <cp:lastModifiedBy>Derek Paddon</cp:lastModifiedBy>
  <dcterms:modified xsi:type="dcterms:W3CDTF">2009-03-25T09:14:30Z</dcterms:modified>
  <cp:revision>42</cp:revision>
  <dc:subject/>
  <dc:title>CSG</dc:title>
</cp:coreProperties>
</file>