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8289-3B9C-4CA1-A101-4CD7DA4A1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B3B1-7059-4D36-B6D0-06A51B85F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C3D6-9F31-4E3A-88C9-4D23A9A15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BF71-18BF-4D65-ABCB-2CA4EF992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75187-019E-4023-8B37-582A6645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7BB1-5676-47E3-AED7-E9B0878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362F4-503F-4CA2-81E0-2834D91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F3822-45C8-4C0F-9F6C-6F1EA33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828B-2998-415B-A6EE-0E0505A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921C8-42B6-4537-B332-C9BF543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64B5C-5B49-448D-9107-1E51681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5A84-F872-4EA8-8EF0-982D7F1C1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30866-FFAA-4DBF-9907-28DED536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2CEA-4B6E-4253-9893-5AFE517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FED11-CF8E-4901-95AB-D73AD0D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869DC-B7CD-4E5E-99B1-F7FEB965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253B9-939B-440A-A8CE-0D2CECFE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F732-B84D-41CF-AACE-14E792C3C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A9A5-FF35-4EF3-89F7-274DF8BE2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4EC8-B5E2-48D7-948B-DCA579C76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4F95-707E-4333-8645-BF940734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03B3-2B21-4D33-A1DB-FEFD45F0B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45DB-A27D-4887-8AB9-D06D3CD0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67E8-E6A7-4D24-82DC-CAA701D9E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E65D-C7C7-4A57-A1FC-C7D21F408B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77BEA-4448-4FEB-8CEF-06FE945F9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2520" y="1523880"/>
            <a:ext cx="7182000" cy="5178600"/>
            <a:chOff x="182520" y="1523880"/>
            <a:chExt cx="7182000" cy="5178600"/>
          </a:xfrm>
        </p:grpSpPr>
        <p:sp>
          <p:nvSpPr>
            <p:cNvPr id="84" name=""/>
            <p:cNvSpPr/>
            <p:nvPr/>
          </p:nvSpPr>
          <p:spPr>
            <a:xfrm>
              <a:off x="2421000" y="1523880"/>
              <a:ext cx="1263600" cy="12636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SG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1400" y="297180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5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9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7"/>
              <a:endCxn id="85" idx="3"/>
            </p:cNvCxnSpPr>
            <p:nvPr/>
          </p:nvCxnSpPr>
          <p:spPr>
            <a:xfrm flipV="1">
              <a:off x="87660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1"/>
              <a:endCxn id="85" idx="5"/>
            </p:cNvCxnSpPr>
            <p:nvPr/>
          </p:nvCxnSpPr>
          <p:spPr>
            <a:xfrm flipH="1" flipV="1">
              <a:off x="190512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4481640" y="299232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276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132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7"/>
              <a:endCxn id="90" idx="3"/>
            </p:cNvCxnSpPr>
            <p:nvPr/>
          </p:nvCxnSpPr>
          <p:spPr>
            <a:xfrm flipV="1">
              <a:off x="4146840" y="368640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1"/>
              <a:endCxn id="90" idx="5"/>
            </p:cNvCxnSpPr>
            <p:nvPr/>
          </p:nvCxnSpPr>
          <p:spPr>
            <a:xfrm flipH="1" flipV="1">
              <a:off x="5175360" y="3686400"/>
              <a:ext cx="46512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44942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16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5" idx="7"/>
              <a:endCxn id="92" idx="3"/>
            </p:cNvCxnSpPr>
            <p:nvPr/>
          </p:nvCxnSpPr>
          <p:spPr>
            <a:xfrm flipV="1">
              <a:off x="5188320" y="5115240"/>
              <a:ext cx="45216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6" idx="1"/>
              <a:endCxn id="92" idx="5"/>
            </p:cNvCxnSpPr>
            <p:nvPr/>
          </p:nvCxnSpPr>
          <p:spPr>
            <a:xfrm flipH="1" flipV="1">
              <a:off x="6215400" y="5115240"/>
              <a:ext cx="45540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5" idx="7"/>
              <a:endCxn id="84" idx="3"/>
            </p:cNvCxnSpPr>
            <p:nvPr/>
          </p:nvCxnSpPr>
          <p:spPr>
            <a:xfrm flipV="1">
              <a:off x="1905120" y="2602440"/>
              <a:ext cx="70128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0" idx="1"/>
              <a:endCxn id="84" idx="5"/>
            </p:cNvCxnSpPr>
            <p:nvPr/>
          </p:nvCxnSpPr>
          <p:spPr>
            <a:xfrm flipH="1" flipV="1">
              <a:off x="3499560" y="2602440"/>
              <a:ext cx="1101240" cy="50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01" name=""/>
          <p:cNvSpPr/>
          <p:nvPr/>
        </p:nvSpPr>
        <p:spPr>
          <a:xfrm>
            <a:off x="4781520" y="1389240"/>
            <a:ext cx="3905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4023" t="30817" r="32093" b="19207"/>
          <a:stretch/>
        </p:blipFill>
        <p:spPr>
          <a:xfrm>
            <a:off x="1789200" y="2030400"/>
            <a:ext cx="52974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jemplo Ray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307800" y="1322280"/>
            <a:ext cx="7553520" cy="41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4851360" y="4560840"/>
            <a:ext cx="3878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-3240" y="1763640"/>
            <a:ext cx="282600" cy="5094360"/>
            <a:chOff x="-3240" y="1763640"/>
            <a:chExt cx="282600" cy="5094360"/>
          </a:xfrm>
        </p:grpSpPr>
        <p:sp>
          <p:nvSpPr>
            <p:cNvPr id="110" name=""/>
            <p:cNvSpPr/>
            <p:nvPr/>
          </p:nvSpPr>
          <p:spPr>
            <a:xfrm>
              <a:off x="6480" y="1763640"/>
              <a:ext cx="268200" cy="4880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100" spc="-1" strike="noStrike">
                  <a:solidFill>
                    <a:srgbClr val="ffffff"/>
                  </a:solidFill>
                  <a:latin typeface="Arial"/>
                </a:rPr>
                <a:t>Images taken from Hearn &amp; Baker, “Computer Graphics with OpenGL”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rcRect l="0" t="12172" r="0" b="13246"/>
            <a:stretch/>
          </p:blipFill>
          <p:spPr>
            <a:xfrm>
              <a:off x="-3240" y="6647040"/>
              <a:ext cx="28260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SG tree: un ejemplo e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typedef struct _csg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Operator 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Quadric prim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r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} CSGTree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nodo hoja representa una prim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’ es un operador (union, interseccion o re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sectando un  ra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 código para  intersección ray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46240" y="2386080"/>
            <a:ext cx="5862600" cy="3527280"/>
            <a:chOff x="2046240" y="2386080"/>
            <a:chExt cx="5862600" cy="35272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46240" y="2386080"/>
              <a:ext cx="58626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46240" y="2386080"/>
              <a:ext cx="58626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sectando un  ra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 resultado es una secuencia de puntos de interes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,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 hay  n inters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intersección individual es normalmente un seg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unción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 de su a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que, el conjunto de operaciones se aplica en el segundo nivel o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979640"/>
            <a:ext cx="5153040" cy="3278160"/>
            <a:chOff x="1828800" y="1979640"/>
            <a:chExt cx="5153040" cy="3278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828800" y="1979640"/>
              <a:ext cx="51530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28800" y="1979640"/>
              <a:ext cx="5153040" cy="32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ción adicional B-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irar el cálculos de la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Euler characterist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istintas figuras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://en.wikipedia.org/wiki/Euler_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13:15Z</dcterms:created>
  <dc:creator>Paddon</dc:creator>
  <dc:description/>
  <dc:language>en-US</dc:language>
  <cp:lastModifiedBy>Derek Paddon</cp:lastModifiedBy>
  <dcterms:modified xsi:type="dcterms:W3CDTF">2009-03-25T09:14:30Z</dcterms:modified>
  <cp:revision>42</cp:revision>
  <dc:subject/>
  <dc:title>CSG</dc:title>
</cp:coreProperties>
</file>