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B6DC-1DF0-4039-A5B8-1AB5CAB9FC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97995-2181-4D59-8D23-FC7E0FCFE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44FC9-EC60-4352-83DE-752A27609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B570-B7D3-466E-AF6E-B89A22FEF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2936A-8150-4D82-941F-2F51A26E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04E31-3763-4A22-9D74-456B475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A4E28-44A5-4259-A806-B5A13BE6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2C04-8461-49E3-AB48-78BEEA13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B17DE-487F-40E8-A772-8E58A21F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B35A4-16E4-4BDC-AB6F-42116E26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DCA32-E821-4DC5-90BF-68F122B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AE02-4639-4B22-A9F8-DB9AB0638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6012A-FC4A-48A6-86FE-361B778C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174D5-7BC1-4EFF-B9D4-26B9B7E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CA6DA-DF6F-4881-A045-64BA891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D39F1-BD46-4EDF-BE1C-34591680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7905B-9BFD-4E87-BF7A-5BEFCE95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3EEB-E81D-4FE8-8BA2-FD1DEDAC4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8E46-C236-405D-B249-4DBF669A5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6E9A-46E8-4501-A2C3-FE8DD12B8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22DB-0759-44CF-BBB1-52E567A487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6C97-3451-4355-987D-11BBFBA23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25011-6BBB-4C64-8DB0-ED3E0BCBD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D627-96FC-4027-82DD-EAFD822A4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C8E28-356C-4F9E-A66F-F05676793F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61FF5-67F2-4CB0-9C40-12F7F0FF9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2520" y="1523880"/>
            <a:ext cx="7182000" cy="5178600"/>
            <a:chOff x="182520" y="1523880"/>
            <a:chExt cx="7182000" cy="5178600"/>
          </a:xfrm>
        </p:grpSpPr>
        <p:sp>
          <p:nvSpPr>
            <p:cNvPr id="84" name=""/>
            <p:cNvSpPr/>
            <p:nvPr/>
          </p:nvSpPr>
          <p:spPr>
            <a:xfrm>
              <a:off x="2421000" y="1523880"/>
              <a:ext cx="1263600" cy="12636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SG Ob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1400" y="297180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25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920" y="440064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"/>
            <p:cNvCxnSpPr>
              <a:stCxn id="86" idx="7"/>
              <a:endCxn id="85" idx="3"/>
            </p:cNvCxnSpPr>
            <p:nvPr/>
          </p:nvCxnSpPr>
          <p:spPr>
            <a:xfrm flipV="1">
              <a:off x="87660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87" idx="1"/>
              <a:endCxn id="85" idx="5"/>
            </p:cNvCxnSpPr>
            <p:nvPr/>
          </p:nvCxnSpPr>
          <p:spPr>
            <a:xfrm flipH="1" flipV="1">
              <a:off x="1905120" y="366588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4481640" y="2992320"/>
              <a:ext cx="81252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276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1320" y="442116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per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7"/>
              <a:endCxn id="90" idx="3"/>
            </p:cNvCxnSpPr>
            <p:nvPr/>
          </p:nvCxnSpPr>
          <p:spPr>
            <a:xfrm flipV="1">
              <a:off x="4146840" y="3686400"/>
              <a:ext cx="45396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2" idx="1"/>
              <a:endCxn id="90" idx="5"/>
            </p:cNvCxnSpPr>
            <p:nvPr/>
          </p:nvCxnSpPr>
          <p:spPr>
            <a:xfrm flipH="1" flipV="1">
              <a:off x="5175360" y="3686400"/>
              <a:ext cx="465120" cy="853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>
              <a:off x="44942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51640" y="5889600"/>
              <a:ext cx="812880" cy="8128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obj</a:t>
              </a:r>
              <a:r>
                <a:rPr b="0" lang="en-IE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95" idx="7"/>
              <a:endCxn id="92" idx="3"/>
            </p:cNvCxnSpPr>
            <p:nvPr/>
          </p:nvCxnSpPr>
          <p:spPr>
            <a:xfrm flipV="1">
              <a:off x="5188320" y="5115240"/>
              <a:ext cx="45216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96" idx="1"/>
              <a:endCxn id="92" idx="5"/>
            </p:cNvCxnSpPr>
            <p:nvPr/>
          </p:nvCxnSpPr>
          <p:spPr>
            <a:xfrm flipH="1" flipV="1">
              <a:off x="6215400" y="5115240"/>
              <a:ext cx="455400" cy="893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99" name=""/>
            <p:cNvCxnSpPr>
              <a:stCxn id="85" idx="7"/>
              <a:endCxn id="84" idx="3"/>
            </p:cNvCxnSpPr>
            <p:nvPr/>
          </p:nvCxnSpPr>
          <p:spPr>
            <a:xfrm flipV="1">
              <a:off x="1905120" y="2602440"/>
              <a:ext cx="70128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0" name=""/>
            <p:cNvCxnSpPr>
              <a:stCxn id="90" idx="1"/>
              <a:endCxn id="84" idx="5"/>
            </p:cNvCxnSpPr>
            <p:nvPr/>
          </p:nvCxnSpPr>
          <p:spPr>
            <a:xfrm flipH="1" flipV="1">
              <a:off x="3499560" y="2602440"/>
              <a:ext cx="1101240" cy="509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101" name=""/>
          <p:cNvSpPr/>
          <p:nvPr/>
        </p:nvSpPr>
        <p:spPr>
          <a:xfrm>
            <a:off x="4781520" y="1389240"/>
            <a:ext cx="3905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S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eometría sólida constru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4023" t="30817" r="32093" b="19207"/>
          <a:stretch/>
        </p:blipFill>
        <p:spPr>
          <a:xfrm>
            <a:off x="1789200" y="2030400"/>
            <a:ext cx="529740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jemplo Ray 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3529" t="29097" r="50321" b="44241"/>
          <a:stretch/>
        </p:blipFill>
        <p:spPr>
          <a:xfrm>
            <a:off x="307800" y="1322280"/>
            <a:ext cx="7553520" cy="418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59591" t="36714" r="14171" b="44241"/>
          <a:stretch/>
        </p:blipFill>
        <p:spPr>
          <a:xfrm>
            <a:off x="4851360" y="4560840"/>
            <a:ext cx="387828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-3240" y="1763640"/>
            <a:ext cx="282600" cy="5094360"/>
            <a:chOff x="-3240" y="1763640"/>
            <a:chExt cx="282600" cy="5094360"/>
          </a:xfrm>
        </p:grpSpPr>
        <p:sp>
          <p:nvSpPr>
            <p:cNvPr id="110" name=""/>
            <p:cNvSpPr/>
            <p:nvPr/>
          </p:nvSpPr>
          <p:spPr>
            <a:xfrm>
              <a:off x="6480" y="1763640"/>
              <a:ext cx="268200" cy="4880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vert="eaVer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IE" sz="1100" spc="-1" strike="noStrike">
                  <a:solidFill>
                    <a:srgbClr val="ffffff"/>
                  </a:solidFill>
                  <a:latin typeface="Arial"/>
                </a:rPr>
                <a:t>Images taken from Hearn &amp; Baker, “Computer Graphics with OpenGL” (2004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4"/>
            <a:srcRect l="0" t="12172" r="0" b="13246"/>
            <a:stretch/>
          </p:blipFill>
          <p:spPr>
            <a:xfrm>
              <a:off x="-3240" y="6647040"/>
              <a:ext cx="282600" cy="210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SG tree: un ejemplo en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typedef struct _csg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Operator 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Quadric primitiv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r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66cc"/>
                </a:solidFill>
                <a:latin typeface="Arial"/>
                <a:ea typeface="ＭＳ Ｐゴシック"/>
              </a:rPr>
              <a:t>struct _csgtree *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66cc"/>
                </a:solidFill>
                <a:latin typeface="Arial"/>
              </a:rPr>
              <a:t>} CSGTree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da nodo hoja representa una primi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’ es un operador (union, interseccion o re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sectando un  ra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612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 código para  intersección ray-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046240" y="2386080"/>
            <a:ext cx="5862600" cy="3527280"/>
            <a:chOff x="2046240" y="2386080"/>
            <a:chExt cx="5862600" cy="352728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46240" y="2386080"/>
              <a:ext cx="5862600" cy="35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046240" y="2386080"/>
              <a:ext cx="586260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sectando un  ray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l resultado es una secuencia de puntos de interes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…,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 hay  n interse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da intersección individual es normalmente un segmen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 función Comb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 de su aplic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ar que, el conjunto de operaciones se aplica en el segundo nivel o sup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828800" y="1979640"/>
            <a:ext cx="5153040" cy="3278160"/>
            <a:chOff x="1828800" y="1979640"/>
            <a:chExt cx="5153040" cy="327816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1828800" y="1979640"/>
              <a:ext cx="5153040" cy="32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828800" y="1979640"/>
              <a:ext cx="5153040" cy="32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formación adicional B-r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0520" y="150480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Mirar el cálculos de la 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DejaVu Sans"/>
              </a:rPr>
              <a:t>Euler characteristic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ra distintas figuras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http://en.wikipedia.org/wiki/Euler_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3:13:15Z</dcterms:created>
  <dc:creator>Paddon</dc:creator>
  <dc:description/>
  <dc:language>en-US</dc:language>
  <cp:lastModifiedBy>Derek Paddon</cp:lastModifiedBy>
  <dcterms:modified xsi:type="dcterms:W3CDTF">2009-03-25T09:14:30Z</dcterms:modified>
  <cp:revision>42</cp:revision>
  <dc:subject/>
  <dc:title>CSG</dc:title>
</cp:coreProperties>
</file>