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FD66-3728-4E4D-BE49-550E8F7DD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87F1-234E-4F92-8FA5-BEB971E0C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2302-BABB-429A-8EF0-C87261E56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BA65-7C8C-4BF0-BEC9-3C1EB3A3F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A6CC4-3962-4C77-8715-016C71E8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79148-55DA-4964-8D34-D1DAC79D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97386-EDAF-4C98-8E6F-F938A0D5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F504B-A254-472E-A8AF-C18BD56D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33D9C-1533-41EA-AB97-AF2B5708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E5EB4-D68B-4108-A1A2-7A38F8AC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A7984-D038-4B87-92CE-84AA4BE0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F832-6443-45A4-A56F-C76867B14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6E881-FBFF-4F74-860B-FC8D2A76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833DD-6063-49A5-9ACB-796020B5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D72B1-289C-4E27-BCDB-1E0B642B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23F2E-B92F-495D-8015-A7A34878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47911-8C2E-411F-973D-B785DC56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F718-59E0-435D-9F0A-B87CE010A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90B7-4837-471B-8E16-7C26088BE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5202-C50F-4BDF-A8A9-50F9FCEB8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7412-8BDB-4FAB-95ED-15D379FCC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C96B-D1AE-46F1-A642-E28357F02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156B-A838-40BA-8382-91BD502B3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6CD7-4D9E-4DB0-8570-08649BD1A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831F7-BB85-4838-ACEC-AE2A3249C96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091BF-6213-4071-8677-5D54E2C0C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ometría sólida constructiva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2520" y="1523880"/>
            <a:ext cx="7182000" cy="5178600"/>
            <a:chOff x="182520" y="1523880"/>
            <a:chExt cx="7182000" cy="5178600"/>
          </a:xfrm>
        </p:grpSpPr>
        <p:sp>
          <p:nvSpPr>
            <p:cNvPr id="84" name=""/>
            <p:cNvSpPr/>
            <p:nvPr/>
          </p:nvSpPr>
          <p:spPr>
            <a:xfrm>
              <a:off x="2421000" y="1523880"/>
              <a:ext cx="1263600" cy="12636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CSG 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1400" y="297180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520" y="440064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39920" y="440064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"/>
            <p:cNvCxnSpPr>
              <a:stCxn id="86" idx="7"/>
              <a:endCxn id="85" idx="3"/>
            </p:cNvCxnSpPr>
            <p:nvPr/>
          </p:nvCxnSpPr>
          <p:spPr>
            <a:xfrm flipV="1">
              <a:off x="876600" y="366588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>
              <a:stCxn id="87" idx="1"/>
              <a:endCxn id="85" idx="5"/>
            </p:cNvCxnSpPr>
            <p:nvPr/>
          </p:nvCxnSpPr>
          <p:spPr>
            <a:xfrm flipH="1" flipV="1">
              <a:off x="1905120" y="366588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4481640" y="299232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2760" y="442116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21320" y="442116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1" idx="7"/>
              <a:endCxn id="90" idx="3"/>
            </p:cNvCxnSpPr>
            <p:nvPr/>
          </p:nvCxnSpPr>
          <p:spPr>
            <a:xfrm flipV="1">
              <a:off x="4146840" y="368640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2" idx="1"/>
              <a:endCxn id="90" idx="5"/>
            </p:cNvCxnSpPr>
            <p:nvPr/>
          </p:nvCxnSpPr>
          <p:spPr>
            <a:xfrm flipH="1" flipV="1">
              <a:off x="5175360" y="3686400"/>
              <a:ext cx="46512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>
              <a:off x="4494240" y="588960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1640" y="588960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95" idx="7"/>
              <a:endCxn id="92" idx="3"/>
            </p:cNvCxnSpPr>
            <p:nvPr/>
          </p:nvCxnSpPr>
          <p:spPr>
            <a:xfrm flipV="1">
              <a:off x="5188320" y="5115240"/>
              <a:ext cx="452160" cy="89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96" idx="1"/>
              <a:endCxn id="92" idx="5"/>
            </p:cNvCxnSpPr>
            <p:nvPr/>
          </p:nvCxnSpPr>
          <p:spPr>
            <a:xfrm flipH="1" flipV="1">
              <a:off x="6215400" y="5115240"/>
              <a:ext cx="455400" cy="89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9" name=""/>
            <p:cNvCxnSpPr>
              <a:stCxn id="85" idx="7"/>
              <a:endCxn id="84" idx="3"/>
            </p:cNvCxnSpPr>
            <p:nvPr/>
          </p:nvCxnSpPr>
          <p:spPr>
            <a:xfrm flipV="1">
              <a:off x="1905120" y="2602440"/>
              <a:ext cx="701280" cy="48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0" idx="1"/>
              <a:endCxn id="84" idx="5"/>
            </p:cNvCxnSpPr>
            <p:nvPr/>
          </p:nvCxnSpPr>
          <p:spPr>
            <a:xfrm flipH="1" flipV="1">
              <a:off x="3499560" y="2602440"/>
              <a:ext cx="1101240" cy="509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01" name=""/>
          <p:cNvSpPr/>
          <p:nvPr/>
        </p:nvSpPr>
        <p:spPr>
          <a:xfrm>
            <a:off x="4781520" y="1389240"/>
            <a:ext cx="39052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SG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34023" t="30817" r="32093" b="19207"/>
          <a:stretch/>
        </p:blipFill>
        <p:spPr>
          <a:xfrm>
            <a:off x="1789200" y="2030400"/>
            <a:ext cx="5297400" cy="43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jemplo Ray 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3529" t="29097" r="50321" b="44241"/>
          <a:stretch/>
        </p:blipFill>
        <p:spPr>
          <a:xfrm>
            <a:off x="307800" y="1322280"/>
            <a:ext cx="7553520" cy="4186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59591" t="36714" r="14171" b="44241"/>
          <a:stretch/>
        </p:blipFill>
        <p:spPr>
          <a:xfrm>
            <a:off x="4851360" y="4560840"/>
            <a:ext cx="3878280" cy="21146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-3240" y="1763640"/>
            <a:ext cx="282600" cy="5094360"/>
            <a:chOff x="-3240" y="1763640"/>
            <a:chExt cx="282600" cy="5094360"/>
          </a:xfrm>
        </p:grpSpPr>
        <p:sp>
          <p:nvSpPr>
            <p:cNvPr id="110" name=""/>
            <p:cNvSpPr/>
            <p:nvPr/>
          </p:nvSpPr>
          <p:spPr>
            <a:xfrm>
              <a:off x="6480" y="1763640"/>
              <a:ext cx="268200" cy="4880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vert="eaVer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100" spc="-1" strike="noStrike">
                  <a:solidFill>
                    <a:srgbClr val="ffffff"/>
                  </a:solidFill>
                  <a:latin typeface="Arial"/>
                </a:rPr>
                <a:t>Images taken from Hearn &amp; Baker, “Computer Graphics with OpenGL” (2004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4"/>
            <a:srcRect l="0" t="12172" r="0" b="13246"/>
            <a:stretch/>
          </p:blipFill>
          <p:spPr>
            <a:xfrm>
              <a:off x="-3240" y="6647040"/>
              <a:ext cx="282600" cy="210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SG tree: un ejemplo e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cc"/>
                </a:solidFill>
                <a:latin typeface="Arial"/>
              </a:rPr>
              <a:t>typedef struct _csg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Operator 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Quadric primiti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struct _csgtree *r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struct _csgtree *lef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cc"/>
                </a:solidFill>
                <a:latin typeface="Arial"/>
              </a:rPr>
              <a:t>} CSGTreePt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a nodo hoja representa una primi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’ es un operador (union, interseccion o re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sectando un  ra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612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 código para  intersección ray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46240" y="2386080"/>
            <a:ext cx="5862600" cy="3527280"/>
            <a:chOff x="2046240" y="2386080"/>
            <a:chExt cx="5862600" cy="352728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2046240" y="2386080"/>
              <a:ext cx="586260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046240" y="2386080"/>
              <a:ext cx="586260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sectando un  ray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l resultado es una secuencia de puntos de interes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…,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 hay  n interse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da intersección individual es normalmente un segm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función Com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0520" y="150480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 de su apl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que, el conjunto de operaciones se aplica en el segundo nivel o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28800" y="1979640"/>
            <a:ext cx="5153040" cy="3278160"/>
            <a:chOff x="1828800" y="1979640"/>
            <a:chExt cx="5153040" cy="327816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1828800" y="1979640"/>
              <a:ext cx="515304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828800" y="1979640"/>
              <a:ext cx="5153040" cy="32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ormación adicional B-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0520" y="150480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Mirar el cálculos de la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Euler characteristic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a distintas figuras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http://en.wikipedia.org/wiki/Euler_character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13:15Z</dcterms:created>
  <dc:creator>Paddon</dc:creator>
  <dc:description/>
  <dc:language>en-US</dc:language>
  <cp:lastModifiedBy>Derek Paddon</cp:lastModifiedBy>
  <dcterms:modified xsi:type="dcterms:W3CDTF">2009-03-25T09:14:30Z</dcterms:modified>
  <cp:revision>42</cp:revision>
  <dc:subject/>
  <dc:title>CSG</dc:title>
</cp:coreProperties>
</file>