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41A-A3A9-498F-AA34-0CAF46B6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FCE-CEA1-4B32-9AE6-6376D028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C0E-0547-4CEA-99B7-B291D0D7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010-5C30-49BC-9416-E90C03AD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1576-2BB1-4337-82DC-C8E1523F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DE5-C1BF-4F6E-A4FF-D019E86D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E8CB-8618-4BAF-9098-3E80FA39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7092-6C73-4582-AD5A-22390E35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7299-5D2E-4125-832D-D96CE50B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E7D-86E6-480E-8194-DA301F7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8BD6-FBE0-427A-A979-9CA7859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E07-C2B4-45E5-938D-F4F36E23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1D65-4D4D-434E-88C6-1BCDB87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2FBD-7D9B-41D7-98BC-2215F24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9787-B671-4D4C-B930-A015056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6C35-4300-4056-AB6A-1552CBFC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7A46-5E3B-4AE8-8C7E-AF6C564F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3C287-4F08-402E-9E06-2FC58027CB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8DE9C-E219-4CB3-BBF5-578FAD75AD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A5894-808B-4E21-ADFA-EF89D49C50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3A549-A2D0-415A-BCEB-68D5AADBAB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1C650-7D41-483F-ABD8-F0BAF67A2C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0AD-98B6-4269-BA83-9565BFB1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7904E-9E60-4CA1-B5FF-A73E4A3E24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88764-F603-4F40-8ABB-7BB85C97C2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78FB1-29FB-4B55-AC11-982F5B444B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51ADC-053A-4063-9B3D-C5D0DFD265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71AFA-301C-4D7A-8180-3E3835C650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E3156-5DCA-4AC2-BD99-76F5AB1A24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86A1B-F5F4-4506-A8DC-CCC5C4402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102-06E0-45B0-A147-8328FB98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F14-573C-4798-BB99-38FD53FD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7EC-94D5-424C-900C-2CDF238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B1B-31A6-46FC-ADC0-532E82D6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C9C-E8B0-464E-AFF5-54089498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C63-2642-4178-9F4B-22484DE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9A441-DEE3-4995-9ACD-0C4796870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9841A-F421-4F61-8C97-FA44D7C5A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3040" y="7008840"/>
            <a:ext cx="299232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7bb"/>
              </a:gs>
              <a:gs pos="100000">
                <a:srgbClr val="fff2e8"/>
              </a:gs>
            </a:gsLst>
            <a:lin ang="13500000"/>
          </a:gradFill>
          <a:ln w="25560">
            <a:solidFill>
              <a:srgbClr val="fcd5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00" y="1101600"/>
            <a:ext cx="842652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00" y="6929280"/>
            <a:ext cx="842616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69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728120" y="0"/>
            <a:ext cx="235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72680" y="7008480"/>
            <a:ext cx="3189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MCRivara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9A178-C7E4-47D4-9004-4D400582282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0280" y="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ación de objetos 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idos básicos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jas, esferas y  cilindro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sólidos más complejos a partir de sólidos básicos aplicando operadores booleanos (unión, intersección y difer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686800" cy="145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2743200"/>
            <a:ext cx="7027920" cy="2322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ndo túneles a través de un bloque usando el operador res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operadores regularizad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mantener objetos homogéneos en la dimensión que se mod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2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81160" y="3200400"/>
            <a:ext cx="5248440" cy="3379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0" y="6629400"/>
            <a:ext cx="1384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4760" y="6629400"/>
            <a:ext cx="1547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3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458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emos que 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no tenemos la representación explícita de la superficie, cómo podemos calcular su volumen? Cómo podemos  saber  que partes serán visib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alcula la intersección de un rayo (línea) con 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ar que si  un rayo intersecta una primitiva no necesariamente intersectará el sólido resultante pues ésta puede ser restada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saber qué punto es visible, de los segmentos interiores se obtiene el punto más cercano al punto de vist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etalles cuando veamos algoritmos de ray tra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mo calcular el volum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écnica de ray ca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sparan rayos equi-espaciados, emanando por ejemplo del plano xy (firing plane)en la direcció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2"/>
          <a:srcRect l="34344" t="31344" r="34604" b="41297"/>
          <a:stretch/>
        </p:blipFill>
        <p:spPr>
          <a:xfrm>
            <a:off x="2971800" y="3657600"/>
            <a:ext cx="5102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9920" y="12621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s intersecciones con cada primitiva y ordenarlas con respecto al firing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mites de la superficie de cada objeto compuesto es determinado por el conjunto de operaciones espec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8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228600" y="32004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5715000" y="5257800"/>
            <a:ext cx="387828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9920" y="1261800"/>
            <a:ext cx="9070920" cy="7095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qué sistema de coordenadas se calculan las intersec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cada primitiva está definida en sus propias coordenadas (coordenadas de modela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posición  en WC es determinada por las transformaciones de modeling definidas para lograr que los objetos primitivos se superpo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nsformación inversa es aplicada al rayo para llevarlo a las coordenadas de modelamiento y allí se calcula la intersección con los objetos primitivos individ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70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ment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ómo calcular el volu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área de cada pixel en el firing plane por un cuadrado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 lo largo del camino del rayo  originado en el pixel (i,j) 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de               es  la profundidad del objeto a lo largo del ra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proximado total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65560" y="3456000"/>
                <a:ext cx="1763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2313000"/>
                <a:ext cx="5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4572000"/>
                <a:ext cx="66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35520" y="5923080"/>
                <a:ext cx="1550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9920" y="1466640"/>
            <a:ext cx="9070920" cy="621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método  para  calcular el volumen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El método de Monte C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stocástico basado en técnicas probabil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errar el sólido en un cuboide (bounding box más pequeña que lo rod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r puntos aleatorios, uniformente  distribuidos dentro del cuboide: algunos caeran dentro del sólido y otros fu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babilidad que un punto caiga dentro del sólido es igual a la razón entre el volumen del sólido y el volumen del cubo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96920" y="5943600"/>
                <a:ext cx="828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t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óli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erados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ólido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boide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de barrido (Sweep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omposición espacial en cel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comp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es robu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 crear los objetos basados en los operadores booleanos intersección, resta y unión es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es de adyacencia no están explíc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mite acceso directo a los vértices y arcos del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 representación no es única (no es fácil determinar si dos representaciones representan el mismo sól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acena la geometría y topología del sóli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ía modela posición, tamaño y ori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ía modela adjacencia y con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S: qué alma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094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95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del objeto encerrado por un conjunto de caras orie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entación 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ctor norm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permite distinguir dos lados de 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y de Euler: chequea validez topológica de la B-r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= 2 (para poliedro si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-H = 2(C-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número de vé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número de ar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número de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número de cavidades en las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número de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número de cuerp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: O'Rourke, Computational geometry in C. pp105.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97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ndo la formula de Eu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boide con un tunel y una cavidad (no atraviesa el cubo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 Non-manif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2590920"/>
            <a:ext cx="1676520" cy="1066680"/>
            <a:chOff x="3429000" y="2590920"/>
            <a:chExt cx="1676520" cy="1066680"/>
          </a:xfrm>
        </p:grpSpPr>
        <p:grpSp>
          <p:nvGrpSpPr>
            <p:cNvPr id="201" name=""/>
            <p:cNvGrpSpPr/>
            <p:nvPr/>
          </p:nvGrpSpPr>
          <p:grpSpPr>
            <a:xfrm>
              <a:off x="3429000" y="2590920"/>
              <a:ext cx="1676520" cy="1066680"/>
              <a:chOff x="3429000" y="2590920"/>
              <a:chExt cx="167652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429000" y="3048120"/>
                <a:ext cx="1143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72000" y="2590920"/>
                <a:ext cx="533520" cy="10666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336" h="672">
                    <a:moveTo>
                      <a:pt x="0" y="288"/>
                    </a:moveTo>
                    <a:lnTo>
                      <a:pt x="336" y="0"/>
                    </a:lnTo>
                    <a:lnTo>
                      <a:pt x="336" y="432"/>
                    </a:lnTo>
                    <a:lnTo>
                      <a:pt x="0" y="6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29000" y="2590920"/>
                <a:ext cx="1676520" cy="45720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056" h="336">
                    <a:moveTo>
                      <a:pt x="0" y="336"/>
                    </a:moveTo>
                    <a:lnTo>
                      <a:pt x="336" y="0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4343400" y="2819520"/>
              <a:ext cx="228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3400" y="266688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9880" y="274320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2895480"/>
              <a:ext cx="228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9880" y="2895480"/>
              <a:ext cx="222480" cy="38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8480" y="2743200"/>
              <a:ext cx="228600" cy="533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44" h="336">
                  <a:moveTo>
                    <a:pt x="144" y="0"/>
                  </a:moveTo>
                  <a:lnTo>
                    <a:pt x="144" y="192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0" y="2666880"/>
              <a:ext cx="228600" cy="762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44" h="480">
                  <a:moveTo>
                    <a:pt x="144" y="0"/>
                  </a:moveTo>
                  <a:lnTo>
                    <a:pt x="144" y="384"/>
                  </a:lnTo>
                  <a:lnTo>
                    <a:pt x="0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3400" y="281952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24280" y="3971880"/>
            <a:ext cx="685800" cy="1143000"/>
            <a:chOff x="3824280" y="3971880"/>
            <a:chExt cx="685800" cy="1143000"/>
          </a:xfrm>
        </p:grpSpPr>
        <p:sp>
          <p:nvSpPr>
            <p:cNvPr id="214" name=""/>
            <p:cNvSpPr/>
            <p:nvPr/>
          </p:nvSpPr>
          <p:spPr>
            <a:xfrm>
              <a:off x="3824280" y="3971880"/>
              <a:ext cx="685800" cy="11430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72040" y="4255920"/>
              <a:ext cx="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4760" y="5486400"/>
            <a:ext cx="1984680" cy="1373040"/>
            <a:chOff x="4874760" y="5486400"/>
            <a:chExt cx="1984680" cy="1373040"/>
          </a:xfrm>
        </p:grpSpPr>
        <p:sp>
          <p:nvSpPr>
            <p:cNvPr id="217" name=""/>
            <p:cNvSpPr/>
            <p:nvPr/>
          </p:nvSpPr>
          <p:spPr>
            <a:xfrm flipH="1">
              <a:off x="5179680" y="54864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08280" y="59436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5486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5943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2200" y="59436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64008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95880" y="59421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0" y="59436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64008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95880" y="63993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6400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75120" y="5943600"/>
              <a:ext cx="308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874760" y="6400800"/>
              <a:ext cx="536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772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obtener la representación del bor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ficación por  el usuario de cada vértice y c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muy lento, es fácil equivocarse,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especificación CSG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lo proveen los modeladores de sól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secuencia de imágenes 2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: marching cubes .. más adel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y cuánta almacen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ínim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rtices y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ineficiente para encontrar relaciones  adyacen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501920"/>
            <a:ext cx="90709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s de datos para un poliedro basado especificado por un conjunto de polígonos (pseudo-java). Qué queremos consult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rodean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as las caras adyacentes a un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vértices de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pasan por un vé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permite consultar la siguiente estructura de datos en O(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00" y="4381560"/>
            <a:ext cx="1449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23960" y="4343400"/>
            <a:ext cx="2048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ndpoint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4840" y="4343400"/>
            <a:ext cx="19731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verti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n_verti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51760" y="434340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7150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571500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5480" y="57150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501920"/>
            <a:ext cx="90709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clásica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la estándar para representar la topología con un compromiso razonable entre espacio y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arco  “apunta a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értices: Previo (P) y Next (N) (orien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s: Left (L) y Right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r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cara y vértice apunta a un arco que lo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43448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343400"/>
            <a:ext cx="19209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3040" y="4371840"/>
            <a:ext cx="1503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22960" y="434484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5480" y="59436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59436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84560" y="594504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886200" y="3429000"/>
                <a:ext cx="2286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43640" y="3078000"/>
            <a:ext cx="24861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1488960"/>
            <a:ext cx="9070920" cy="70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 puede saber qué arcos comparten un mismo vértice  sin recorrer todos los ar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put: índice al vért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orit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5240" y="29732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9640" y="2971800"/>
            <a:ext cx="19209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7440" y="2971800"/>
            <a:ext cx="1503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58000" y="1935000"/>
            <a:ext cx="2486160" cy="2865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971800" y="5460840"/>
            <a:ext cx="6348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ener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contiene e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= left, f_final = 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_fi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e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,n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tro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iene a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la cara vecin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t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almacenarla e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usa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geometrías con hoyos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inserta un arco auxiliar. Este arco auxiliar tiene la misma cara por ambos 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9534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01920"/>
            <a:ext cx="907092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s el cálculo de volumen en una B-re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ray casting? 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Montecarlo?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manera exac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Triangular los polígonos de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rientar caras de tal manera que todas las normales esten  hacia 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egir un punto P cualquiera del espacio fuera del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For each cara f del 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-43020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+= Determinante (f0,f1,f2,P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basa en la suma del volumen de tetraedros. La cuarta columna de la matriz contiene 1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óli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s un objeto en 3D  en el que está claramente definido su interior y ex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ificar si  punto (x,y,z) está  en el interior, borde o exterior del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piedades tales como  volumen y momentos de ine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interferencias o detectar col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4305240"/>
            <a:ext cx="4219560" cy="23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257800" y="4390920"/>
            <a:ext cx="4286160" cy="22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6750000"/>
            <a:ext cx="42768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wireframe (solo arcos y vért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6858000"/>
            <a:ext cx="15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só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501920"/>
            <a:ext cx="907092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información sobre adyacancia (vecindades) está explícita en la re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presentación ú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dores booleanos son difíciles de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necesita calcular intersecciones de manera explícita y actualizar la topología en la  estructur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blemas de robustez en el cálculos de operaciones matemáticas usando punto flo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 3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 crea a partir de hacer un barrido con un objet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tar con respecto a un eje (volumen de revolu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splazar en una cierta trayectoria o cu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o se descompone en celdas básicas que se intersectan solo en los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2D: triángulos y cuadrilá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3D: tetraedros, hexaedros, pirámides y prisma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360" y="153180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umeración espacial simple (malla de voxels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ón generada por cubos (voxels) de igual tamaño, generalmente  de arcos paralelos a los eje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ólido se representa por los cubos que están dentro o intersectan el borde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33360" y="4181400"/>
            <a:ext cx="40100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 representar objetos 2D)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 cuadrad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cuatr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79268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representar objetos 2D): otro 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5730840" cy="2681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2603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 ( representar objetos 3D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cub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och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dores unión e intersección (sobre un  quadtr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849920" y="2286000"/>
            <a:ext cx="2236680" cy="2514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5405400" y="5029200"/>
            <a:ext cx="1681200" cy="2286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2743200"/>
            <a:ext cx="384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2640" y="2514600"/>
            <a:ext cx="281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13560" y="5408640"/>
            <a:ext cx="1173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5670720"/>
            <a:ext cx="958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 con octrees o quadtre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28600" y="2104920"/>
            <a:ext cx="3333600" cy="3610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881520" y="4343400"/>
            <a:ext cx="3662280" cy="3024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629400" y="1371600"/>
            <a:ext cx="3381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geometría versus top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eometr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tricas, dimensiones del objeto y su  posición en el sistema de coordenadas us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opolog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combinatoria como conectividad, asociatividad y vecindad. Información invi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6200" y="6629400"/>
            <a:ext cx="38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 topología, distinta ge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4057560"/>
            <a:ext cx="69055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álculo de volume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r volumen de cu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como unión, intersección y resta son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puesto: definir todos l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: se necesitan muchas celdas cuando hay que representar superficies curvas y detalle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es: generación de mallas de tetreadros y mix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ación de los modelo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600200"/>
            <a:ext cx="907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47840" y="1414440"/>
          <a:ext cx="8707320" cy="5325840"/>
        </p:xfrm>
        <a:graphic>
          <a:graphicData uri="http://schemas.openxmlformats.org/drawingml/2006/table">
            <a:tbl>
              <a:tblPr/>
              <a:tblGrid>
                <a:gridCol w="2175840"/>
                <a:gridCol w="2176200"/>
                <a:gridCol w="2176200"/>
                <a:gridCol w="2179080"/>
              </a:tblGrid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ción (chequear que el modelo es váli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í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radura (bajo operadores boolean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difícil de implement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(en comparación de CG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manifold versus non-manif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wo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bien definidos, cerrados y homomórficos a una bola top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n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descritos por partes wireframe, no cerradas y sóli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82389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os wire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Ambigu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Subjetivos a la interpretación hu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Objetos complejos con muchos arcos son confu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No permiten calcular propiedades como masa, detectar colision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71600" y="4686480"/>
            <a:ext cx="250524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28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idez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l sólido es invariante con respecto a cambios de posicion y ori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omogéneos tridimensionalmen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borde del sólido debe estar en contacto con el interior y exterior. No se permiten  arcos “dangling” ni caras “dangl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itos y descripción fin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ólido es acotado y se describe con  una cantidad finita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erradura bajo movimientos rígidos y operaciones booleanas regularizada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mientos sobre los objetos y operaciones booleanas deben producir objetos vá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4883040"/>
            <a:ext cx="721044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modelo debe establec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Domini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el tipo de objetos que puede ser representado (alc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Validez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debe ser un sólido bien defini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Completitu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datos suficientes para la descripción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Unicida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importante para comparar si dos objetos son ig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No ambigued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: representar sólo un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4457880"/>
            <a:ext cx="86295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s de sóli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 CS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l borde (b-rep boundary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 barrido (sweep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3:37:21Z</dcterms:created>
  <dc:creator>Nancy Hitschfeld</dc:creator>
  <dc:description/>
  <dc:language>en-US</dc:language>
  <cp:lastModifiedBy/>
  <dcterms:modified xsi:type="dcterms:W3CDTF">2012-05-17T15:47:29Z</dcterms:modified>
  <cp:revision>56</cp:revision>
  <dc:subject/>
  <dc:title/>
</cp:coreProperties>
</file>