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35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32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660-46D8-4363-A3A1-D514B1AC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A8D-9C0E-4A47-9139-DB6E9A56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AD5-BA5F-4B03-B4D8-E0291C1C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3D2-6197-45D4-81E4-53180673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1BB1-4A60-4120-B326-1AF047A6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3408-9716-4C52-B5BB-14F678F4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9C85-93B9-43FC-9C91-592D06CC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EE48-F6EC-4D23-B14B-550804A2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36C8-5581-4039-A7F3-EBD60537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45FB-0220-4BAA-9035-85AE9832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3707-C327-49C0-A334-E47EFFD0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ACC-B7FA-458C-AC64-4CD40275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00B0-8729-4910-9F96-6D61BAC5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CEF8-BEC4-4AC9-84D4-7C4B27F9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9225-B774-4E29-B558-54C24C57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E14F-E391-453F-AF7B-B4073A27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9F67-2794-4130-A762-EB8833AB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D96DC-1EF7-4ABD-85B8-49F17F5216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0C0DA-DF4C-4020-9FB8-FEB60B7591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94E1C-B781-411C-8AE4-72FFCCBBCB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97986-1E69-4F82-949C-AF04F16A98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35D38-1CC6-4B52-A2BF-33D550C27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1D6-5206-4682-930B-BEC54158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44112-DD34-42FA-ADE6-06B581C1DB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CFCA8-B681-416D-8F65-07E7530F1D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4CD58-F5B9-407D-A3B3-1D57461671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5DFBC-36DD-4F06-B72C-7674CA81EF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A0335-21CF-4C64-965A-863675ADE1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3305C-DC28-440C-9FCC-0C1C94EB6A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974F6-830B-440B-B9A8-621EC464F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D1C-55F6-481A-B1CB-A91AF9F4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901-1A7A-46EC-9534-82E11ABA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49A-6621-47D4-901D-4D8305EE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D07-82B4-49D3-B99A-21E5BD1A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72F-7DDE-41CE-AFE2-11A93AC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F19-2953-422C-B0CF-9276A9DC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18848-C881-4BB4-BF46-D8F3DDC54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A61BF-1088-40E9-8F54-47EE57155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73040" y="7008840"/>
            <a:ext cx="2992320" cy="3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7bb"/>
              </a:gs>
              <a:gs pos="100000">
                <a:srgbClr val="fff2e8"/>
              </a:gs>
            </a:gsLst>
            <a:lin ang="13500000"/>
          </a:gradFill>
          <a:ln w="25560">
            <a:solidFill>
              <a:srgbClr val="fcd5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00" y="1101600"/>
            <a:ext cx="8426520" cy="1800"/>
          </a:xfrm>
          <a:prstGeom prst="line">
            <a:avLst/>
          </a:prstGeom>
          <a:ln w="507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00" y="6929280"/>
            <a:ext cx="8426160" cy="1800"/>
          </a:xfrm>
          <a:prstGeom prst="line">
            <a:avLst/>
          </a:prstGeom>
          <a:ln w="507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3120"/>
            <a:ext cx="9069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728120" y="0"/>
            <a:ext cx="23508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7"/>
          </p:nvPr>
        </p:nvSpPr>
        <p:spPr>
          <a:xfrm>
            <a:off x="472680" y="7008480"/>
            <a:ext cx="31892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MCRivara 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D032C-6218-4E29-AC46-1E81CC5CBC1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0280" y="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ación de objetos 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e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ación de 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ólidos básicos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jas, esferas y  cilindros, entre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ir sólidos más complejos a partir de sólidos básicos aplicando operadores booleanos (unión, intersección y difer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8686800" cy="145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600200" y="4572000"/>
            <a:ext cx="6858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00200" y="2743200"/>
            <a:ext cx="7027920" cy="2322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ndo túneles a través de un bloque usando el operador res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objeto se almacena e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árboles binari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lamado CGS tree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dos internos almacenan operadores o transformaciones y nodos hoja los objetos primi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o de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operadores regularizado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 mantener objetos homogéneos en la dimensión que se mode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2D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981160" y="3200400"/>
            <a:ext cx="5248440" cy="3379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0" y="6629400"/>
            <a:ext cx="1384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4760" y="6629400"/>
            <a:ext cx="1547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3D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75320" y="3592440"/>
                <a:ext cx="42516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8458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8318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emos que el objeto se almacena e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árboles binari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lamado CGS tree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dos internos almacenan operadores o transformaciones y nodos hoja los objetos primi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no tenemos la representación explícita de la superficie, cómo podemos calcular su volumen? Cómo podemos  saber  que partes serán visib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alcula la intersección de un rayo (línea) con el só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ar que si  un rayo intersecta una primitiva no necesariamente intersectará el sólido resultante pues ésta puede ser restada del só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saber qué punto es visible, de los segmentos interiores se obtiene el punto más cercano al punto de vist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s detalles cuando veamos algoritmos de ray tra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104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mo calcular el volum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écnica de ray ca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isparan rayos equi-espaciados, emanando por ejemplo del plano xy (firing plane)en la direcció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675320" y="3592440"/>
                <a:ext cx="42516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2"/>
          <a:srcRect l="34344" t="31344" r="34604" b="41297"/>
          <a:stretch/>
        </p:blipFill>
        <p:spPr>
          <a:xfrm>
            <a:off x="2971800" y="3657600"/>
            <a:ext cx="5102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9920" y="12621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r las intersecciones con cada primitiva y ordenarlas con respecto al firing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mites de la superficie de cada objeto compuesto es determinado por el conjunto de operaciones espec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675320" y="3592440"/>
                <a:ext cx="42516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8" name="" descr=""/>
          <p:cNvPicPr/>
          <p:nvPr/>
        </p:nvPicPr>
        <p:blipFill>
          <a:blip r:embed="rId2"/>
          <a:srcRect l="13529" t="29097" r="50321" b="44241"/>
          <a:stretch/>
        </p:blipFill>
        <p:spPr>
          <a:xfrm>
            <a:off x="228600" y="3200400"/>
            <a:ext cx="5943600" cy="297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59591" t="36714" r="14171" b="44241"/>
          <a:stretch/>
        </p:blipFill>
        <p:spPr>
          <a:xfrm>
            <a:off x="5715000" y="5257800"/>
            <a:ext cx="387828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9920" y="1261800"/>
            <a:ext cx="9070920" cy="7095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qué sistema de coordenadas se calculan las intersecci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ar que cada primitiva está definida en sus propias coordenadas (coordenadas de modelami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posición  en WC es determinada por las transformaciones de modeling definidas para lograr que los objetos primitivos se superpo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nsformación inversa es aplicada al rayo para llevarlo a las coordenadas de modelamiento y allí se calcula la intersección con los objetos primitivos individ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9920" y="1467000"/>
            <a:ext cx="9070920" cy="7007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mente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ómo calcular el volum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r área de cada pixel en el firing plane por un cuadrado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olumen a lo largo del camino del rayo  originado en el pixel (i,j) 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de               es  la profundidad del objeto a lo largo del ray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volumen aproximado total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265560" y="3456000"/>
                <a:ext cx="1763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114800" y="2313000"/>
                <a:ext cx="546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14600" y="4572000"/>
                <a:ext cx="660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935520" y="5923080"/>
                <a:ext cx="15508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9920" y="1466640"/>
            <a:ext cx="9070920" cy="6213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o método  para  calcular el volumen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El método de Monte C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estocástico basado en técnicas probabilís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errar el sólido en un cuboide (bounding box más pequeña que lo rode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r puntos aleatorios, uniformente  distribuidos dentro del cuboide: algunos caeran dentro del sólido y otros fu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obabilidad que un punto caiga dentro del sólido es igual a la razón entre el volumen del sólido y el volumen del cubo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96920" y="5943600"/>
                <a:ext cx="8288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úm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nt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ólid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úm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enerados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ólido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boide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os: Qué es un sólid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iedades de los modelos de sóli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ometría sólida constructiva (Constructive solid model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ación de barrido (Sweep-re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omposición espacial en cel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9920" y="1467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ción compa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uctura de datos es robu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orma de crear los objetos basados en los operadores booleanos intersección, resta y unión es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ciones de adyacencia no están explíc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mite acceso directo a los vértices y arcos del 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 representación no es única (no es fácil determinar si dos representaciones representan el mismo sól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73087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acena la geometría y topología del sóli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ía modela posición, tamaño y ori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ía modela adjacencia y con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S: qué almace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094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01560"/>
            <a:ext cx="9070920" cy="95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del objeto encerrado por un conjunto de caras orien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entación (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ector norm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permite distinguir dos lados de la superfi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y de Euler: chequea validez topológica de la B-r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-E+F = 2 (para poliedro si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-E+F -H = 2(C-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número de vé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número de ar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número de c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número de cavidades en las c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= número de tún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número de cuerpos disti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: O'Rourke, Computational geometry in C. pp105.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7974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ndo la formula de Eu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boide con un tunel y una cavidad (no atraviesa el cubo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to Non-manif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9000" y="2590920"/>
            <a:ext cx="1676520" cy="1066680"/>
            <a:chOff x="3429000" y="2590920"/>
            <a:chExt cx="1676520" cy="1066680"/>
          </a:xfrm>
        </p:grpSpPr>
        <p:grpSp>
          <p:nvGrpSpPr>
            <p:cNvPr id="201" name=""/>
            <p:cNvGrpSpPr/>
            <p:nvPr/>
          </p:nvGrpSpPr>
          <p:grpSpPr>
            <a:xfrm>
              <a:off x="3429000" y="2590920"/>
              <a:ext cx="1676520" cy="1066680"/>
              <a:chOff x="3429000" y="2590920"/>
              <a:chExt cx="1676520" cy="1066680"/>
            </a:xfrm>
          </p:grpSpPr>
          <p:sp>
            <p:nvSpPr>
              <p:cNvPr id="202" name=""/>
              <p:cNvSpPr/>
              <p:nvPr/>
            </p:nvSpPr>
            <p:spPr>
              <a:xfrm>
                <a:off x="3429000" y="3048120"/>
                <a:ext cx="114300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72000" y="2590920"/>
                <a:ext cx="533520" cy="106668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336" h="672">
                    <a:moveTo>
                      <a:pt x="0" y="288"/>
                    </a:moveTo>
                    <a:lnTo>
                      <a:pt x="336" y="0"/>
                    </a:lnTo>
                    <a:lnTo>
                      <a:pt x="336" y="432"/>
                    </a:lnTo>
                    <a:lnTo>
                      <a:pt x="0" y="6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29000" y="2590920"/>
                <a:ext cx="1676520" cy="45720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056" h="336">
                    <a:moveTo>
                      <a:pt x="0" y="336"/>
                    </a:moveTo>
                    <a:lnTo>
                      <a:pt x="336" y="0"/>
                    </a:lnTo>
                    <a:lnTo>
                      <a:pt x="10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4343400" y="2819520"/>
              <a:ext cx="2286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43400" y="2666880"/>
              <a:ext cx="444600" cy="1476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9880" y="2743200"/>
              <a:ext cx="444600" cy="14760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88" h="144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144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9880" y="2895480"/>
              <a:ext cx="228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9880" y="2895480"/>
              <a:ext cx="222480" cy="38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38480" y="2743200"/>
              <a:ext cx="228600" cy="5335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44" h="336">
                  <a:moveTo>
                    <a:pt x="144" y="0"/>
                  </a:moveTo>
                  <a:lnTo>
                    <a:pt x="144" y="192"/>
                  </a:ln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0" y="2666880"/>
              <a:ext cx="228600" cy="762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44" h="480">
                  <a:moveTo>
                    <a:pt x="144" y="0"/>
                  </a:moveTo>
                  <a:lnTo>
                    <a:pt x="144" y="384"/>
                  </a:lnTo>
                  <a:lnTo>
                    <a:pt x="0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43400" y="2819520"/>
              <a:ext cx="228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24280" y="3971880"/>
            <a:ext cx="685800" cy="1143000"/>
            <a:chOff x="3824280" y="3971880"/>
            <a:chExt cx="685800" cy="1143000"/>
          </a:xfrm>
        </p:grpSpPr>
        <p:sp>
          <p:nvSpPr>
            <p:cNvPr id="214" name=""/>
            <p:cNvSpPr/>
            <p:nvPr/>
          </p:nvSpPr>
          <p:spPr>
            <a:xfrm>
              <a:off x="3824280" y="3971880"/>
              <a:ext cx="685800" cy="11430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72040" y="4255920"/>
              <a:ext cx="144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74760" y="5486400"/>
            <a:ext cx="1984680" cy="1373040"/>
            <a:chOff x="4874760" y="5486400"/>
            <a:chExt cx="1984680" cy="1373040"/>
          </a:xfrm>
        </p:grpSpPr>
        <p:sp>
          <p:nvSpPr>
            <p:cNvPr id="217" name=""/>
            <p:cNvSpPr/>
            <p:nvPr/>
          </p:nvSpPr>
          <p:spPr>
            <a:xfrm flipH="1">
              <a:off x="5179680" y="5486400"/>
              <a:ext cx="76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08280" y="5943600"/>
              <a:ext cx="765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3600" y="54864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81480" y="59436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72200" y="59436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10080" y="640080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95880" y="5942160"/>
              <a:ext cx="762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8000" y="59436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640080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095880" y="6399360"/>
              <a:ext cx="762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10080" y="64008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75120" y="5943600"/>
              <a:ext cx="308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874760" y="6400800"/>
              <a:ext cx="536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01560"/>
            <a:ext cx="9070920" cy="772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obtener la representación del bor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pecificación por  el usuario de cada vértice y ca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muy lento, es fácil equivocarse,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r el borde a partir de una especificación CSG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 lo proveen los modeladores de sóli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r el borde a partir de una secuencia de imágenes 2D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: marching cubes .. más adel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información y cuánta almacen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ínim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rtices y c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ineficiente para encontrar relaciones  adyacen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501920"/>
            <a:ext cx="90709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ucturas de datos para un poliedro basado especificado por un conjunto de polígonos (pseudo-java). Qué queremos consult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os los arcos que rodean una 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as las caras adyacentes a un 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os los vértices de una c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ncontrar todos los arcos que pasan por un vér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permite consultar la siguiente estructura de datos en O(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3200" y="4381560"/>
            <a:ext cx="14493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x,y,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23960" y="4343400"/>
            <a:ext cx="20480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ndpoints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aces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84840" y="4343400"/>
            <a:ext cx="19731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verti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edg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n_verti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51760" y="4343400"/>
            <a:ext cx="19922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lyhedr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5715000"/>
            <a:ext cx="18842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point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poi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5715000"/>
            <a:ext cx="18446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edg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5480" y="5715000"/>
            <a:ext cx="1809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1501920"/>
            <a:ext cx="90709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uctura de datos clásica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nged-edg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la estándar para representar la topología con un compromiso razonable entre espacio y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da arco  “apunta a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értices: Previo (P) y Next (N) (orien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ras: Left (L) y Right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r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da cara y vértice apunta a un arco que lo 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4344840"/>
            <a:ext cx="144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x,y,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d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4343400"/>
            <a:ext cx="192096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evio,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left, r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,nr,pl,n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3040" y="4371840"/>
            <a:ext cx="1503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edg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22960" y="4344840"/>
            <a:ext cx="19922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lyhedr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5480" y="5943600"/>
            <a:ext cx="1809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fac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fac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5943600"/>
            <a:ext cx="18842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point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poi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84560" y="5945040"/>
            <a:ext cx="18446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s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edges[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_edg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886200" y="3429000"/>
                <a:ext cx="2286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343640" y="3078000"/>
            <a:ext cx="248616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9800" y="1488960"/>
            <a:ext cx="9070920" cy="70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ndo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nged-e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 puede saber qué arcos comparten un mismo vértice  sin recorrer todos los ar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put: índice al vért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lgoritm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5240" y="2973240"/>
            <a:ext cx="144936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Poin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x,y,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d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9640" y="2971800"/>
            <a:ext cx="192096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dg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evio,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left, r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pr,nr,pl,n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97440" y="2971800"/>
            <a:ext cx="1503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ac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 edg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858000" y="1935000"/>
            <a:ext cx="2486160" cy="2865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971800" y="5460840"/>
            <a:ext cx="63482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ener arc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e contiene el vér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 = left, f_final = 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!=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_fi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r e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l,n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tro arco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contiene al vér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car la cara vecina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inta d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almacenarla e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uede usar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nged-edg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 geometrías con hoyos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inserta un arco auxiliar. Este arco auxiliar tiene la misma cara por ambos 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95348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01920"/>
            <a:ext cx="9070920" cy="75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es el cálculo de volumen en una B-re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ndo ray casting? 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Usando Montecarlo?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 manera exact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Triangular los polígonos de la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rientar caras de tal manera que todas las normales esten  hacia  afu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egir un punto P cualquiera del espacio fuera del polie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olumen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For each cara f del  polied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-430200">
              <a:lnSpc>
                <a:spcPct val="93000"/>
              </a:lnSpc>
              <a:spcAft>
                <a:spcPts val="575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volumen += Determinante (f0,f1,f2,P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basa en la suma del volumen de tetraedros. La cuarta columna de la matriz contiene 1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: qué es un sólid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Sólid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s un objeto en 3D  en el que está claramente definido su interior y ex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ificar si  punto (x,y,z) está  en el interior, borde o exterior del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propiedades tales como  volumen y momentos de ine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interferencias o detectar col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4305240"/>
            <a:ext cx="4219560" cy="2324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257800" y="4390920"/>
            <a:ext cx="4286160" cy="223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6750000"/>
            <a:ext cx="42768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wireframe (solo arcos y vért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6858000"/>
            <a:ext cx="1585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só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por el borde (B-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501920"/>
            <a:ext cx="907092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información sobre adyacancia (vecindades) está explícita en la represent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epresentación ún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radores booleanos son difíciles de imple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necesita calcular intersecciones de manera explícita y actualizar la topología en la  estructura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oblemas de robustez en el cálculos de operaciones matemáticas usando punto flo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de barrido (sweep 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o 3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 crea a partir de hacer un barrido con un objeto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otar con respecto a un eje (volumen de revolu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splazar en una cierta trayectoria o cu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de barrido (sweep rep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o se descompone en celdas básicas que se intersectan solo en los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Celdas básicas 2D: triángulos y cuadrilát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Celdas básicas 3D: tetraedros, hexaedros, pirámides y prismas, entre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286000" y="411480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360" y="153180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umeración espacial simple (malla de voxels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ón generada por cubos (voxels) de igual tamaño, generalmente  de arcos paralelos a los ejes prin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ólido se representa por los cubos que están dentro o intersectan el borde del só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33360" y="4181400"/>
            <a:ext cx="40100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257800" y="32004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trees ( representar objetos 2D) variando el tamaño de los cuad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odear objeto por cuadrado más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ividir en cuatro hasta lograr precisión des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ructura de datos: ár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792680" cy="3429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trees (representar objetos 2D): otro 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86200" y="4114800"/>
            <a:ext cx="5730840" cy="2681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914400" y="2743200"/>
            <a:ext cx="26035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rees ( representar objetos 3D variando el tamaño de los cuad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odear objeto porcubo más pequ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ividir en ocho hasta lograr precisión des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ructura de datos: ár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286000" y="4114800"/>
            <a:ext cx="5715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re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dores unión e intersección (sobre un  quadtre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849920" y="2286000"/>
            <a:ext cx="2236680" cy="25146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1143000" y="502920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5405400" y="5029200"/>
            <a:ext cx="1681200" cy="2286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43000" y="2743200"/>
            <a:ext cx="384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2640" y="2514600"/>
            <a:ext cx="281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13560" y="5408640"/>
            <a:ext cx="1173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0400" y="5670720"/>
            <a:ext cx="958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licaciones con octrees o quadtre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28600" y="2104920"/>
            <a:ext cx="3333600" cy="36100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881520" y="4343400"/>
            <a:ext cx="3662280" cy="3024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629400" y="1371600"/>
            <a:ext cx="3381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: geometría versus top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Geometrí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étricas, dimensiones del objeto y su  posición en el sistema de coordenadas us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opología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combinatoria como conectividad, asociatividad y vecindad. Información invi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6200" y="6629400"/>
            <a:ext cx="387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a topología, distinta ge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00200" y="4057560"/>
            <a:ext cx="690552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álculo de volume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r volumen de cub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como unión, intersección y resta son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opuesto: definir todos lo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: se necesitan muchas celdas cuando hay que representar superficies curvas y detalles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es: generación de mallas de tetreadros y mix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aración de los modelo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1600200"/>
            <a:ext cx="907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47840" y="1414440"/>
          <a:ext cx="8707320" cy="5325840"/>
        </p:xfrm>
        <a:graphic>
          <a:graphicData uri="http://schemas.openxmlformats.org/drawingml/2006/table">
            <a:tbl>
              <a:tblPr/>
              <a:tblGrid>
                <a:gridCol w="2175840"/>
                <a:gridCol w="2176200"/>
                <a:gridCol w="2176200"/>
                <a:gridCol w="2179080"/>
              </a:tblGrid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o m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75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874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ción (chequear que el modelo es váli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í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á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74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radura (bajo operadores boolean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(difícil de implement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8744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(en comparación de CG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o m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: manifold versus non-manif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wo-manifol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tos bien definidos, cerrados y homomórficos a una bola topológ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n-manifol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tos descritos por partes wireframe, no cerradas y sóli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8238960" cy="25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os wire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Ambigu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Subjetivos a la interpretación hum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Objetos complejos con muchos arcos son confu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No permiten calcular propiedades como masa, detectar colision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371600" y="4686480"/>
            <a:ext cx="250524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iedades de los modelos de sól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0280" y="118260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gidez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orma del sólido es invariante con respecto a cambios de posicion y ori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omogéneos tridimensionalmen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borde del sólido debe estar en contacto con el interior y exterior. No se permiten  arcos “dangling” ni caras “dangl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itos y descripción finit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ólido es acotado y se describe con  una cantidad finita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erradura bajo movimientos rígidos y operaciones booleanas regularizada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mientos sobre los objetos y operaciones booleanas deben producir objetos vál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00200" y="4883040"/>
            <a:ext cx="721044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iedades de los modelos de sól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modelo debe establec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Dominio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el tipo de objetos que puede ser representado (alc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Validez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debe ser un sólido bien defini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Completitu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datos suficientes para la descripción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Unicida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importante para comparar si dos objetos son igu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DejaVu Sans"/>
              </a:rPr>
              <a:t>No ambigued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: representar sólo un ob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5800" y="4457880"/>
            <a:ext cx="86295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s de sólid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ía sólida constructiva (Constructive solid modeling CS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ción del borde (b-rep boundary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ción de barrido (sweep repres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omposición espacial en celdas (cell decompos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23:37:21Z</dcterms:created>
  <dc:creator>Nancy Hitschfeld</dc:creator>
  <dc:description/>
  <dc:language>en-US</dc:language>
  <cp:lastModifiedBy/>
  <dcterms:modified xsi:type="dcterms:W3CDTF">2012-05-17T15:47:29Z</dcterms:modified>
  <cp:revision>56</cp:revision>
  <dc:subject/>
  <dc:title/>
</cp:coreProperties>
</file>