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5.jpeg" ContentType="image/jpeg"/>
  <Override PartName="/ppt/media/image35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image32.png" ContentType="image/png"/>
  <Override PartName="/ppt/media/image13.jpeg" ContentType="image/jpeg"/>
  <Override PartName="/ppt/media/image23.png" ContentType="image/png"/>
  <Override PartName="/ppt/media/image33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4.jpeg" ContentType="image/jpeg"/>
  <Override PartName="/ppt/media/image25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0D36-94DE-4BEA-A6AB-8A6E20C0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6E8-6AF4-43ED-863D-41D0B0FA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CA49-41DE-4F54-B180-B801656D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5AD3-4BAB-487E-9851-09EA86DF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6C15-667B-4DE5-A86A-3D9EA790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9A90-3AFC-465B-92EB-3BB91647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0F88-41C4-4E54-B39E-A994A1CB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9006-995F-461A-9B7A-C9187FA0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9217-84A3-4B19-833E-3D2B1D65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8BA5-F73F-4220-B7C9-FEC785D0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2A9F-1890-4C0C-B63E-59EAD564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408-9B86-4FA4-9E61-68F5FC48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F5D6-8A0E-4030-A1AC-35E935C2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3B62-EEC5-4983-973D-2659FB1D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B4B0-367B-4657-9972-62CE923C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45C5-77DA-434E-B37C-4792F7DE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3B4D-6914-4BDF-B80C-926CFC6B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74024-0736-47D5-B4E5-7B2561E151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F06A3-BD63-49D7-8506-EAC35C72CD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C34BC-9A54-4468-ACD5-CEAF9B3E73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F71E1-23A6-4107-B36C-2152934180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7EEBF-59B1-4C8F-9DD3-331A7FF1BF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8083-45BB-4AE0-AEA6-A326D8DC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5FCF2-3054-4E78-88EE-D37C2A2B13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7378F-8D62-4C9C-B1AC-04E4BEE4A8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2EA4D-CF9C-4B7B-83D2-9CC6F7D34D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4B646-CD50-4F77-AC91-6DADF8D528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E42A8-18A8-45A1-BBD5-C93C5004E5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6F82B7-AEA1-4139-B294-6B8F3D58FA1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57604-1C6B-435E-BB91-FB9F69038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EA1-59FC-4EFB-A47A-3D81E6D6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23F7-E27A-44B8-8FFB-5A6914DD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AEC-D82E-4C9F-948E-DC3DA6A6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C5A-2DED-4713-86D6-35084BDD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E80-C655-44E8-AD7C-734585B1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7F55-C4B4-4971-B359-2B66DC44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85B9A-70CC-4DD4-83DD-F7A4BE2E7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135E5-E41D-4BDB-9663-B6D49D060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73040" y="7008840"/>
            <a:ext cx="2992320" cy="3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7bb"/>
              </a:gs>
              <a:gs pos="100000">
                <a:srgbClr val="fff2e8"/>
              </a:gs>
            </a:gsLst>
            <a:lin ang="13500000"/>
          </a:gradFill>
          <a:ln w="25560">
            <a:solidFill>
              <a:srgbClr val="fcd5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00" y="1101600"/>
            <a:ext cx="8426520" cy="1800"/>
          </a:xfrm>
          <a:prstGeom prst="line">
            <a:avLst/>
          </a:prstGeom>
          <a:ln w="507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00" y="6929280"/>
            <a:ext cx="8426160" cy="1800"/>
          </a:xfrm>
          <a:prstGeom prst="line">
            <a:avLst/>
          </a:prstGeom>
          <a:ln w="507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3120"/>
            <a:ext cx="90694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0292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7728120" y="0"/>
            <a:ext cx="23508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472680" y="7008480"/>
            <a:ext cx="31892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MCRivara 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7222680" y="7007040"/>
            <a:ext cx="2349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948A4-29A2-4558-BD0A-F021B502094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0280" y="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ación de objetos 3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e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ación de sól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ólidos básicos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jas, esferas y  cilindros, entre 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ir sólidos más complejos a partir de sólidos básicos aplicando operadores booleanos (unión, intersección y difere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8686800" cy="1457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600200" y="4572000"/>
            <a:ext cx="68580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00200" y="2743200"/>
            <a:ext cx="7027920" cy="2322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ndo túneles a través de un bloque usando el operador rest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objeto se almacena en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árboles binari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lamado CGS trees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odos internos almacenan operadores o transformaciones y nodos hoja los objetos primi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o de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operadores regularizado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 mantener objetos homogéneos en la dimensión que se mode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2D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981160" y="3200400"/>
            <a:ext cx="5248440" cy="3379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0" y="6629400"/>
            <a:ext cx="1384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24760" y="6629400"/>
            <a:ext cx="15476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i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3D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675320" y="3592440"/>
                <a:ext cx="42516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84582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8318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emos que el objeto se almacena en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árboles binari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lamado CGS trees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odos internos almacenan operadores o transformaciones y nodos hoja los objetos primi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no tenemos la representación explícita de la superficie, cómo podemos calcular su volumen? Cómo podemos  saber  que partes serán visibl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calcula la intersección de un rayo (línea) con el sól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tar que si  un rayo intersecta una primitiva no necesariamente intersectará el sólido resultante pues ésta puede ser restada del sól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saber qué punto es visible, de los segmentos interiores se obtiene el punto más cercano al punto de vista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s detalles cuando veamos algoritmos de ray trac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ómo calcular el volum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écnica de ray cast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isparan rayos equi-espaciados, emanando por ejemplo del plano xy (firing plane)en la dirección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675320" y="3592440"/>
                <a:ext cx="42516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4" name="" descr=""/>
          <p:cNvPicPr/>
          <p:nvPr/>
        </p:nvPicPr>
        <p:blipFill>
          <a:blip r:embed="rId2"/>
          <a:srcRect l="34344" t="31344" r="34604" b="41297"/>
          <a:stretch/>
        </p:blipFill>
        <p:spPr>
          <a:xfrm>
            <a:off x="2971800" y="3657600"/>
            <a:ext cx="51022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9920" y="12621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r las intersecciones con cada primitiva y ordenarlas con respecto al firing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límites de la superficie de cada objeto compuesto es determinado por el conjunto de operaciones especif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675320" y="3592440"/>
                <a:ext cx="42516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8" name="" descr=""/>
          <p:cNvPicPr/>
          <p:nvPr/>
        </p:nvPicPr>
        <p:blipFill>
          <a:blip r:embed="rId2"/>
          <a:srcRect l="13529" t="29097" r="50321" b="44241"/>
          <a:stretch/>
        </p:blipFill>
        <p:spPr>
          <a:xfrm>
            <a:off x="228600" y="3200400"/>
            <a:ext cx="5943600" cy="2971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rcRect l="59591" t="36714" r="14171" b="44241"/>
          <a:stretch/>
        </p:blipFill>
        <p:spPr>
          <a:xfrm>
            <a:off x="5715000" y="5257800"/>
            <a:ext cx="387828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29920" y="1261800"/>
            <a:ext cx="9070920" cy="7095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qué sistema de coordenadas se calculan las interseccio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ar que cada primitiva está definida en sus propias coordenadas (coordenadas de modelami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posición  en WC es determinada por las transformaciones de modeling definidas para lograr que los objetos primitivos se superpo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ransformación inversa es aplicada al rayo para llevarlo a las coordenadas de modelamiento y allí se calcula la intersección con los objetos primitivos individu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9920" y="1467000"/>
            <a:ext cx="9070920" cy="7007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mente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ómo calcular el volum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ximar área de cada pixel en el firing plane por un cuadrado pequ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volumen a lo largo del camino del rayo  originado en el pixel (i,j) 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de               es  la profundidad del objeto a lo largo del ray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volumen aproximado total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265560" y="3456000"/>
                <a:ext cx="1763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114800" y="2313000"/>
                <a:ext cx="546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514600" y="4572000"/>
                <a:ext cx="660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935520" y="5923080"/>
                <a:ext cx="15508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29920" y="1466640"/>
            <a:ext cx="9070920" cy="6213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ro método  para  calcular el volumen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El método de Monte Ca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estocástico basado en técnicas probabilís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errar el sólido en un cuboide (bounding box más pequeña que lo rode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r puntos aleatorios, uniformente  distribuidos dentro del cuboide: algunos caeran dentro del sólido y otros fu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probabilidad que un punto caiga dentro del sólido es igual a la razón entre el volumen del sólido y el volumen del cubo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096920" y="5943600"/>
                <a:ext cx="82882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úmer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unt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ntr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ólid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úmer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unt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enerados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ólido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boide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os: Qué es un sólid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iedades de los modelos de sóli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ometría sólida constructiva (Constructive solid model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esentación de barrido (Sweep-re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omposición espacial en cel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29920" y="14670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aj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ción compa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ructura de datos es robu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forma de crear los objetos basados en los operadores booleanos intersección, resta y unión es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ventaj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ciones de adyacencia no están explíc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ermite acceso directo a los vértices y arcos del sól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 representación no es única (no es fácil determinar si dos representaciones representan el mismo sóli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7308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macena la geometría y topología del sóli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ía modela posición, tamaño y ori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ía modela adjacencia y con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S: qué almace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094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01560"/>
            <a:ext cx="9070920" cy="95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or del objeto encerrado por un conjunto de caras orien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ientación (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ector norm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permite distinguir dos lados de la superfi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y de Euler: chequea validez topológica de la B-r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-E+F = 2 (para poliedro simp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-E+F -H = 2(C-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número de vér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número de ar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número de ca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= número de cavidades en las ca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= número de tún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número de cuerpos disti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: O'Rourke, Computational geometry in C. pp105. 199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7974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ndo la formula de Eul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boide con un tunel y una cavidad (no atraviesa el cubo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lind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to Non-manif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429000" y="2590920"/>
            <a:ext cx="1676520" cy="1066680"/>
            <a:chOff x="3429000" y="2590920"/>
            <a:chExt cx="1676520" cy="1066680"/>
          </a:xfrm>
        </p:grpSpPr>
        <p:grpSp>
          <p:nvGrpSpPr>
            <p:cNvPr id="201" name=""/>
            <p:cNvGrpSpPr/>
            <p:nvPr/>
          </p:nvGrpSpPr>
          <p:grpSpPr>
            <a:xfrm>
              <a:off x="3429000" y="2590920"/>
              <a:ext cx="1676520" cy="1066680"/>
              <a:chOff x="3429000" y="2590920"/>
              <a:chExt cx="1676520" cy="1066680"/>
            </a:xfrm>
          </p:grpSpPr>
          <p:sp>
            <p:nvSpPr>
              <p:cNvPr id="202" name=""/>
              <p:cNvSpPr/>
              <p:nvPr/>
            </p:nvSpPr>
            <p:spPr>
              <a:xfrm>
                <a:off x="3429000" y="3048120"/>
                <a:ext cx="114300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72000" y="2590920"/>
                <a:ext cx="533520" cy="106668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336" h="672">
                    <a:moveTo>
                      <a:pt x="0" y="288"/>
                    </a:moveTo>
                    <a:lnTo>
                      <a:pt x="336" y="0"/>
                    </a:lnTo>
                    <a:lnTo>
                      <a:pt x="336" y="432"/>
                    </a:lnTo>
                    <a:lnTo>
                      <a:pt x="0" y="67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29000" y="2590920"/>
                <a:ext cx="1676520" cy="457200"/>
              </a:xfrm>
              <a:custGeom>
                <a:avLst/>
                <a:gdLst>
                  <a:gd name="textAreaLeft" fmla="*/ 0 w 1676520"/>
                  <a:gd name="textAreaRight" fmla="*/ 1676880 w 16765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1056" h="336">
                    <a:moveTo>
                      <a:pt x="0" y="336"/>
                    </a:moveTo>
                    <a:lnTo>
                      <a:pt x="336" y="0"/>
                    </a:lnTo>
                    <a:lnTo>
                      <a:pt x="105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4343400" y="2819520"/>
              <a:ext cx="228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43400" y="2666880"/>
              <a:ext cx="444600" cy="1476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0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09880" y="2743200"/>
              <a:ext cx="444600" cy="1476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0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9880" y="2895480"/>
              <a:ext cx="228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09880" y="2895480"/>
              <a:ext cx="222480" cy="38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38480" y="2743200"/>
              <a:ext cx="228600" cy="5335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44" h="336">
                  <a:moveTo>
                    <a:pt x="144" y="0"/>
                  </a:moveTo>
                  <a:lnTo>
                    <a:pt x="144" y="192"/>
                  </a:lnTo>
                  <a:lnTo>
                    <a:pt x="0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2000" y="2666880"/>
              <a:ext cx="228600" cy="7621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144" h="480">
                  <a:moveTo>
                    <a:pt x="144" y="0"/>
                  </a:moveTo>
                  <a:lnTo>
                    <a:pt x="144" y="384"/>
                  </a:lnTo>
                  <a:lnTo>
                    <a:pt x="0" y="4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43400" y="2819520"/>
              <a:ext cx="228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824280" y="3971880"/>
            <a:ext cx="685800" cy="1143000"/>
            <a:chOff x="3824280" y="3971880"/>
            <a:chExt cx="685800" cy="1143000"/>
          </a:xfrm>
        </p:grpSpPr>
        <p:sp>
          <p:nvSpPr>
            <p:cNvPr id="214" name=""/>
            <p:cNvSpPr/>
            <p:nvPr/>
          </p:nvSpPr>
          <p:spPr>
            <a:xfrm>
              <a:off x="3824280" y="3971880"/>
              <a:ext cx="685800" cy="114300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72040" y="4255920"/>
              <a:ext cx="14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874760" y="5486400"/>
            <a:ext cx="1984680" cy="1373040"/>
            <a:chOff x="4874760" y="5486400"/>
            <a:chExt cx="1984680" cy="1373040"/>
          </a:xfrm>
        </p:grpSpPr>
        <p:sp>
          <p:nvSpPr>
            <p:cNvPr id="217" name=""/>
            <p:cNvSpPr/>
            <p:nvPr/>
          </p:nvSpPr>
          <p:spPr>
            <a:xfrm flipH="1">
              <a:off x="5179680" y="5486400"/>
              <a:ext cx="765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408280" y="5943600"/>
              <a:ext cx="765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43600" y="548640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81480" y="594360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72200" y="594360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10080" y="640080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095880" y="5942160"/>
              <a:ext cx="76212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58000" y="594360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95880" y="6400800"/>
              <a:ext cx="1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095880" y="6399360"/>
              <a:ext cx="76212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10080" y="64008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875120" y="5943600"/>
              <a:ext cx="308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874760" y="6400800"/>
              <a:ext cx="536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01560"/>
            <a:ext cx="9070920" cy="7723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obtener la representación del bor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pecificación por  el usuario de cada vértice y ca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muy lento, es fácil equivocarse,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r el borde a partir de una especificación CSG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 lo proveen los modeladores de sóli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r el borde a partir de una secuencia de imágenes 2D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mo: marching cubes .. más adel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información y cuánta almacen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ínimo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értices y ca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y ineficiente para encontrar relaciones  adyacen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1501920"/>
            <a:ext cx="907092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ructuras de datos para un poliedro basado especificado por un conjunto de polígonos (pseudo-java). Qué queremos consulta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contrar todos los arcos que rodean una c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contrar todas las caras adyacentes a un c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contrar todos los vértices de una c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contrar todos los arcos que pasan por un vér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é permite consultar la siguiente estructura de datos en O(1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3200" y="4381560"/>
            <a:ext cx="14493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int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 x,y,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23960" y="4343400"/>
            <a:ext cx="20480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dg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endpoints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aces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84840" y="4343400"/>
            <a:ext cx="19731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ac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 vertic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 edg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 n_verti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51760" y="4343400"/>
            <a:ext cx="19922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lyhedron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ac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fa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5715000"/>
            <a:ext cx="188424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int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point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poin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5715000"/>
            <a:ext cx="18446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dge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 edg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edg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05480" y="5715000"/>
            <a:ext cx="18097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ace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 fac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fac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1501920"/>
            <a:ext cx="90709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ructura de datos clásica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nged-edge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la estándar para representar la topología con un compromiso razonable entre espacio y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da arco  “apunta a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Vértices: Previo (P) y Next (N) (orient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ras: Left (L) y Right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r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da cara y vértice apunta a un arco que lo cont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4344840"/>
            <a:ext cx="14493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int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 x,y,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edg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4343400"/>
            <a:ext cx="192096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dg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previo,n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left, righ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pr,nr,pl,n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3040" y="4371840"/>
            <a:ext cx="1503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ac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 edg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22960" y="4344840"/>
            <a:ext cx="19922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lyhedron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ac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fa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05480" y="5943600"/>
            <a:ext cx="18097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ace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 fac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fac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5943600"/>
            <a:ext cx="188424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int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point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poin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84560" y="5945040"/>
            <a:ext cx="18446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dge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 edg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edg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886200" y="3429000"/>
                <a:ext cx="2286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343640" y="3078000"/>
            <a:ext cx="248616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9800" y="1488960"/>
            <a:ext cx="9070920" cy="70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ndo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nged-ed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 puede saber qué arcos comparten un mismo vértice  sin recorrer todos los arc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Input: índice al vért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goritm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65240" y="2973240"/>
            <a:ext cx="14493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int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 x,y,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edg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9640" y="2971800"/>
            <a:ext cx="192096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dg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previo,n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left, righ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pr,nr,pl,n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97440" y="2971800"/>
            <a:ext cx="15033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ac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 edg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858000" y="1935000"/>
            <a:ext cx="2486160" cy="2865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971800" y="5460840"/>
            <a:ext cx="63482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ener arco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contiene el vér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 = left, f_final = r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(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!=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_fin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car en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l,n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tro arco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contiene al vér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car la cara vecina d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inta d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almacenarla en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puede usar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nged-edge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 geometrías con hoyos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 inserta un arco auxiliar. Este arco auxiliar tiene la misma cara por ambos l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7953480" cy="25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01920"/>
            <a:ext cx="9070920" cy="75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es el cálculo de volumen en una B-rep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Usando ray casting? 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Usando Montecarlo?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 manera exact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Triangular los polígonos de la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rientar caras de tal manera que todas las normales esten  hacia  afu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egir un punto P cualquiera del espacio fuera del polied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volumen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For each cara f del  polied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56000" indent="-430200">
              <a:lnSpc>
                <a:spcPct val="93000"/>
              </a:lnSpc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volumen += Determinante (f0,f1,f2,P)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 basa en la suma del volumen de tetraedros. La cuarta columna de la matriz contiene 1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: qué es un sólid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Sólid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s un objeto en 3D  en el que está claramente definido su interior y ext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ificar si  punto (x,y,z) está  en el interior, borde o exterior del ob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propiedades tales como  volumen y momentos de iner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interferencias o detectar coli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" y="4305240"/>
            <a:ext cx="4219560" cy="2324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257800" y="4390920"/>
            <a:ext cx="4286160" cy="2238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6750000"/>
            <a:ext cx="42768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wireframe (solo arcos y vérti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0" y="6858000"/>
            <a:ext cx="1585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só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1501920"/>
            <a:ext cx="9070920" cy="63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aja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información sobre adyacancia (vecindades) está explícita en la re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epresentación ún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ventaj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peradores booleanos son difíciles de implem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 necesita calcular intersecciones de manera explícita y actualizar la topología en la  estructura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Problemas de robustez en el cálculos de operaciones matemáticas usando punto flo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de barrido (sweep 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o 3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 crea a partir de hacer un barrido con un objeto 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Rotar con respecto a un eje (volumen de revolu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esplazar en una cierta trayectoria o cu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029200" y="320040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de barrido (sweep 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o se descompone en celdas básicas que se intersectan solo en los bo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Celdas básicas 2D: triángulos y cuadrilát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Celdas básicas 3D: tetraedros, hexaedros, pirámides y prismas, entre 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2286000" y="411480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360" y="153180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umeración espacial simple (malla de voxels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ón generada por cubos (voxels) de igual tamaño, generalmente  de arcos paralelos a los ejes princi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ólido se representa por los cubos que están dentro o intersectan el borde del sól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33360" y="4181400"/>
            <a:ext cx="4010040" cy="26766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257800" y="320040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trees ( representar objetos 2D) variando el tamaño de los cuad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Rodear objeto por cuadrado más pequ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ividir en cuatro hasta lograr precisión dese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structura de datos: ár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4792680" cy="3429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4572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trees (representar objetos 2D): otro 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886200" y="4114800"/>
            <a:ext cx="5730840" cy="26812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914400" y="2743200"/>
            <a:ext cx="26035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rees ( representar objetos 3D variando el tamaño de los cuad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Rodear objeto porcubo más pequ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ividir en ocho hasta lograr precisión dese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structura de datos: ár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286000" y="4114800"/>
            <a:ext cx="5715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re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dores unión e intersección (sobre un  quadtre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2286000" y="228600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4849920" y="2286000"/>
            <a:ext cx="2236680" cy="25146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1143000" y="502920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5405400" y="5029200"/>
            <a:ext cx="1681200" cy="22860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143000" y="2743200"/>
            <a:ext cx="384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62640" y="2514600"/>
            <a:ext cx="281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13560" y="5408640"/>
            <a:ext cx="1173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00400" y="5670720"/>
            <a:ext cx="958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licaciones con octrees o quadtre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228600" y="2104920"/>
            <a:ext cx="3333600" cy="36100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3881520" y="4343400"/>
            <a:ext cx="3662280" cy="3024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6629400" y="1371600"/>
            <a:ext cx="33814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8360" y="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: geometría versus top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eometría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étricas, dimensiones del objeto y su  posición en el sistema de coordenadas us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opología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ón combinatoria como conectividad, asociatividad y vecindad. Información invi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6200" y="6629400"/>
            <a:ext cx="387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ma topología, distinta ge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00200" y="4057560"/>
            <a:ext cx="690552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álculo de volume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ar volumen de cub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ciones como unión, intersección y resta son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opuesto: definir todos los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ventaja: se necesitan muchas celdas cuando hay que representar superficies curvas y detalles peque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es: generación de mallas de tetreadros y mix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aración de los modelo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1600200"/>
            <a:ext cx="9070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47840" y="1414440"/>
          <a:ext cx="8707320" cy="5325840"/>
        </p:xfrm>
        <a:graphic>
          <a:graphicData uri="http://schemas.openxmlformats.org/drawingml/2006/table">
            <a:tbl>
              <a:tblPr/>
              <a:tblGrid>
                <a:gridCol w="2175840"/>
                <a:gridCol w="2176200"/>
                <a:gridCol w="2176200"/>
                <a:gridCol w="2179080"/>
              </a:tblGrid>
              <a:tr h="6757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r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757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o m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757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757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c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8744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ción (chequear que el modelo es váli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ác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íc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ác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744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radura (bajo operadores boolean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 (simp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(difícil de implement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(simp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8744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(en comparación de CG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o m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68360" y="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: manifold versus non-manif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wo-manifold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tos bien definidos, cerrados y homomórficos a una bola topológ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on-manifold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tos descritos por partes wireframe, no cerradas y sólid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823896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elos wire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ventaj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Ambigu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Subjetivos a la interpretación hum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Objetos complejos con muchos arcos son confu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No permiten calcular propiedades como masa, detectar colisiones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371600" y="4686480"/>
            <a:ext cx="250524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iedades de los modelos de sól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0280" y="118260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gidez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forma del sólido es invariante con respecto a cambios de posicion y ori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omogéneos tridimensionalmen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borde del sólido debe estar en contacto con el interior y exterior. No se permiten  arcos “dangling” ni caras “dangl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initos y descripción finit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sólido es acotado y se describe con  una cantidad finita d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erradura bajo movimientos rígidos y operaciones booleanas regularizada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mientos sobre los objetos y operaciones booleanas deben producir objetos vál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600200" y="4883040"/>
            <a:ext cx="7210440" cy="24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iedades de los modelos de sól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37160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modelo debe establec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DejaVu Sans"/>
              </a:rPr>
              <a:t>Dominio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el tipo de objetos que puede ser representado (alca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DejaVu Sans"/>
              </a:rPr>
              <a:t>Validez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debe ser un sólido bien defini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DejaVu Sans"/>
              </a:rPr>
              <a:t>Completitu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datos suficientes para la descripción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DejaVu Sans"/>
              </a:rPr>
              <a:t>Unicida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 importante para comparar si dos objetos son igu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DejaVu Sans"/>
              </a:rPr>
              <a:t>No ambigued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: representar sólo un obje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85800" y="4457880"/>
            <a:ext cx="862956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os de sólid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ía sólida constructiva (Constructive solid modeling CS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ción del borde (b-rep boundary repres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ción de barrido (sweep repres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23:37:21Z</dcterms:created>
  <dc:creator>Nancy Hitschfeld</dc:creator>
  <dc:description/>
  <dc:language>en-US</dc:language>
  <cp:lastModifiedBy/>
  <dcterms:modified xsi:type="dcterms:W3CDTF">2012-05-17T15:47:29Z</dcterms:modified>
  <cp:revision>56</cp:revision>
  <dc:subject/>
  <dc:title/>
</cp:coreProperties>
</file>