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5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16E-778C-437C-B514-53B8C593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C64-B07E-4DCD-9126-340B2AAB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EE8-6C63-4DEA-8FF8-D75CF33E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F24-0321-45E3-A629-95372161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51CA-C657-4240-9131-2F4C675A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FE07-84B0-4E65-AE4B-E4D8264C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BB62-919E-4BB2-9C64-1076A009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CDE2-6531-4127-9314-D5C098EB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E9D8-0DBF-472B-A138-293690DA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4AB0-6CB4-46DE-A504-CE9ADC60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9D6B-F52A-4C61-A245-BFCE89E1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64A-0299-41C6-B60E-413BDB5D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C845-F85C-4176-BDD2-2945312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8704-2BA5-4B73-8FE0-A4B48D59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848-8E74-4A47-B598-290EB57B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9202-CD3A-413F-8C8F-C55FB4FA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4E47-99D9-4C14-A81A-C03420C3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EF387-05DC-4E02-9764-45C3B5E438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AB30C-0956-48D9-964E-473ED994E6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C83D6-DFE4-4AF2-B971-9DC3837C21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97F2F-8E5E-42E2-94A2-A69486B895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07DAE-34B6-4E4B-A4FC-02307D505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EBC-B83E-44AE-BFD8-CB7FC8F5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03EEA-220A-4920-86DB-2FBE208B0A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BF202-EDBA-483B-9F14-A55474AD34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EBCDE-E4BA-4C94-8D16-8C8DB03D2E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111A1-152A-4653-8FBD-E04DEC000B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84B62-A2BE-43A2-8169-DE28062A59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F4236-1672-4A28-8091-32838BC768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2FA1E-D0A2-48E7-BAB2-9E9745436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85D-E05C-4524-8011-ADFCB53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B4A-135A-4F1E-AB5C-C76E2C2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8CA-3277-46EF-A924-11644A12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EB5-C20F-425E-AE94-85BE0770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7BB-562E-4DD3-BB4A-B5C5F393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084-5945-4DCF-8D82-A883798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7A621-B60B-4052-9E14-D46F1867E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89A42-068B-41DA-8C09-A0B58CC5D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73040" y="7008840"/>
            <a:ext cx="2992320" cy="3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7bb"/>
              </a:gs>
              <a:gs pos="100000">
                <a:srgbClr val="fff2e8"/>
              </a:gs>
            </a:gsLst>
            <a:lin ang="13500000"/>
          </a:gradFill>
          <a:ln w="25560">
            <a:solidFill>
              <a:srgbClr val="fcd5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00" y="1101600"/>
            <a:ext cx="842652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00" y="6929280"/>
            <a:ext cx="842616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3120"/>
            <a:ext cx="9069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728120" y="0"/>
            <a:ext cx="235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472680" y="7008480"/>
            <a:ext cx="3189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MCRivara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2E00-FE04-4843-B014-421CCDD0637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0280" y="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ación de objetos 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e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ación de 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idos básicos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jas, esferas y  cilindros, entre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ir sólidos más complejos a partir de sólidos básicos aplicando operadores booleanos (unión, intersección y difer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686800" cy="145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2743200"/>
            <a:ext cx="7027920" cy="2322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ndo túneles a través de un bloque usando el operador res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objeto se almacena e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árboles binari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lamado CGS tre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dos internos almacenan operadores o transformaciones y nodos hoja los objetos primi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o d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operadores regularizado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mantener objetos homogéneos en la dimensión que se mod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2D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81160" y="3200400"/>
            <a:ext cx="5248440" cy="3379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0" y="6629400"/>
            <a:ext cx="1384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4760" y="6629400"/>
            <a:ext cx="1547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3D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8458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emos que el objeto se almacena e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árboles binari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lamado CGS tre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dos internos almacenan operadores o transformaciones y nodos hoja los objetos primi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no tenemos la representación explícita de la superficie, cómo podemos calcular su volumen? Cómo podemos  saber  que partes serán visib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alcula la intersección de un rayo (línea) con 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ar que si  un rayo intersecta una primitiva no necesariamente intersectará el sólido resultante pues ésta puede ser restada d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saber qué punto es visible, de los segmentos interiores se obtiene el punto más cercano al punto de vist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detalles cuando veamos algoritmos de ray tra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mo calcular el volum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écnica de ray ca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sparan rayos equi-espaciados, emanando por ejemplo del plano xy (firing plane)en la direcció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2"/>
          <a:srcRect l="34344" t="31344" r="34604" b="41297"/>
          <a:stretch/>
        </p:blipFill>
        <p:spPr>
          <a:xfrm>
            <a:off x="2971800" y="3657600"/>
            <a:ext cx="5102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9920" y="12621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las intersecciones con cada primitiva y ordenarlas con respecto al firing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mites de la superficie de cada objeto compuesto es determinado por el conjunto de operaciones espec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8" name="" descr=""/>
          <p:cNvPicPr/>
          <p:nvPr/>
        </p:nvPicPr>
        <p:blipFill>
          <a:blip r:embed="rId2"/>
          <a:srcRect l="13529" t="29097" r="50321" b="44241"/>
          <a:stretch/>
        </p:blipFill>
        <p:spPr>
          <a:xfrm>
            <a:off x="228600" y="32004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59591" t="36714" r="14171" b="44241"/>
          <a:stretch/>
        </p:blipFill>
        <p:spPr>
          <a:xfrm>
            <a:off x="5715000" y="5257800"/>
            <a:ext cx="387828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9920" y="1261800"/>
            <a:ext cx="9070920" cy="7095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qué sistema de coordenadas se calculan las intersecci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cada primitiva está definida en sus propias coordenadas (coordenadas de modela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posición  en WC es determinada por las transformaciones de modeling definidas para lograr que los objetos primitivos se superpo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nsformación inversa es aplicada al rayo para llevarlo a las coordenadas de modelamiento y allí se calcula la intersección con los objetos primitivos individ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9920" y="1467000"/>
            <a:ext cx="9070920" cy="70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ment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ómo calcular el volu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r área de cada pixel en el firing plane por un cuadrado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olumen a lo largo del camino del rayo  originado en el pixel (i,j) 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de               es  la profundidad del objeto a lo largo del ra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olumen aproximado total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65560" y="3456000"/>
                <a:ext cx="1763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14800" y="2313000"/>
                <a:ext cx="546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14600" y="4572000"/>
                <a:ext cx="66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935520" y="5923080"/>
                <a:ext cx="1550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9920" y="1466640"/>
            <a:ext cx="9070920" cy="6213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 método  para  calcular el volumen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El método de Monte C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estocástico basado en técnicas probabilís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errar el sólido en un cuboide (bounding box más pequeña que lo rod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r puntos aleatorios, uniformente  distribuidos dentro del cuboide: algunos caeran dentro del sólido y otros fu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obabilidad que un punto caiga dentro del sólido es igual a la razón entre el volumen del sólido y el volumen del cubo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96920" y="5943600"/>
                <a:ext cx="8288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úm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t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ólid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úm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enerados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ólido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boide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: Qué es un sól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metría sólida constructiva (Constructive solid model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ción de barrido (Sweep-re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omposición espacial en cel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9920" y="1467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ción comp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 de datos es robu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orma de crear los objetos basados en los operadores booleanos intersección, resta y unión es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ones de adyacencia no están explíc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mite acceso directo a los vértices y arcos del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 representación no es única (no es fácil determinar si dos representaciones representan el mismo sól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acena la geometría y topología del sóli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ía modela posición, tamaño y ori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ía modela adjacencia y con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S: qué almac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094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01560"/>
            <a:ext cx="9070920" cy="95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del objeto encerrado por un conjunto de caras orie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entación 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ector norm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permite distinguir dos lados de l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y de Euler: chequea validez topológica de la B-r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-E+F = 2 (para poliedro si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-E+F -H = 2(C-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número de vé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número de ar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número de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número de cavidades en las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número de tún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número de cuerp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: O'Rourke, Computational geometry in C. pp105.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797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ndo la formula de Eu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boide con un tunel y una cavidad (no atraviesa el cubo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 Non-manif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2590920"/>
            <a:ext cx="1676520" cy="1066680"/>
            <a:chOff x="3429000" y="2590920"/>
            <a:chExt cx="1676520" cy="1066680"/>
          </a:xfrm>
        </p:grpSpPr>
        <p:grpSp>
          <p:nvGrpSpPr>
            <p:cNvPr id="201" name=""/>
            <p:cNvGrpSpPr/>
            <p:nvPr/>
          </p:nvGrpSpPr>
          <p:grpSpPr>
            <a:xfrm>
              <a:off x="3429000" y="2590920"/>
              <a:ext cx="1676520" cy="1066680"/>
              <a:chOff x="3429000" y="2590920"/>
              <a:chExt cx="1676520" cy="106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429000" y="3048120"/>
                <a:ext cx="1143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72000" y="2590920"/>
                <a:ext cx="533520" cy="10666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336" h="672">
                    <a:moveTo>
                      <a:pt x="0" y="288"/>
                    </a:moveTo>
                    <a:lnTo>
                      <a:pt x="336" y="0"/>
                    </a:lnTo>
                    <a:lnTo>
                      <a:pt x="336" y="432"/>
                    </a:lnTo>
                    <a:lnTo>
                      <a:pt x="0" y="6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29000" y="2590920"/>
                <a:ext cx="1676520" cy="45720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056" h="336">
                    <a:moveTo>
                      <a:pt x="0" y="336"/>
                    </a:moveTo>
                    <a:lnTo>
                      <a:pt x="336" y="0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4343400" y="2819520"/>
              <a:ext cx="228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3400" y="2666880"/>
              <a:ext cx="444600" cy="147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9880" y="2743200"/>
              <a:ext cx="444600" cy="147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2895480"/>
              <a:ext cx="228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9880" y="2895480"/>
              <a:ext cx="222480" cy="38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8480" y="2743200"/>
              <a:ext cx="228600" cy="533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44" h="336">
                  <a:moveTo>
                    <a:pt x="144" y="0"/>
                  </a:moveTo>
                  <a:lnTo>
                    <a:pt x="144" y="192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0" y="2666880"/>
              <a:ext cx="228600" cy="762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44" h="480">
                  <a:moveTo>
                    <a:pt x="144" y="0"/>
                  </a:moveTo>
                  <a:lnTo>
                    <a:pt x="144" y="384"/>
                  </a:lnTo>
                  <a:lnTo>
                    <a:pt x="0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43400" y="2819520"/>
              <a:ext cx="228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24280" y="3971880"/>
            <a:ext cx="685800" cy="1143000"/>
            <a:chOff x="3824280" y="3971880"/>
            <a:chExt cx="685800" cy="1143000"/>
          </a:xfrm>
        </p:grpSpPr>
        <p:sp>
          <p:nvSpPr>
            <p:cNvPr id="214" name=""/>
            <p:cNvSpPr/>
            <p:nvPr/>
          </p:nvSpPr>
          <p:spPr>
            <a:xfrm>
              <a:off x="3824280" y="3971880"/>
              <a:ext cx="685800" cy="11430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72040" y="4255920"/>
              <a:ext cx="1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4760" y="5486400"/>
            <a:ext cx="1984680" cy="1373040"/>
            <a:chOff x="4874760" y="5486400"/>
            <a:chExt cx="1984680" cy="1373040"/>
          </a:xfrm>
        </p:grpSpPr>
        <p:sp>
          <p:nvSpPr>
            <p:cNvPr id="217" name=""/>
            <p:cNvSpPr/>
            <p:nvPr/>
          </p:nvSpPr>
          <p:spPr>
            <a:xfrm flipH="1">
              <a:off x="5179680" y="5486400"/>
              <a:ext cx="76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08280" y="5943600"/>
              <a:ext cx="76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3600" y="54864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480" y="5943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72200" y="59436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64008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95880" y="5942160"/>
              <a:ext cx="762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0" y="59436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64008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95880" y="6399360"/>
              <a:ext cx="762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10080" y="6400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75120" y="5943600"/>
              <a:ext cx="308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874760" y="6400800"/>
              <a:ext cx="536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01560"/>
            <a:ext cx="9070920" cy="772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obtener la representación del bor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cificación por  el usuario de cada vértice y c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muy lento, es fácil equivocarse,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r el borde a partir de una especificación CSG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 lo proveen los modeladores de sól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r el borde a partir de una secuencia de imágenes 2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: marching cubes .. más adel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y cuánta almacen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ínim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rtices y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ineficiente para encontrar relaciones  adyacen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501920"/>
            <a:ext cx="90709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s de datos para un poliedro basado especificado por un conjunto de polígonos (pseudo-java). Qué queremos consult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arcos que rodean una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as las caras adyacentes a un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vértices de una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arcos que pasan por un vér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permite consultar la siguiente estructura de datos en O(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00" y="4381560"/>
            <a:ext cx="1449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23960" y="4343400"/>
            <a:ext cx="20480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ndpoint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4840" y="4343400"/>
            <a:ext cx="19731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verti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n_verti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51760" y="4343400"/>
            <a:ext cx="19922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lyhedr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715000"/>
            <a:ext cx="18842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point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poi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5715000"/>
            <a:ext cx="18446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5480" y="5715000"/>
            <a:ext cx="1809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501920"/>
            <a:ext cx="90709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 de datos clásica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la estándar para representar la topología con un compromiso razonable entre espacio y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da arco  “apunta a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értices: Previo (P) y Next (N) (orien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s: Left (L) y Right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r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da cara y vértice apunta a un arco que lo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4344840"/>
            <a:ext cx="144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d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343400"/>
            <a:ext cx="192096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evio,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,nr,pl,n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3040" y="4371840"/>
            <a:ext cx="1503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22960" y="4344840"/>
            <a:ext cx="19922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lyhedr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5480" y="5943600"/>
            <a:ext cx="1809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5943600"/>
            <a:ext cx="18842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point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poi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84560" y="5945040"/>
            <a:ext cx="18446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886200" y="3429000"/>
                <a:ext cx="2286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343640" y="3078000"/>
            <a:ext cx="248616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1488960"/>
            <a:ext cx="9070920" cy="70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 puede saber qué arcos comparten un mismo vértice  sin recorrer todos los ar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put: índice al vért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oritm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5240" y="2973240"/>
            <a:ext cx="144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d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9640" y="2971800"/>
            <a:ext cx="192096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evio,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,nr,pl,n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97440" y="2971800"/>
            <a:ext cx="1503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858000" y="1935000"/>
            <a:ext cx="2486160" cy="2865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971800" y="5460840"/>
            <a:ext cx="6348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ener arc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contiene el vé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 = left, f_final = 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_fi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r e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l,n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tro arc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contiene al vé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r la cara vecina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inta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almacenarla e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uede usa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geometrías con hoyos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inserta un arco auxiliar. Este arco auxiliar tiene la misma cara por ambos 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9534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01920"/>
            <a:ext cx="9070920" cy="75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s el cálculo de volumen en una B-re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ndo ray casting? 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ndo Montecarlo?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manera exact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Triangular los polígonos de l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rientar caras de tal manera que todas las normales esten  hacia  af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egir un punto P cualquiera del espacio fuera del polie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olume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For each cara f del  polie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-43020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olumen += Determinante (f0,f1,f2,P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basa en la suma del volumen de tetraedros. La cuarta columna de la matriz contiene 1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qué es un sólid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óli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s un objeto en 3D  en el que está claramente definido su interior y ex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ificar si  punto (x,y,z) está  en el interior, borde o exterior del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propiedades tales como  volumen y momentos de ine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interferencias o detectar col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4305240"/>
            <a:ext cx="4219560" cy="232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257800" y="4390920"/>
            <a:ext cx="4286160" cy="22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6750000"/>
            <a:ext cx="42768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wireframe (solo arcos y vért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6858000"/>
            <a:ext cx="158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só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501920"/>
            <a:ext cx="907092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información sobre adyacancia (vecindades) está explícita en la re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presentación ú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dores booleanos son difíciles de impl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necesita calcular intersecciones de manera explícita y actualizar la topología en la  estructur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blemas de robustez en el cálculos de operaciones matemáticas usando punto flo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de barrido (sweep 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o 3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 crea a partir de hacer un barrido con un objeto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tar con respecto a un eje (volumen de revolu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splazar en una cierta trayectoria o cu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de barrido (sweep 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o se descompone en celdas básicas que se intersectan solo en los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eldas básicas 2D: triángulos y cuadrilá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eldas básicas 3D: tetraedros, hexaedros, pirámides y prismas, entre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86000" y="41148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360" y="153180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umeración espacial simple (malla de voxels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ón generada por cubos (voxels) de igual tamaño, generalmente  de arcos paralelos a los ejes prin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ólido se representa por los cubos que están dentro o intersectan el borde d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33360" y="4181400"/>
            <a:ext cx="40100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trees ( representar objetos 2D) variando el tamaño de los cuad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dear objeto por cuadrado más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vidir en cuatro hasta lograr precisión des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ructura de datos: ár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79268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trees (representar objetos 2D): otro 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5730840" cy="2681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914400" y="2743200"/>
            <a:ext cx="2603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rees ( representar objetos 3D variando el tamaño de los cuad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dear objeto porcubo más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vidir en ocho hasta lograr precisión des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ructura de datos: ár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286000" y="4114800"/>
            <a:ext cx="5715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re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dores unión e intersección (sobre un  quadtre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849920" y="2286000"/>
            <a:ext cx="2236680" cy="25146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5405400" y="5029200"/>
            <a:ext cx="1681200" cy="2286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3000" y="2743200"/>
            <a:ext cx="384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2640" y="2514600"/>
            <a:ext cx="281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13560" y="5408640"/>
            <a:ext cx="1173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5670720"/>
            <a:ext cx="958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licaciones con octrees o quadtre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28600" y="2104920"/>
            <a:ext cx="3333600" cy="36100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881520" y="4343400"/>
            <a:ext cx="3662280" cy="3024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629400" y="1371600"/>
            <a:ext cx="3381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geometría versus top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eometrí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tricas, dimensiones del objeto y su  posición en el sistema de coordenadas us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opologí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combinatoria como conectividad, asociatividad y vecindad. Información invi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6200" y="6629400"/>
            <a:ext cx="387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 topología, distinta ge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4057560"/>
            <a:ext cx="690552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álculo de volume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r volumen de cu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como unión, intersección y resta son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puesto: definir todos l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: se necesitan muchas celdas cuando hay que representar superficies curvas y detalles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es: generación de mallas de tetreadros y mix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ación de los modelo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600200"/>
            <a:ext cx="907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47840" y="1414440"/>
          <a:ext cx="8707320" cy="5325840"/>
        </p:xfrm>
        <a:graphic>
          <a:graphicData uri="http://schemas.openxmlformats.org/drawingml/2006/table">
            <a:tbl>
              <a:tblPr/>
              <a:tblGrid>
                <a:gridCol w="2175840"/>
                <a:gridCol w="2176200"/>
                <a:gridCol w="2176200"/>
                <a:gridCol w="2179080"/>
              </a:tblGrid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ción (chequear que el modelo es váli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í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radura (bajo operadores boolean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difícil de implement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(en comparación de CG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manifold versus non-manif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wo-manifol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s bien definidos, cerrados y homomórficos a una bola topológ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n-manifol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s descritos por partes wireframe, no cerradas y sóli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82389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os wire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Ambigu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Subjetivos a la interpretación hum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Objetos complejos con muchos arcos son confu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No permiten calcular propiedades como masa, detectar colision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371600" y="4686480"/>
            <a:ext cx="250524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28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idez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orma del sólido es invariante con respecto a cambios de posicion y ori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omogéneos tridimensionalmen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borde del sólido debe estar en contacto con el interior y exterior. No se permiten  arcos “dangling” ni caras “dangl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itos y descripción finit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ólido es acotado y se describe con  una cantidad finita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erradura bajo movimientos rígidos y operaciones booleanas regularizada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mientos sobre los objetos y operaciones booleanas deben producir objetos vál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00200" y="4883040"/>
            <a:ext cx="721044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modelo debe establec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Domini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el tipo de objetos que puede ser representado (alc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Validez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debe ser un sólido bien defini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Completitu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datos suficientes para la descripción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Unicida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importante para comparar si dos objetos son ig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No ambigued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: representar sólo un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4457880"/>
            <a:ext cx="86295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s de sóli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ía sólida constructiva (Constructive solid modeling CS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del borde (b-rep boundary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de barrido (sweep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3:37:21Z</dcterms:created>
  <dc:creator>Nancy Hitschfeld</dc:creator>
  <dc:description/>
  <dc:language>en-US</dc:language>
  <cp:lastModifiedBy/>
  <dcterms:modified xsi:type="dcterms:W3CDTF">2012-05-17T15:47:29Z</dcterms:modified>
  <cp:revision>56</cp:revision>
  <dc:subject/>
  <dc:title/>
</cp:coreProperties>
</file>