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7BD-F698-47A5-A5C7-AC7B367E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962-C474-4464-AE98-AC68FDF3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5BA-BFDA-46CE-92EF-AEDD7A57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B5C-A25F-45F6-A99B-C2EB4E59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0463-A36E-4FCB-8A93-3CF44414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0C24-58AC-4B1F-AD07-E17C1482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0C1A-2DB8-4D55-B4B6-024ACEFD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BD5-7B57-4A7D-AE5E-A78A980F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CAA2-092C-4A4E-9B41-225617B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501F-1033-4EC2-8A77-94E3BE3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4EBC-7909-4CF1-BE86-74099A8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AF1-ABC6-421D-ACEC-44AECE24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498-2A72-42C0-AA39-7DAB57E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1D32-215E-4236-8935-054FA9F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810F-FAD3-437B-9EB9-717544D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B892-0B2D-44A4-8D19-526B1106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471-74B9-457E-8284-407B0A38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CAAEB-F06F-4AC2-A7A8-F6DD153DA5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A3406-DC3D-4FD4-8B86-F726091437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FA7B6-6860-4129-B246-267A6A2961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D5B78-9284-49B6-99E1-CA4F6A7BEF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D6A3B-CA47-40A4-9AB0-3D5C37F9C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15B-861E-4285-A6C8-26489FD3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52086-1058-45A4-9082-63DB98324B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409F6-9DAD-4BDB-843B-F90EFEA038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3B008-81CB-4719-BC54-EF1FD62C55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4E080-DF22-4920-BE00-4A872BE511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DE521-FDE9-40CF-A366-51550DAF94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6D2C3-37A8-43BA-8BA6-E4297348FE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E0A60-F6CB-41CF-BFD5-0BA586AC7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438-15A5-4C11-A65A-C97CA88A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A2F-EA84-448D-9912-D45EDB8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2A3-83C1-4F9F-8AE8-96D1E70F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31E-5744-475E-807A-0E7E43A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D9B-BDF6-4E33-B5C6-870BC03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4AA-DC2F-4B40-851E-72190159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71F43-64F4-4B4D-A901-AA9AC0BC9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92B2F-1E68-4C84-BC98-DC7A0F94F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3040" y="7008840"/>
            <a:ext cx="299232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7bb"/>
              </a:gs>
              <a:gs pos="100000">
                <a:srgbClr val="fff2e8"/>
              </a:gs>
            </a:gsLst>
            <a:lin ang="13500000"/>
          </a:gradFill>
          <a:ln w="25560">
            <a:solidFill>
              <a:srgbClr val="fcd5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00" y="1101600"/>
            <a:ext cx="842652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6929280"/>
            <a:ext cx="842616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69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728120" y="0"/>
            <a:ext cx="235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72680" y="7008480"/>
            <a:ext cx="3189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MCRivara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7365E-5F91-467D-A6F0-C71A48780F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ación de objetos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las de polígonos y triang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774800"/>
            <a:ext cx="475452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almacenar la informació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repetir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r tabl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bla de vért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s coordenadas de los p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bla de ar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ene índices (punteros) a sus puntos extremos en la tabla de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bla de póligo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ene índices (punteros) a los arcos en la tabla de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80060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99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é otra información puede ser interesa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indad entre triángulos: Arco         es compartido por ambos los polígo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34324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943600" y="20574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2322360"/>
                <a:ext cx="16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7200" y="3225960"/>
            <a:ext cx="480060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63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qué es út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r los polígonos (las librerías gráficas suponen que son correctos) y que la malla sea conexa (no hay vértices, arcos ni caras aisla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enece  cada vertice extremo a al  menos dos ar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enece cada arco a uno o  dos polígo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cada polígono cerr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 cada polígono al menos un arco comparti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co debe referenciar por lo menos un políg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elementos vecinos de manera eficiente (no recorriendo todos los vertices, caras o ar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os in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malla de polígonos tiene una geometría y topología aso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os topológic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értices, arcos y c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os geométric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ntos, segmentos y políg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 topología asoci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definen las relaciones de vecin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ción? Debe ser geométrica y top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: vector normal y cara frontal y posteri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calcular el vector normal aproximado de un polígo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uación del plano: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x + By +  Cz +D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A,B,C)(x,y,z) = -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res vértices calcular una n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como normal del polígono el promedio de las 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a frontal y posterior del políg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 + By +  Cz +D &lt; 0  =&gt; (x,y,z) detrás del plano (polígon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 + By +  Cz +D &gt; 0 =&gt;  (x,y,z) al frente del plano (polígon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57400" y="4869000"/>
            <a:ext cx="278136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una escena tiene más de cien o mil polígonos, no podemos especificarlos de a uno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 general estos objetos se modelan y crean usando modeladores de superficies y sólidos tales como solid Edge, Blender, SolidWorks, etc o a través de algoritmos de procesamiento de imágenes tales como marching-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provee una manera de dibujar esta escena pasando todos los datos geométricos a través de la llamada a una sola fun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amos como dibujar un Cubo c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tex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 Opengl de la man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ta hasta a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662940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429000" y="5715000"/>
            <a:ext cx="405756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" y="18288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8600" y="45720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 Opengl con vertex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590840" y="4800600"/>
            <a:ext cx="7324560" cy="1714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866960" y="6629400"/>
            <a:ext cx="5448240" cy="399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200400" y="2286000"/>
            <a:ext cx="6629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60120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los pasos involucrad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r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ClientState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VERTEX_ARRAY) para activar este mo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Pointer para especificar  las coordenadas de los punt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bujar la escena usand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r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ClientState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VERTEX_ARRAY)   para desactivar este m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Pointer(size,type,stride,arra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: numero de coordenadas usada para cada ve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GL_INT, GL_FLOAT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de: desplazamiento en número de bytes comienzo siguiente coorde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Elements(prim,num,type,arra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: GL_QUADS, GL_TRIANGL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: número de elementos en ar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GL_UNSIGNED_BYTE (para índice pequeños), GL_INT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polígono de la malla es un triángul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: representar  la superficie  de  objetos par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ción numérica en aplicaciones científicas y de 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ción de una malla de volumen (tetraedros, hexaedros o mix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en juegos y entreten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ación de terr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029440" y="2971800"/>
            <a:ext cx="1800360" cy="2181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57800" y="4400640"/>
            <a:ext cx="2514600" cy="2457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600200" y="4962600"/>
            <a:ext cx="304812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ígonos simples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cenamiento de mallas de políg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y mallas de políg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ulaciones y curvas de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639440"/>
            <a:ext cx="9070920" cy="585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as de triángulos en 3d ( 2 1/2 dimensio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eno función h(x,y)  en el espacio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ión h definida dentro de un cuadrado/rect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id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la uniforme(triángulos igu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malla no uniforme(tri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distinto 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terreno tambien se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r con mallas de cuadrilát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36576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143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as de triángulos en 3d ( 2 1/2 dimensio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: datos equi-espaciados en x 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r grilla recta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n tri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ura de los puntos dada por h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r triángulos en zona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c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320" y="1143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as de triángulos en 3d ( 2 1/2 dimensio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: datos equi-espaciados en x 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r el rectángulo más gr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n dos tri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triángulos más pequeños 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terreno no está a la misma a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038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143000" y="4660920"/>
            <a:ext cx="44258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sando fracta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(wikipedia fractals animación y lec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triángulo se divide en 4 triángulos ig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ores asociados a  h(x,y) (elevación) a partir de puntos medios de los arcos  y se suma (o resta) un valor  aleatorio (no se usan datos re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2933640" cy="800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104840" y="4800600"/>
            <a:ext cx="3695760" cy="2514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257800" y="457200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: curvas de ni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639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datos podriamos querer visualizar de un terren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as (líneas)  a la misma altur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, por ejemplo, curvas de ni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: curvas de ni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639800"/>
            <a:ext cx="907092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calcular curvas de niv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ada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ción y valor (o valores de la curvas de nivel) de alturas que se quieren visualiz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id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la, curvas de nivel aproximadas por segmentos de lín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 un triángulo t que corte la “curva” definida a altura H: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értices del triángulo tiene h(x,y) mayor y menor que que el valor 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r los puntos a igual altura H con un seg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exista triángulo vecino cortado por la curva de altura H distinto de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21440" indent="-42588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 arcos que que intersectan la cu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21440" indent="-42588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r puntos de intersección con un seg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: curvas de ni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curvas de nivel H = 12.5  y H = 11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014640" y="2514600"/>
            <a:ext cx="3614760" cy="3584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0200" y="6629400"/>
            <a:ext cx="3865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Y si buscamos para H = 12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conceptos geométr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ita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29400" y="9144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86400" y="411480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  3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 plana definida por tres o más vértices delimitada por un b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os adyacentes se intersectan solo  en uno  de sus vértices ext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y arcos que se intersecten (excepto caso a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triángulos, cuadrilátero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19920" y="4638600"/>
            <a:ext cx="380988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" y="4565520"/>
            <a:ext cx="546588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vex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ángulos interiores menor a 180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óncav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705120" y="2533680"/>
            <a:ext cx="61246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gonos degener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s colin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os que se cru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igual a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erías  gráficas requieren polígon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(primitivas de relleno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eden presentar problemas con polígonos simples conca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é pasa si puntos no son coplanares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43800" y="1333440"/>
            <a:ext cx="2286000" cy="2324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65640" y="2252520"/>
            <a:ext cx="192096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mo transformar un polígono cóncavo en convex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ocer un polígono concavo? Usar producto cruz entre arcos adya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positivos o negativos =&gt; conv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809880" cy="282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6858000"/>
            <a:ext cx="368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tices en orden CW (clock-w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43520" y="6740640"/>
            <a:ext cx="465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tices ne orden CCW (counter clock w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ntrar vértice reflejo (angulo interior &gt; 18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r el polígono en dos o más polígonos   usando la línea que pasa por los arcos que contienen este vér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petir proceso en cada polígono generado hasta que todos los poligonos sean convex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88612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3409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gono convexo en triángu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ger 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r triángulos P0,Pi,Pi+1,  i=1..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: número de vért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uso de triángulos evita tratar polígonos con puntos no coplan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75360" y="2514600"/>
            <a:ext cx="4425840" cy="344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3:37:21Z</dcterms:created>
  <dc:creator>Nancy Hitschfeld</dc:creator>
  <dc:description/>
  <dc:language>en-US</dc:language>
  <cp:lastModifiedBy/>
  <dcterms:modified xsi:type="dcterms:W3CDTF">2012-05-03T16:21:44Z</dcterms:modified>
  <cp:revision>23</cp:revision>
  <dc:subject/>
  <dc:title/>
</cp:coreProperties>
</file>