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6D1-E619-4DA2-AC28-559EFB36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75E-4257-41B5-9236-B9BB848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F20-9C66-4D46-A6E9-9D8CA6DA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D80-D402-4843-B3D6-ECDA7905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84D9-2566-43F7-8A6A-39AFB441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8385-ED2F-452A-92D1-B9BBFE65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F92C-EF75-4FD0-9BA4-166CB5F3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A568-9CAD-4483-A3A8-2E41DE1E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13E0-E2C6-43C2-9EFB-9E8E613B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FD1A-5BD2-4C89-8030-4F5E5865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136E-9414-4EEB-8E0C-5BC95937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5D7-C398-4B73-81D4-F097EF19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BC09-72BA-433A-8F3A-78AE0AA6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19BA-62AA-480A-A0F7-6E23452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DD49-37E0-4C44-89CD-7EC3BAD2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4CE7-42DC-4BB5-B6B2-2E7072A8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ADB6-D7F8-4DAC-A4FB-312E6C8A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90199-B803-4CC6-98A1-60BB54D6ED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AABD4-D73B-4198-9D95-D328B47108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30235-B3AB-4F1E-AA4B-E453E1A4A8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125EE-940F-4EED-9B73-C4511F5F7B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5F623-9DA7-480B-AC26-F9C0880E8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BDE-CA59-4DD1-8D52-9B812437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BC208-7F45-4401-BD2A-E9052AE100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2F988-A263-45ED-9044-F2B3BD1831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E7EE4-634E-4CCF-B09D-D1580FA4AC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6FA52-7B41-46F4-8649-61BD74D54C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BFFC1-0D3A-4421-8950-AA14D43411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FE446-7E13-4B0A-B1FF-6BA476F5F2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EF213-C63C-411D-84B4-FEABCBC59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543-18B4-46E4-9CDD-CCA5005E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98D-9A3B-41C0-9A98-1D32AC7A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57C-03AB-4982-A876-64CF93FB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AD7-136C-4407-833B-969B0D83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871-0E63-4C70-B9D5-C2D29A11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3E9-9603-4E5F-BEC4-B4EBBA2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52EB6-EC5E-44A4-A109-94F69864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C2FE1-D893-4805-8E96-42A689B2E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73040" y="7008840"/>
            <a:ext cx="2992320" cy="3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7bb"/>
              </a:gs>
              <a:gs pos="100000">
                <a:srgbClr val="fff2e8"/>
              </a:gs>
            </a:gsLst>
            <a:lin ang="13500000"/>
          </a:gradFill>
          <a:ln w="25560">
            <a:solidFill>
              <a:srgbClr val="fcd5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00" y="1101600"/>
            <a:ext cx="842652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00" y="6929280"/>
            <a:ext cx="842616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3120"/>
            <a:ext cx="9069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728120" y="0"/>
            <a:ext cx="235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472680" y="7008480"/>
            <a:ext cx="3189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MCRivara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ED81A-76F6-4F2C-9E07-EDE16E66779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0280" y="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ación de objetos 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e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las de polígonos y triang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macenamiento de mallas polígonos si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774800"/>
            <a:ext cx="475452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almacenar la informació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 repetir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r tabla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abla de vért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las coordenadas de los pu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abla de ar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iene índices (punteros) a sus puntos extremos en la tabla de vé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abla de póligon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iene índices (punteros) a los arcos en la tabla de ar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480060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macenamiento de mallas polígonos si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99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é otra información puede ser interesa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indad entre triángulos: Arco         es compartido por ambos los polígo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34324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943600" y="20574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43400" y="2322360"/>
                <a:ext cx="164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7200" y="3225960"/>
            <a:ext cx="480060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macenamiento de mallas 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63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qué es út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r los polígonos (las librerías gráficas suponen que son correctos) y que la malla sea conexa (no hay vértices, arcos ni caras aisla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enece  cada vertice extremo a al  menos dos ar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enece cada arco a uno o  dos polígo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cada polígono cerr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ne cada polígono al menos un arco comparti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co debe referenciar por lo menos un políg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elementos vecinos de manera eficiente (no recorriendo todos los vertices, caras o arc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macenamiento de mallas 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os in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malla de polígonos tiene una geometría y topología asoc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entos topológic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értices, arcos y c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entos geométric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ntos, segmentos y políg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 topología asoci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definen las relaciones de vecin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ción? Debe ser geométrica y top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: vector normal y cara frontal y posteri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calcular el vector normal aproximado de un polígo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uación del plano: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x + By +  Cz +D =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o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A,B,C)(x,y,z) = -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res vértices calcular una n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como normal del polígono el promedio de las nor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a frontal y posterior del políg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x + By +  Cz +D &lt; 0  =&gt; (x,y,z) detrás del plano (polígon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x + By +  Cz +D &gt; 0 =&gt;  (x,y,z) al frente del plano (polígon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50292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057400" y="4869000"/>
            <a:ext cx="2781360" cy="22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las de polígonos y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una escena tiene más de cien o mil polígonos, no podemos especificarlos de a uno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 general estos objetos se modelan y crean usando modeladores de superficies y sólidos tales como solid Edge, Blender, SolidWorks, etc o a través de algoritmos de procesamiento de imágenes tales como marching-c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provee una manera de dibujar esta escena pasando todos los datos geométricos a través de la llamada a una sola fun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amos como dibujar un Cubo c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rtex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as de polígonos y OpenG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ndo  Opengl de la man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ta hasta a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6629400" cy="914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5257800" cy="274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429000" y="5715000"/>
            <a:ext cx="405756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" y="18288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8600" y="457200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as de polígonos y OpenG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ndo  Opengl con vertex a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590840" y="4800600"/>
            <a:ext cx="7324560" cy="1714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866960" y="6629400"/>
            <a:ext cx="5448240" cy="399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200400" y="2286000"/>
            <a:ext cx="6629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as de polígonos y OpenG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60120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los pasos involucrad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r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ClientState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VERTEX_ARRAY) para activar este mo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Pointer para especificar  las coordenadas de los punt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bujar la escena usando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r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ClientState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VERTEX_ARRAY)   para desactivar este m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Pointer(size,type,stride,arra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: numero de coordenadas usada para cada ver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GL_INT, GL_FLOAT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de: desplazamiento en número de bytes comienzo siguiente coorde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Elements(prim,num,type,arra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: GL_QUADS, GL_TRIANGL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: número de elementos en ar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GL_UNSIGNED_BYTE (para índice pequeños), GL_INT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angul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polígono de la malla es un triángul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licaciones: representar  la superficie  de  objetos par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ción numérica en aplicaciones científicas y de ingeni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ción de una malla de volumen (tetraedros, hexaedros o mix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en juegos y entreten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ación de terr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029440" y="2971800"/>
            <a:ext cx="1800360" cy="2181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257800" y="4400640"/>
            <a:ext cx="2514600" cy="2457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600200" y="4962600"/>
            <a:ext cx="304812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ígonos simples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acenamiento de mallas de políg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y mallas de políg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u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ulaciones y curvas de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ngulaciones para modelación de terre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639440"/>
            <a:ext cx="9070920" cy="585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as de triángulos en 3d ( 2 1/2 dimensio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eno función h(x,y)  en el espacio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ión h definida dentro de un cuadrado/rectáng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lid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la uniforme(triángulos igu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malla no uniforme(triáng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distinto tamañ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terreno tambien se pu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r con mallas de cuadrilát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36576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ngulaciones para modelación de terre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143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as de triángulos en 3d ( 2 1/2 dimensio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: datos equi-espaciados en x 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r grilla recta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en triá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ura de los puntos dada por h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r triángulos en zonas de a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c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36576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ngulaciones para modelación de terre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320" y="1143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as de triángulos en 3d ( 2 1/2 dimensio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: datos equi-espaciados en x 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r el rectángulo más gr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en dos triá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triángulos más pequeños 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terreno no está a la misma a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3657600" cy="3038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143000" y="4660920"/>
            <a:ext cx="442584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ngulaciones para modelación de terren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sando fracta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(wikipedia fractals animación y lectu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triángulo se divide en 4 triángulos ig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ores asociados a  h(x,y) (elevación) a partir de puntos medios de los arcos  y se suma (o resta) un valor  aleatorio (no se usan datos re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2933640" cy="800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104840" y="4800600"/>
            <a:ext cx="3695760" cy="2514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257800" y="457200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angulaciones: curvas de ni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6398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datos podriamos querer visualizar de un terren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as (líneas)  a la misma altura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, por ejemplo, curvas de ni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angulaciones: curvas de ni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639800"/>
            <a:ext cx="907092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calcular curvas de nive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ada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ngulación y valor (o valores de la curvas de nivel) de alturas que se quieren visualiz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lid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la, curvas de nivel aproximadas por segmentos de lín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ntrar un triángulo t que corte la “curva” definida a altura H: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értices del triángulo tiene h(x,y) mayor y menor que que el valor 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r los puntos a igual altura H con un seg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exista triángulo vecino cortado por la curva de altura H distinto de 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21440" indent="-42588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ntrar arcos que que intersectan la cu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21440" indent="-42588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r puntos de intersección con un seg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angulaciones: curvas de ni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r curvas de nivel H = 12.5  y H = 11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014640" y="2514600"/>
            <a:ext cx="3614760" cy="3584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0200" y="6629400"/>
            <a:ext cx="3865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Y si buscamos para H = 12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 conceptos geométr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ita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29400" y="91440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86400" y="411480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  3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a plana definida por tres o más vértices delimitada por un b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os adyacentes se intersectan solo  en uno  de sus vértices ext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ay arcos que se intersecten (excepto caso ant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: triángulos, cuadrilátero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19920" y="4638600"/>
            <a:ext cx="3809880" cy="244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57200" y="4565520"/>
            <a:ext cx="546588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vex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ángulos interiores menor a 180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óncav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705120" y="2533680"/>
            <a:ext cx="61246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gonos degener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os coline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os que se cru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igual a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erías  gráficas requieren polígon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(primitivas de relleno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eden presentar problemas con polígonos simples conca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é pasa si puntos no son coplanares?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43800" y="1333440"/>
            <a:ext cx="2286000" cy="2324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165640" y="2252520"/>
            <a:ext cx="1920960" cy="23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mo transformar un polígono cóncavo en convex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ocer un polígono concavo? Usar producto cruz entre arcos adya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positivos o negativos =&gt; conve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3809880" cy="2828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6858000"/>
            <a:ext cx="368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tices en orden CW (clock-w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43520" y="6740640"/>
            <a:ext cx="4657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tices ne orden CCW (counter clock w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ntrar vértice reflejo (angulo interior &gt; 18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r el polígono en dos o más polígonos   usando la línea que pasa por los arcos que contienen este vér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petir proceso en cada polígono generado hasta que todos los poligonos sean convex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886120" cy="2743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486400" y="4572000"/>
            <a:ext cx="34099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gonos si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gono convexo en triángul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ger 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r triángulos P0,Pi,Pi+1,  i=1..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: número de vért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uso de triángulos evita tratar polígonos con puntos no coplan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75360" y="2514600"/>
            <a:ext cx="4425840" cy="344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3:37:21Z</dcterms:created>
  <dc:creator>Nancy Hitschfeld</dc:creator>
  <dc:description/>
  <dc:language>en-US</dc:language>
  <cp:lastModifiedBy/>
  <dcterms:modified xsi:type="dcterms:W3CDTF">2012-05-03T16:21:44Z</dcterms:modified>
  <cp:revision>23</cp:revision>
  <dc:subject/>
  <dc:title/>
</cp:coreProperties>
</file>