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6CD-D2A4-41C3-BDB2-02892B3C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FEE-A29B-4EBD-B0BD-27D4D42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183-7FE3-4196-9F3F-F99132D8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4A6-EC3B-4E84-9BEB-6B3C1C84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1AA4-FCE5-4C88-A329-E0FCF277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56C7-89BA-4BD6-8A1B-05811D7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A0E7-B833-4DE6-8D61-2C0C6B0E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C5EA-372B-421D-810F-67F656C4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83B-9A43-4E9A-A2C6-FBC38A60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666-C181-4710-B2AA-08EAF79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2CA-24C1-4FC5-888B-D918621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A67-0CB0-4BBC-9AE8-13267DD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2AAC-8252-4502-A4DF-BC1B4A94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D224-6DB9-46D6-95D3-C4EB163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82B7-E202-4605-8F18-FEF65FF3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5225-9272-460F-9815-E7AC79CB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EFC1-857E-4B6F-8567-6F43436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DF2-343D-4B31-A34E-1A44AA2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264-BC8A-4FCF-B958-C17F386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7AF-667E-4997-99C4-15DCCB3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084-AB77-4BFA-928C-0FB1866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A90-14E8-441D-8E06-4AD89B8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F3E-CFC3-4093-8B90-4423469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434-2CF0-4899-B817-E25C91A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2AC97-ECA2-43D7-B3DD-4A048F78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62DDD-4961-4EB3-859F-285FA96CF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ón en  paralela versus proyección en perspecti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143000"/>
            <a:ext cx="2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3280" y="4375080"/>
            <a:ext cx="90709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 parale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isualización menos realista pero apropiada para mediciones exa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serva paralelismo de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 perspec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isión más realista, tamaño varía inversamente proporcional con l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No conserva paralelismo en las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19320" y="15652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8954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ing coordinates (V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720" y="1143000"/>
            <a:ext cx="95281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iew reference coordinate system(VRC) se define c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RP: viewing reference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fine el origen dell sistema de coordenadas de vi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PN(n): es el vector normal del view-pl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ano de proyección). Define dirección y sentido del eje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UP: view up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Vector cuya proyección en el “view plane” (v) defin el eje y del sistema de coorde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 eje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definido por el vector u = v x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rte del view plane interesa?  (Foley-Van Dam,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na definida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entana no necesita  ser simétrica con respecto al VRP (centro en CW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518148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938240"/>
                <a:ext cx="320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P (projection reference point) y DOP (projection direction) definidos en el sistema V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a: PRP es el centro de por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ela: CW-PRP define D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5160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943600" y="1371600"/>
            <a:ext cx="3276720" cy="252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4438800"/>
            <a:ext cx="342900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52800" y="3657600"/>
            <a:ext cx="5848200" cy="320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03280" y="1768320"/>
            <a:ext cx="90709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yección paralela: volumen de visión (view volu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aralelepípedo delimitado por un plano frontal y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fine la parte de la escena a proyectar en el view plane (plano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80" y="1768320"/>
            <a:ext cx="90709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yección perspectiva: volumen de visión (view volu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irámide truncada por un plano frontal y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fine la parte de la escena a proyectar en el view plane (plano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59976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ción de matriz en perspectiva si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19600" y="1768320"/>
            <a:ext cx="3490920" cy="4989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 de proyección (view plane) a distanci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unto a proy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yección de P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los triángulos semejantes, se obt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371600" y="3886200"/>
                <a:ext cx="2286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71600" y="5168880"/>
                <a:ext cx="231156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de matriz en perspectiva si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go para recuperar el punto en R³ debemos dividir por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59320" y="1828800"/>
                <a:ext cx="3659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0" y="2459160"/>
                <a:ext cx="3021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35160" y="3186000"/>
                <a:ext cx="836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3200" y="5075280"/>
                <a:ext cx="4403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 deducción de matriz en perspectiva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3360" y="189864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 de proyección z=0, centro de proyección z=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En este caso d puede tender a infinito... Qué signi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15000" y="1968480"/>
                <a:ext cx="3263760" cy="32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 0    0 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  0 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0    0 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1143000" y="2719440"/>
            <a:ext cx="3411720" cy="2309400"/>
            <a:chOff x="1143000" y="2719440"/>
            <a:chExt cx="3411720" cy="2309400"/>
          </a:xfrm>
        </p:grpSpPr>
        <p:sp>
          <p:nvSpPr>
            <p:cNvPr id="156" name=""/>
            <p:cNvSpPr/>
            <p:nvPr/>
          </p:nvSpPr>
          <p:spPr>
            <a:xfrm>
              <a:off x="1143000" y="4664160"/>
              <a:ext cx="33526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90920" y="2909520"/>
              <a:ext cx="1440" cy="1755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523880" y="3290400"/>
              <a:ext cx="2743200" cy="1374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3292560"/>
              <a:ext cx="180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6840" y="4624560"/>
              <a:ext cx="307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6240" y="4664160"/>
              <a:ext cx="295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71600" y="2719440"/>
              <a:ext cx="295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5120" y="3862440"/>
              <a:ext cx="421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7640" y="2987640"/>
              <a:ext cx="307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paralela ortográf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o de proyección en z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lano de proyección tambien en x=0 e y=0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ción de proyección normal al plano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DOP = (0,0,1) y N = (0,0,1)  obtenem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13000" y="4343400"/>
                <a:ext cx="2502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encia de transformaciones 3D  (transformation pipe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yecciones cl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ones en persp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ones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coordenadas de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z de proyección en perspectiva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z de proyección en perspectiva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Viewing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o de proye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o de proyección COP a distancia Q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ción desde                a COP dado por vector normalizado (dx,dy,d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uación paramétrica línea recta de  COP a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(t) = COP + t(P-COP)    0&lt;= t &lt;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1600" y="4966920"/>
            <a:ext cx="5748480" cy="2119320"/>
            <a:chOff x="1371600" y="4966920"/>
            <a:chExt cx="5748480" cy="2119320"/>
          </a:xfrm>
        </p:grpSpPr>
        <p:sp>
          <p:nvSpPr>
            <p:cNvPr id="171" name=""/>
            <p:cNvSpPr/>
            <p:nvPr/>
          </p:nvSpPr>
          <p:spPr>
            <a:xfrm flipV="1">
              <a:off x="2147760" y="4966920"/>
              <a:ext cx="1800" cy="1755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47760" y="6721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19560" y="6033960"/>
              <a:ext cx="1800" cy="689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117760" y="6033600"/>
              <a:ext cx="917640" cy="2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679840" y="5348160"/>
              <a:ext cx="2441520" cy="689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1280" y="5349960"/>
              <a:ext cx="243828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5005440"/>
              <a:ext cx="6638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o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8160" y="5045040"/>
              <a:ext cx="676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3440" y="5654520"/>
              <a:ext cx="358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1040" y="6264360"/>
              <a:ext cx="13114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x, dy, d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119560" y="56527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248000" y="6222960"/>
              <a:ext cx="98640" cy="61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7120" y="5730840"/>
              <a:ext cx="1654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 (xp, yp, z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5760" y="6264360"/>
              <a:ext cx="10843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8200" y="6721560"/>
              <a:ext cx="1082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 0, z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343400" y="1828800"/>
                <a:ext cx="91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772400" y="2322360"/>
                <a:ext cx="126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29000" y="2779560"/>
                <a:ext cx="126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  =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reemplazandolo en la ecuación paramé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(t) = COP + t(P-COP)    0&lt;= t &lt;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mos los puntos de la recta P' = (x',y',z') 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, el punto de intersección  entre PL(t)  y el plano  de proyección                 se obtiene hacien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743200" y="5715000"/>
                <a:ext cx="91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65400" y="1812960"/>
                <a:ext cx="3336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+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71800" y="6400800"/>
                <a:ext cx="2378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Qdz</m:t>
                            </m:r>
                          </m:e>
                        </m:d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Qd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729480" y="5715000"/>
                <a:ext cx="1042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'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71600" y="3886200"/>
                <a:ext cx="3003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'=Q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1600" y="4379760"/>
                <a:ext cx="3094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'=Q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346040" y="4836960"/>
                <a:ext cx="45975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'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Q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Q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obtener el mismo denominador D e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multip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obtener los valores de xp, yp, z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151600" y="1768320"/>
                <a:ext cx="4425840" cy="498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dy</m:t>
                                      </m:r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Q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z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Qd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Q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 D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z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659040" y="2093760"/>
                <a:ext cx="4557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28800" y="3236760"/>
                <a:ext cx="14367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438800" y="1330200"/>
                <a:ext cx="356220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nera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   0 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   1 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   0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d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z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2486160" y="5029200"/>
          <a:ext cx="528624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6160" y="5029200"/>
                    <a:ext cx="5286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matriz general 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obtener las matrice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GL 3D viewing-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91440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parámetros de viewing se especifican c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At(x0,y0,z0,zref,yref,zref,vx,vy,vz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P = P0(x0,y0,z0) origen del sistema de coordenadas en W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  = punto de referencia (normalmente se elige como un punto que uno quiere observar de la esce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up = (vx,vy,vz)  y N = P0-Pr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ores iniciales:  P0=(0,0,0), Pref = (0,0,-1) y Vup =(0,1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8760" y="4572000"/>
            <a:ext cx="4143240" cy="230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57800" y="4483080"/>
            <a:ext cx="3886200" cy="2374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43000" y="7086600"/>
            <a:ext cx="1969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 cambia , N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1040" y="7086600"/>
            <a:ext cx="204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 fijo, N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proyec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especificar una proyección se debe pasar al modo “proyecció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mode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PROJ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ort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(xwmin,xwmax,ywmin,ywmax,dnear,d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wmin,ywmin) y (xwmax,ywmax) es la ventana en el view plane y se ubica en el plano frontal de clipping (dn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ar y dfar la posición de  los plano frontal y posterior (define volumen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(-1.0,1.0,-1.0,1.0,-1.0,1.0) (valores ini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ón parale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rámetros de la proyección paral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805120" y="2486160"/>
            <a:ext cx="496728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299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yección en perspectiva general  se especifica 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stum(xwmin,xwmax,ywmin,ywmax,dnear,df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057400" y="3267000"/>
            <a:ext cx="634356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299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um es el volumen de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ar y dfar: distancia desde el punto de vista  al plano frontal y posterior, respectivament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mente de consideran -dnear y -d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ordenadas (left,bottom) y (rigth,top) definen la ventana en el view-plane. El view-plane se posiciona en el plano  frontal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fine necesariamente un volumen de vista simé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j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 un cuadr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9296280" cy="1781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3520" y="3228840"/>
            <a:ext cx="746748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D render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, el proceso completo de rendering incluye las siguientes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3143160"/>
            <a:ext cx="65152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685800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343400" y="36576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royección en perspectiva simétrica se especifica c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(theta,aspect,dnear,d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04960" y="3429000"/>
            <a:ext cx="652464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n de vista simétrico. Paráme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vy  ángulo del campo de vista, entre 0 y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: razón de aspecto de la ventana en el view plane  (w/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y far: distancia desde el origen del sistema de coordenadas (view point) al plano frontal y posterior, respec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828800" y="1433520"/>
            <a:ext cx="64008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371600" y="1638360"/>
            <a:ext cx="77724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de Viewing y proyección en 3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 es más complejo que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desde donde se mira la escena (dónde posicionamos y qué orientación le damos a la “cámara”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proyección (paralela o perspectiva) a utilizar: Objetos en 3D deben ser proyectados en un plano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el “view volume”, es decir que parte de la escena se desea proyectar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ólo los objetos que están dentro de esta volumen de visión son proyectados a dos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l recorte de los objetos (algoritmos de clipping) se aplican sobre el volumen de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2004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ones clásic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172200" cy="42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ones en perspectiv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62940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ificación de  proyec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03960" y="1392120"/>
            <a:ext cx="4425840" cy="317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62520" y="4786200"/>
            <a:ext cx="5867280" cy="1843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en perspectiva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iste centro de proyección y  proyectores no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paralel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yectores paralelos y centro de proyección en el 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ones paralel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87680" y="1828800"/>
          <a:ext cx="907092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7680" y="182880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68120" y="2435400"/>
            <a:ext cx="4453200" cy="330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316480" y="2841480"/>
            <a:ext cx="4284720" cy="264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711440"/>
            <a:ext cx="329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ort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6160" y="5943600"/>
            <a:ext cx="3799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iene las proporciones e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s ejes principales  (iso – igua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– med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ones paralelas oblicu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51600" y="1768320"/>
          <a:ext cx="442584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51600" y="1768320"/>
                    <a:ext cx="442584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172200" y="1143000"/>
            <a:ext cx="254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yección  caval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88040" y="1600200"/>
            <a:ext cx="249876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43000" y="33940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257800" y="4876920"/>
            <a:ext cx="23986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19560" y="4454640"/>
            <a:ext cx="2424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ción de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ón de proyección es distinta de la dirección del vector normal al view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26T15:05:05Z</dcterms:modified>
  <cp:revision>49</cp:revision>
  <dc:subject/>
  <dc:title/>
</cp:coreProperties>
</file>