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6.png" ContentType="image/png"/>
  <Override PartName="/ppt/media/image8.wmf" ContentType="image/x-wmf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B177-3FE5-493D-B248-0461762F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5473-7AC7-444F-A1EA-58112C4C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6423-2671-403A-BDFC-669A1046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0CF0-5F64-4001-B45B-C71F8EF4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B4F2-7D97-4CCC-A047-27AF26B7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7687-28A9-409C-A1D0-C909A9EE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306E-C84B-4536-957F-B30345A2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2175-B36F-4E59-BF00-70C5C48A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F83B-0B8F-41A1-96B8-97435546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8359-FFD4-4CED-9702-AFE5053C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B21B-6AB4-4744-B0F9-94E51D53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A31B-5251-47C5-B63B-9F540FAD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69A7-ADF3-4B9B-86A5-7575C120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2621-DB60-4549-945C-7A817337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28AA-03E8-41BE-BF5E-EEFF0CC1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6323-C9CA-4687-A15D-1B39985E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C4C1-33ED-44E5-A352-84C18C40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5965-AF2D-483D-93DE-926F7870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D254-1D0C-4C8F-907D-41C616C0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3A1D-DB1A-45C5-BB95-5252DD80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FBB3-672A-41FE-A9DF-9499347B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88D4-C394-4885-A8C5-58AFD045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3B4A-4C06-40C0-8E59-974E41EC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BA43-7021-45AA-9BF0-118302FC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9A5C2-9366-422C-B151-79F489977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CD07F-CA6D-4D94-ACF4-79CA1E71A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2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754520" y="306864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ciones de View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D y 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arte 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yección en  paralela versus proyección en perspectiv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1143000"/>
            <a:ext cx="26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3280" y="4375080"/>
            <a:ext cx="907092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n paralel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Visualización menos realista pero apropiada para mediciones exac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Preserva paralelismo de lín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n perspecti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Visión más realista, tamaño varía inversamente proporcional con la dist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No conserva paralelismo en las lín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219320" y="1565280"/>
            <a:ext cx="2895480" cy="2549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943600" y="1371600"/>
            <a:ext cx="289548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ewing coordinates (VC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2720" y="1143000"/>
            <a:ext cx="95281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view reference coordinate system(VRC) se define c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RP: viewing reference 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Define el origen dell sistema de coordenadas de vie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PN(n): es el vector normal del view-pl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lano de proyección). Define dirección y sentido del eje 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UP: view up v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Vector cuya proyección en el “view plane” (v) defin el eje y del sistema de coorden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l eje 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definido por el vector u = v x 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257800" y="457200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28600" y="4343400"/>
            <a:ext cx="48006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ew reference coordinate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é parte del view plane interesa?  (Foley-Van Dam,.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ana definida 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ventana no necesita  ser simétrica con respecto al VRP (centro en CW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133720" y="3886200"/>
            <a:ext cx="5181480" cy="251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800600" y="1938240"/>
                <a:ext cx="32004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ew reference coordinate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P (projection reference point) y DOP (projection direction) definidos en el sistema V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pectiva: PRP es el centro de pory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ela: CW-PRP define D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151600" y="1767960"/>
            <a:ext cx="4425840" cy="2379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151600" y="4375080"/>
            <a:ext cx="4425840" cy="2379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943600" y="1371600"/>
            <a:ext cx="3276720" cy="2521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715000" y="4438800"/>
            <a:ext cx="3429000" cy="21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ew reference coordinate syst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152800" y="3657600"/>
            <a:ext cx="5848200" cy="3200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03280" y="1768320"/>
            <a:ext cx="90709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yección paralela: volumen de visión (view volu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Paralelepípedo delimitado por un plano frontal y pos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Define la parte de la escena a proyectar en el view plane (plano de vis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ew reference coordinate syst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3280" y="1768320"/>
            <a:ext cx="90709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yección perspectiva: volumen de visión (view volu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Pirámide truncada por un plano frontal y pos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Define la parte de la escena a proyectar en el view plane (plano de vis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5997600" cy="38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ducción de matriz en perspectiva si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619600" y="1768320"/>
            <a:ext cx="3490920" cy="49896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o de proyección (view plane) a distancia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l or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: punto a proyec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royección de P 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ndo los triángulos semejantes, se obt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371600" y="3886200"/>
                <a:ext cx="22860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371600" y="5168880"/>
                <a:ext cx="231156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/d</m:t>
                            </m:r>
                          </m:den>
                        </m:f>
                      </m:e>
                      <m:e/>
                      <m:e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/d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ducción de matriz en perspectiva simp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n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ego para recuperar el punto en R³ debemos dividir por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559320" y="1828800"/>
                <a:ext cx="3659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o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y</m:t>
                            </m:r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286000" y="2459160"/>
                <a:ext cx="30211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y</m:t>
                            </m:r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135160" y="3186000"/>
                <a:ext cx="836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743200" y="5075280"/>
                <a:ext cx="44038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den>
                        </m:f>
                        <m:r>
                          <m:t xml:space="preserve">,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ra deducción de matriz en perspectiva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3360" y="1898640"/>
            <a:ext cx="442584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o de proyección z=0, centro de proyección z=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En este caso d puede tender a infinito... Qué signif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715000" y="1968480"/>
                <a:ext cx="3263760" cy="32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/d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/d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'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   0    0    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 1     0    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 0    0    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55" name=""/>
          <p:cNvGrpSpPr/>
          <p:nvPr/>
        </p:nvGrpSpPr>
        <p:grpSpPr>
          <a:xfrm>
            <a:off x="1143000" y="2719440"/>
            <a:ext cx="3411720" cy="2309400"/>
            <a:chOff x="1143000" y="2719440"/>
            <a:chExt cx="3411720" cy="2309400"/>
          </a:xfrm>
        </p:grpSpPr>
        <p:sp>
          <p:nvSpPr>
            <p:cNvPr id="156" name=""/>
            <p:cNvSpPr/>
            <p:nvPr/>
          </p:nvSpPr>
          <p:spPr>
            <a:xfrm>
              <a:off x="1143000" y="4664160"/>
              <a:ext cx="335268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590920" y="2909520"/>
              <a:ext cx="1440" cy="1755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1523880" y="3290400"/>
              <a:ext cx="2743200" cy="1374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67080" y="3292560"/>
              <a:ext cx="1800" cy="1371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56840" y="4624560"/>
              <a:ext cx="30708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6240" y="4664160"/>
              <a:ext cx="2952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71600" y="2719440"/>
              <a:ext cx="2952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75120" y="3862440"/>
              <a:ext cx="4215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47640" y="2987640"/>
              <a:ext cx="30708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yección paralela ortográfic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o de proyección en z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plano de proyección tambien en x=0 e y=0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ción de proyección normal al plano de proye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 DOP = (0,0,1) y N = (0,0,1)  obtenem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213000" y="4343400"/>
                <a:ext cx="250200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encia de transformaciones 3D  (transformation pipe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yecciones clá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yecciones en perspe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yecciones en paral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 de coordenadas de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z de proyección en perspectiva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z de proyección en perspectiva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 Viewing en OpenG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ducción general: integra proyecciones en perspectiva y paralel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o de proyec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ntro de proyección COP a distancia Q 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ción desde                a COP dado por vector normalizado (dx,dy,dz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uación paramétrica línea recta de  COP a 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(t) = COP + t(P-COP)    0&lt;= t &lt;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371600" y="4966920"/>
            <a:ext cx="5748480" cy="2119320"/>
            <a:chOff x="1371600" y="4966920"/>
            <a:chExt cx="5748480" cy="2119320"/>
          </a:xfrm>
        </p:grpSpPr>
        <p:sp>
          <p:nvSpPr>
            <p:cNvPr id="171" name=""/>
            <p:cNvSpPr/>
            <p:nvPr/>
          </p:nvSpPr>
          <p:spPr>
            <a:xfrm flipV="1">
              <a:off x="2147760" y="4966920"/>
              <a:ext cx="1800" cy="1755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47760" y="6721560"/>
              <a:ext cx="411480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119560" y="6033960"/>
              <a:ext cx="1800" cy="6890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5117760" y="6033600"/>
              <a:ext cx="917640" cy="257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2679840" y="5348160"/>
              <a:ext cx="2441520" cy="6890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81280" y="5349960"/>
              <a:ext cx="2438280" cy="1371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71600" y="5005440"/>
              <a:ext cx="66384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 o 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78160" y="5045040"/>
              <a:ext cx="67608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73440" y="5654520"/>
              <a:ext cx="358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21040" y="6264360"/>
              <a:ext cx="131148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x, dy, dz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119560" y="5652720"/>
              <a:ext cx="1800" cy="384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4248000" y="6222960"/>
              <a:ext cx="98640" cy="61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37120" y="5730840"/>
              <a:ext cx="16545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p (xp, yp, z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35760" y="6264360"/>
              <a:ext cx="10843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(x, y, z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48200" y="6721560"/>
              <a:ext cx="108288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0, 0, z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343400" y="1828800"/>
                <a:ext cx="9144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z=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772400" y="2322360"/>
                <a:ext cx="12636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,0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429000" y="2779560"/>
                <a:ext cx="12636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,0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ducción general: integra proyecciones en perspectiva y paralel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  =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 reemplazandolo en la ecuación paramét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(t) = COP + t(P-COP)    0&lt;= t &lt;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nemos los puntos de la recta P' = (x',y',z')  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, el punto de intersección  entre PL(t)  y el plano  de proyección                 se obtiene haciend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743200" y="5715000"/>
                <a:ext cx="9144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z=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165400" y="1812960"/>
                <a:ext cx="3336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,0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+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d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d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971800" y="6400800"/>
                <a:ext cx="237816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+Qdz</m:t>
                            </m:r>
                          </m:e>
                        </m:d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+Qdz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729480" y="5715000"/>
                <a:ext cx="10429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z'=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371600" y="3886200"/>
                <a:ext cx="30034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'=Q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71600" y="4379760"/>
                <a:ext cx="3094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'=Q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d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d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346040" y="4836960"/>
                <a:ext cx="45975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'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Qd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Qd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094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ducción general: integra proyecciones en perspectiva y paralel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 obtener el mismo denominador D en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multipl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uesto: obtener los valores de xp, yp, z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151600" y="1768320"/>
                <a:ext cx="4425840" cy="498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f>
                          <m:num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z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</m:t>
                                  </m:r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x</m:t>
                                          </m:r>
                                        </m:sub>
                                      </m:sSub>
                                    </m:e>
                                  </m:ba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   </m:t>
                                  </m:r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</m:m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+</m:t>
                            </m:r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</m:t>
                                  </m:r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x</m:t>
                                          </m:r>
                                        </m:sub>
                                      </m:sSub>
                                    </m:e>
                                  </m:ba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f>
                          <m:num>
                            <m:m>
                              <m:mr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z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</m:t>
                                  </m:r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y</m:t>
                                          </m:r>
                                        </m:sub>
                                      </m:sSub>
                                    </m:e>
                                  </m:ba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   </m:t>
                                  </m:r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</m:m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z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</m:t>
                                  </m:r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dy</m:t>
                                      </m:r>
                                    </m:e>
                                  </m:ba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</m:t>
                                  </m:r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f>
                          <m:num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z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</m:t>
                                  </m:r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</m:e>
                                  </m:ba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   Q</m:t>
                                  </m:r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</m:m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+</m:t>
                            </m:r>
                            <m:m>
                              <m:mr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sSup>
                                            <m:e>
                                              <m:r>
                                                <m:t xml:space="preserve">p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</m:sub>
                                      </m:s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  </m:t>
                                      </m:r>
                                      <m:r>
                                        <m:t xml:space="preserve">+</m:t>
                                      </m:r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 z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 Qd</m:t>
                                          </m:r>
                                        </m:e>
                                        <m:sub>
                                          <m:r>
                                            <m:t xml:space="preserve">z</m:t>
                                          </m:r>
                                        </m:sub>
                                      </m:sSub>
                                    </m:e>
                                  </m:ba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Q</m:t>
                                  </m:r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onde D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z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d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659040" y="2093760"/>
                <a:ext cx="4557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828800" y="3236760"/>
                <a:ext cx="143676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ducción general: integra proyecciones en perspectiva y paralel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438800" y="1330200"/>
                <a:ext cx="3562200" cy="278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enera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     0      -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z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den>
                            </m:f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    1      -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z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den>
                            </m:f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    0     -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d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Qd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z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e>
                            </m:d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05" name=""/>
          <p:cNvGraphicFramePr/>
          <p:nvPr/>
        </p:nvGraphicFramePr>
        <p:xfrm>
          <a:off x="2486160" y="5029200"/>
          <a:ext cx="528624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6160" y="5029200"/>
                    <a:ext cx="52862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matriz general 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obtener las matrices ant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nGL 3D viewing-trans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914400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 parámetros de viewing se especifican c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kAt(x0,y0,z0,zref,yref,zref,vx,vy,vz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RP = P0(x0,y0,z0) origen del sistema de coordenadas en W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f  = punto de referencia (normalmente se elige como un punto que uno quiere observar de la esce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up = (vx,vy,vz)  y N = P0-Pr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ores iniciales:  P0=(0,0,0), Pref = (0,0,-1) y Vup =(0,1,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28760" y="4572000"/>
            <a:ext cx="4143240" cy="2303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257800" y="4483080"/>
            <a:ext cx="3886200" cy="23749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143000" y="7086600"/>
            <a:ext cx="1969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 cambia , N f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91040" y="7086600"/>
            <a:ext cx="2046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f fijo, N ca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Gl proyecci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 especificar una proyección se debe pasar al modo “proyecció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xMmode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PROJ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yección ortog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(xwmin,xwmax,ywmin,ywmax,dnear,df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wmin,ywmin) y (xwmax,ywmax) es la ventana en el view plane y se ubica en el plano frontal de clipping (dn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ear y dfar la posición de  los plano frontal y posterior (define volumen de vis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(-1.0,1.0,-1.0,1.0,-1.0,1.0) (valores inici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ción paralel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parámetros de la proyección parale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2805120" y="2486160"/>
            <a:ext cx="4967280" cy="36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yección en Perspe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299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proyección en perspectiva general  se especifica c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ustum(xwmin,xwmax,ywmin,ywmax,dnear,df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057400" y="3267000"/>
            <a:ext cx="6343560" cy="35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yección en Perspe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299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ustum es el volumen de v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ear y dfar: distancia desde el punto de vista  al plano frontal y posterior, respectivamente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mente de consideran -dnear y -df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oordenadas (left,bottom) y (rigth,top) definen la ventana en el view-plane. El view-plane se posiciona en el plano  frontal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efine necesariamente un volumen de vista simét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jemplo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grama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iza un cuadrado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p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029200" y="457200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 en OpenG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9296280" cy="1781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33520" y="3228840"/>
            <a:ext cx="746748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D render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emos que, el proceso completo de rendering incluye las siguientes transformacio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828800" y="3143160"/>
            <a:ext cx="65152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 en OpenG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6858000" cy="32004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4343400" y="365760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yección en Perspe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proyección en perspectiva simétrica se especifica c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pective(theta,aspect,dnear,df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704960" y="3429000"/>
            <a:ext cx="6524640" cy="36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yección en Perspe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n de vista simétrico. Parámetr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vy  ángulo del campo de vista, entre 0 y 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: razón de aspecto de la ventana en el view plane  (w/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r y far: distancia desde el origen del sistema de coordenadas (view point) al plano frontal y posterior, respectiv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yección en Perspe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828800" y="1433520"/>
            <a:ext cx="6400800" cy="56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yección en Perspe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371600" y="1638360"/>
            <a:ext cx="7772400" cy="49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ormación de Viewing y proyección en 3D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2992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 qué  es más complejo que en 2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ficar desde donde se mira la escena (dónde posicionamos y qué orientación le damos a la “cámara”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ficar proyección (paralela o perspectiva) a utilizar: Objetos en 3D deben ser proyectados en un plano 2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ficar el “view volume”, es decir que parte de la escena se desea proyectar: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ólo los objetos que están dentro de esta volumen de visión son proyectados a dos dimen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56000" indent="-430200">
              <a:lnSpc>
                <a:spcPct val="93000"/>
              </a:lnSpc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El recorte de los objetos (algoritmos de clipping) se aplican sobre el volumen de 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28600" y="4343400"/>
            <a:ext cx="32004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ciones clásica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676520" y="1523880"/>
            <a:ext cx="6172200" cy="42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ciones en perspectiv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6629400" cy="31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ificación de  proyecci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403960" y="1392120"/>
            <a:ext cx="4425840" cy="3179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962520" y="4786200"/>
            <a:ext cx="5867280" cy="1843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yección en perspectiva: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xiste centro de proyección y  proyectores no paral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yección paralela: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oyectores paralelos y centro de proyección en el infin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yecciones paralel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587680" y="1828800"/>
          <a:ext cx="9070920" cy="498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7680" y="1828800"/>
                    <a:ext cx="9070920" cy="49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68120" y="2435400"/>
            <a:ext cx="4453200" cy="3303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5316480" y="2841480"/>
            <a:ext cx="4284720" cy="2644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800" y="1711440"/>
            <a:ext cx="3297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yección ortográf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56160" y="5943600"/>
            <a:ext cx="37990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tiene las proporciones en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s ejes principales  (iso – igual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ric – med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yecciones paralelas oblicu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151600" y="1768320"/>
          <a:ext cx="4425840" cy="498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51600" y="1768320"/>
                    <a:ext cx="4425840" cy="49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172200" y="1143000"/>
            <a:ext cx="254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yección  cavali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188040" y="1600200"/>
            <a:ext cx="2498760" cy="2514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143000" y="3394080"/>
            <a:ext cx="2895480" cy="2549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5257800" y="4876920"/>
            <a:ext cx="2398680" cy="2438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19560" y="4454640"/>
            <a:ext cx="2424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yección de cabi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ción de proyección es distinta de la dirección del vector normal al view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23:13:24Z</dcterms:created>
  <dc:creator>Nancy Hitschfeld</dc:creator>
  <dc:description/>
  <dc:language>en-US</dc:language>
  <cp:lastModifiedBy/>
  <dcterms:modified xsi:type="dcterms:W3CDTF">2012-04-26T15:05:05Z</dcterms:modified>
  <cp:revision>49</cp:revision>
  <dc:subject/>
  <dc:title/>
</cp:coreProperties>
</file>