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DF4-6C42-489D-BABE-E05048A7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B08-D264-4B9E-9EB3-B7258853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05E-131F-49E6-BD03-2E4A9DB7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C57-AE8D-4165-8E29-93A52F27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C854-502B-48E2-9C7B-0C53E875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5D56-6575-4FE1-83D2-27197C3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8B37-F806-4D79-9D12-75BA1C5C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424B-8E99-4C2C-B557-DD808543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6E5D-D9CF-407E-B09A-6C971EA2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6E48-FC35-4EEA-BE50-75C5E12C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E173-01A7-452A-8306-D19CC47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AD1-5E58-4A27-A9D8-FE5DAEED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B50F-0E5E-4918-80BF-52F3DA14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427A-D5A9-4183-86C2-8201C2C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B85D-0D48-4BA5-A18E-5D5571B5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3EF9-2781-41FA-AC1C-8E2B66BC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9354-6D66-41D8-AE50-AD2AFD60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EF0-4432-42DC-AF1C-4CE9DE28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3EA-9722-42A8-A8EA-44168DEA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C64-7815-467E-8CB4-28768778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9A3-CA44-421D-838B-873B474B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E5E-20D7-4BAF-AEC2-A5FEC02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72C-1117-4776-B113-38A56AF5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425-594C-4B6D-A97E-3ADC1D9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5633D-13AE-410E-9657-DC2DBAA42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ED951-BACC-487D-9C4A-A5E49DCE5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interacción de entrada e interfaces 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14600" y="2619360"/>
            <a:ext cx="4991040" cy="4010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1600200"/>
            <a:ext cx="8929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da nueva posición seleccionada con el botón izquierdo dibu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a nueva línea entre la posición anterior y  la ac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3800" y="1238400"/>
            <a:ext cx="9077400" cy="35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23960" y="5029200"/>
            <a:ext cx="63626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95360" y="1330200"/>
            <a:ext cx="6834240" cy="57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una polilíne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457280"/>
            <a:ext cx="6629400" cy="3800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5943600"/>
            <a:ext cx="7518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: winReshapeFcn se llama cada vez que un usuario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 el tamaño de la  ve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 lógica de los dispositivo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 de una aplicación interactiva en Open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ficar input interactiv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a posición de un objeto apuntando la nueva posición con el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r los parámetros de una simulación seleccionando el menú aprop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ción de dibujos ejecutada de manera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lasificación lógica estándar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una 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que especifica mútiples 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dispositivo para especificar strings (secuencias de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aluator</a:t>
            </a:r>
            <a:r>
              <a:rPr b="0" lang="en-US" sz="2800" spc="-1" strike="noStrike">
                <a:solidFill>
                  <a:srgbClr val="314004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un dispositivo para especificar un valor esc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oice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seleccionar una opción de men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ick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: un dispositivo para seleccionar un objeto de la es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ntrada (input devic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car el “cursor” en la panta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tivos reales?: mouse, joystick, trackball, flechas del teclad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19240" y="41148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715000" y="409572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tinas  de OpenGl para input-devices interac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Glut para el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Func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 que el procedimie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useF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encargado de actuar cuando el mouse es presionado o so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Fcn debe tener 4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Fcn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utton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ction,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Mous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mou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LEFT_BUTTON,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MIDDLE_BUTTON,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RIGHT_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uede ser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DOWN 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la posición del mouse, cada vez que se presiona el botón izquierdo, se dibuja un punto rojo de tamaño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86000" y="2286000"/>
            <a:ext cx="775800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dibujo de puntos roj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820116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6:47Z</dcterms:created>
  <dc:creator/>
  <dc:description/>
  <dc:language>en-US</dc:language>
  <cp:lastModifiedBy/>
  <dcterms:modified xsi:type="dcterms:W3CDTF">2012-04-12T14:53:53Z</dcterms:modified>
  <cp:revision>4</cp:revision>
  <dc:subject/>
  <dc:title/>
</cp:coreProperties>
</file>