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077-E6D1-48F9-858B-0067D7F5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C12-4BB8-453C-9CAC-636148F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C1F-AB85-455C-810F-E0DB5F5E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1A7-D3C4-4640-B119-B67F1CD3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8CA6-4FA5-403A-838A-2CFCB9BD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1FBF-EE2B-469E-B3FD-E318BD6A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9B36-7917-4754-850F-ADBEA89C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6B5A-81C4-4714-B2A7-BA7CFBFA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AFE1-7240-4597-9A49-A86032E2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C8E1-1AE6-4599-AB0B-11A996FE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4468-3339-4706-8CB2-AA8C13E8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424-3BD7-4B9E-8F3D-2CB156DD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54FD-1A0F-4E6B-A1C0-0ACA4412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7ED3-49D3-4A54-9D1E-EDE3B673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1949-320B-4DE9-977C-AC1F5E1A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1530-6E8A-4373-8372-5911748D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58F4-369F-4216-B9B8-C6BB158B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3FC-6465-4564-B80E-DDA27EF3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A95-5451-410A-A78A-7BA942FE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3D8-DEAD-44AC-9DCD-E2B0C27F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5A5-D5B4-4277-8023-D834C4F5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1E2-F06A-491F-8F2E-774BE2A4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A7A-8AF5-4C64-ADEC-9C26E91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4B8-36A4-4527-90CE-5C22495D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C4740-9BD7-4A24-A904-98842143B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2985E-E418-4F65-9846-151264122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interacción de entrada e interfaces 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14600" y="2619360"/>
            <a:ext cx="4991040" cy="4010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1600200"/>
            <a:ext cx="8929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da nueva posición seleccionada con el botón izquierdo dibu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a nueva línea entre la posición anterior y  la ac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3800" y="1238400"/>
            <a:ext cx="9077400" cy="35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23960" y="5029200"/>
            <a:ext cx="63626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95360" y="1330200"/>
            <a:ext cx="6834240" cy="57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457280"/>
            <a:ext cx="6629400" cy="3800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5943600"/>
            <a:ext cx="7518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: winReshapeFcn se llama cada vez que un usuario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 el tamaño de la 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 lógica de los dispositivo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 de una aplicación interactiva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ficar input interact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a posición de un objeto apuntando la nueva posición con el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os parámetros de una simulación seleccionando el menú aprop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ción de dibujos ejecutada de manera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lasificación lógica estándar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una 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que especifica mútiples 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strings (secuencias de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aluator</a:t>
            </a:r>
            <a:r>
              <a:rPr b="0" lang="en-US" sz="2800" spc="-1" strike="noStrike">
                <a:solidFill>
                  <a:srgbClr val="314004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un dispositivo para especificar un valor esc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oice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seleccionar una opción de men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ick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un dispositivo para seleccionar un objeto de l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tinas  de OpenGl para input-devices interac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Glut para el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Func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 que el procedimie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encargado de actuar cuando el mouse es presionado o so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Fcn debe tener 4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Fc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utton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tion,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Mous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mou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EFT_BUTTON,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MIDDLE_BUTTON,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RIGHT_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DOWN 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la posición del mouse, cada vez que se presiona el botón izquierdo, se dibuja un punto rojo de tamaño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86000" y="2286000"/>
            <a:ext cx="775800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820116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6:47Z</dcterms:created>
  <dc:creator/>
  <dc:description/>
  <dc:language>en-US</dc:language>
  <cp:lastModifiedBy/>
  <dcterms:modified xsi:type="dcterms:W3CDTF">2012-04-12T14:53:53Z</dcterms:modified>
  <cp:revision>4</cp:revision>
  <dc:subject/>
  <dc:title/>
</cp:coreProperties>
</file>