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E48-72A9-40E4-89DE-82098458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DFD-5383-46CF-BFBF-13DFBD24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2C9-E5F1-40FB-A03C-E75DDE7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43E-DF9E-4845-994C-C19BC414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F8D0-3B4B-4951-BE3C-90841DE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B8F4-BB86-4107-BBDD-8221487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C41-386F-4CE4-B700-74EB749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F6E-5014-4087-B0E3-2675ECA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34D-931D-45E6-801A-1606E8F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A88-0B32-4E58-9E1F-4F4F3D7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FB4-C5E1-4E5E-9785-D819D56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978-B0A1-43F4-AE66-54E42AA9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588-00FA-4172-B34F-A26E1F8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B12-A0A5-4C25-8E12-4AA5ED4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15C-5C2B-4C41-8A6F-A988CF8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C5BC-698A-4872-BEB1-26D02C6D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D03-B5FE-48A1-A06B-1CAFD39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24A-D08F-424B-B77E-DB237A9F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427-10C7-4413-A7EB-B2134E5E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0F0-F34F-46E9-B60A-56A7C0D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2AC-C942-441A-93D1-EE63FFB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7BB-26F5-4DE1-92C7-3DA0BE7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DA6-E876-41A3-8A01-459C683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FA9-FE83-4D93-9AA9-4DB4782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D8FE-5365-4895-98F7-079FDA47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0F15-01AD-4CB9-B9F5-ECC6A082B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interacción de entrada e interfaces 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261936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600200"/>
            <a:ext cx="8929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da nueva posición seleccionada con el botón izquierdo dibu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a nueva línea entre la posición anterior y  la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90774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960" y="5029200"/>
            <a:ext cx="6362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95360" y="1330200"/>
            <a:ext cx="683424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457280"/>
            <a:ext cx="6629400" cy="380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943600"/>
            <a:ext cx="7518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winReshapeFcn se llama cada vez que un usuario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 el tamaño de la 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 lógica de los dispositiv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 de una aplicación interactiva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ar input interac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a posición de un objeto apuntando la nueva posición con 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os parámetros de una simulación seleccionando el menú aprop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ción de dibujos ejecutada de manera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lasificación lógica estándar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una 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que especifica mútiple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strings (secuencias de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luator</a:t>
            </a:r>
            <a:r>
              <a:rPr b="0" lang="en-US" sz="2800" spc="-1" strike="noStrike">
                <a:solidFill>
                  <a:srgbClr val="314004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un dispositivo para especificar un valor e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oice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seleccionar una opción de me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k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un dispositivo para seleccionar un objeto de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tinas  de OpenGl para input-devices interac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Glut para 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Func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 que el procedimie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ncargado de actuar cuando el mouse es presionado o so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Fcn debe tener 4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Fc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utt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tion,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Mous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mou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EFT_BUTTON,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MIDDLE_BUTTON,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RIGHT_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DOWN 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la posición del mouse, cada vez que se presiona el botón izquierdo, se dibuja un punto rojo de tamaño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86000" y="2286000"/>
            <a:ext cx="77580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82011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6:47Z</dcterms:created>
  <dc:creator/>
  <dc:description/>
  <dc:language>en-US</dc:language>
  <cp:lastModifiedBy/>
  <dcterms:modified xsi:type="dcterms:W3CDTF">2012-04-12T14:53:53Z</dcterms:modified>
  <cp:revision>4</cp:revision>
  <dc:subject/>
  <dc:title/>
</cp:coreProperties>
</file>