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FA47-17AE-4E57-86D3-A375CDC6E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DD93-9069-4CF7-A780-BB0C4CD8B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598F-8CA5-4E45-87E4-A64C74D57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0FEC-1F2A-48CF-B4F4-638CA9B72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5674E-0A57-4F46-A281-4CE97A8C3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38700-A856-4053-A877-30E01E1D4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AEFAA-D94A-4BD7-946F-434909F00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CCDBC-FD97-4213-9A2F-A46953527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C3F29-1D73-4ACA-B318-3BFBBDD28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D77ED-940D-4854-8425-6B04204AA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50976-546B-466D-9103-83BAD0B4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39BB-F63E-46F1-B160-1584A2BD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5B217-CE0E-4699-AE67-9840D131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6529B-D308-4D79-8B89-41E92173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BED27-073E-49E9-A4E7-5DA650D75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7C811-31B3-41E5-85B0-C7D939839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04F74-D5B6-4EDF-8921-A4832BF90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123D-2D5E-4FFF-B23C-C1CD02EAD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76C6-A2C0-4F9B-953C-DE776C948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6B6E-497B-45DF-94AE-F4AEB4A6B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7556-F272-4F0B-9207-2D86888B3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635F-07A0-4657-AAFC-63B56223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ACC5-1677-47EE-98BE-F5CD779C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279C-654D-4CC7-8277-D184EABE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786963-5A80-427E-BA2B-DD061443AC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C38C84-4654-4728-AC54-CDE2FC1D91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68360" y="44280"/>
            <a:ext cx="9070920" cy="66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étodos de interacción de entrada e interfaces gráf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jemplo: dibujo de puntos roj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1371600"/>
            <a:ext cx="9070920" cy="48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14400" y="1371600"/>
            <a:ext cx="84582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jemplo: dibujo de una polilíne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514600" y="2619360"/>
            <a:ext cx="4991040" cy="40100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914400" y="1600200"/>
            <a:ext cx="8929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ada nueva posición seleccionada con el botón izquierdo dibu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una nueva línea entre la posición anterior y  la actu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jemplo: dibujo de una polilíne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82296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jemplo: dibujo de una polilíne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23800" y="1238400"/>
            <a:ext cx="9077400" cy="3562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723960" y="5029200"/>
            <a:ext cx="6362640" cy="196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jemplo: dibujo de una polilíne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395360" y="1330200"/>
            <a:ext cx="6834240" cy="575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jemplo: dibujo de una polilíne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600200" y="1457280"/>
            <a:ext cx="6629400" cy="38005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914400" y="5943600"/>
            <a:ext cx="751824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a: winReshapeFcn se llama cada vez que un usuario de la apl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ca el tamaño de la  vent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ificación lógica de los dispositivos de entr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jemplos de una aplicación interactiva en OpenG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tivació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pecificar input interactiva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biar la posición de un objeto apuntando la nueva posición con el m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biar los parámetros de una simulación seleccionando el menú apropi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ción de dibujos ejecutada de manera interac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positivos de entrada (input devices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clasificación lógica estándar 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oca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dispositivo para especificar una posi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rok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dispositivo que especifica mútiples posi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dispositivo para especificar strings (secuencias de caracte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Valuator</a:t>
            </a:r>
            <a:r>
              <a:rPr b="0" lang="en-US" sz="2800" spc="-1" strike="noStrike">
                <a:solidFill>
                  <a:srgbClr val="314004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14004"/>
                </a:solidFill>
                <a:latin typeface="Arial"/>
              </a:rPr>
              <a:t>un dispositivo para especificar un valor esca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hoice</a:t>
            </a:r>
            <a:r>
              <a:rPr b="0" lang="en-US" sz="2400" spc="-1" strike="noStrike">
                <a:solidFill>
                  <a:srgbClr val="314004"/>
                </a:solidFill>
                <a:latin typeface="Arial"/>
              </a:rPr>
              <a:t>: seleccionar una opción de men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ick</a:t>
            </a:r>
            <a:r>
              <a:rPr b="0" lang="en-US" sz="2400" spc="-1" strike="noStrike">
                <a:solidFill>
                  <a:srgbClr val="314004"/>
                </a:solidFill>
                <a:latin typeface="Arial"/>
              </a:rPr>
              <a:t>: un dispositivo para seleccionar un objeto de la esc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positivos de entrada (input devices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oca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bicar el “cursor” en la pantal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ositivos reales?: mouse, joystick, trackball, flechas del teclado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019240" y="4114800"/>
            <a:ext cx="2095560" cy="15717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5715000" y="4095720"/>
            <a:ext cx="198108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positivos de entrada (input devices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oca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bicar el “cursor” en la pantal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ositivos reales?: mouse, joystick, trackball, flechas del teclado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019240" y="4114800"/>
            <a:ext cx="2095560" cy="15717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715000" y="4095720"/>
            <a:ext cx="198108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utinas  de OpenGl para input-devices interactiv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iones Glut para el m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lu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useFunc(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ouseFc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pecifica que el procedimiento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ouseFc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 el encargado de actuar cuando el mouse es presionado o sol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useFcn debe tener 4 argu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d mouseFcn(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button,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action,                               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xMouse,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ymous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ton puede ser: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L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LEFT_BUTTON,                                 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L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MIDDLE_BUTTON,                             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L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RIGHT_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 puede ser: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L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DOWN o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L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jemplo: dibujo de puntos roj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 la posición del mouse, cada vez que se presiona el botón izquierdo, se dibuja un punto rojo de tamaño 3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386000" y="2286000"/>
            <a:ext cx="7758000" cy="445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jemplo: dibujo de puntos roj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371600"/>
            <a:ext cx="9070920" cy="48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143000" y="1600200"/>
            <a:ext cx="8201160" cy="5067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2T13:36:47Z</dcterms:created>
  <dc:creator/>
  <dc:description/>
  <dc:language>en-US</dc:language>
  <cp:lastModifiedBy/>
  <dcterms:modified xsi:type="dcterms:W3CDTF">2012-04-12T14:53:53Z</dcterms:modified>
  <cp:revision>4</cp:revision>
  <dc:subject/>
  <dc:title/>
</cp:coreProperties>
</file>