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FD62-2F03-480A-ABAD-F6480921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14AB-228F-403F-9962-471FF0E5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FC50-9487-4BDE-B8A2-836B2F9A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2A1E-13F1-411C-ABA5-2F86B611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1D3F-2938-4501-B443-EFEB4563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8308-4439-43C2-812C-C360F195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BE9A-288C-4968-A6AB-330D60CF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D2A4-D8B1-4A85-A23E-C14BE3EA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8CEA-E907-4C0A-AC60-4D77593A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495F-E293-4188-9C25-F9D07D4F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F231-3CF3-4F09-86AB-22CE5C46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78FF-E0DD-4030-B316-B77DD52C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85CE-3AF8-48CB-9EF1-A6757C96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ED91-BE1E-40E3-BC5B-8F55A4E7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3104-AF6F-41FD-A3AC-8FBFA283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19E4-40AB-4936-A9E8-9067870E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39FC-ABDC-495B-9738-967E5E6F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0033-3CC9-453F-8572-9A23B0E3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8481-25C7-4190-B8C8-C8D9DC96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B471-B7BA-4BE4-AD00-65716F31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086E-11B8-45E8-B32F-28F2D8D6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4B43-209E-4CB8-9157-19908620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999B-EE81-4D7C-BBC4-0301EBCE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05F6-72A8-47DE-B0A3-A934410D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45B1B-D34E-4E6D-A9E4-B8EF86E04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EFB03-046A-4434-9FBF-F060EED18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754520" y="3068640"/>
                <a:ext cx="7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ciones de View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D y 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arte 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D viewing pipelin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ro forma de viewing pipeline 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uesto: Construir la matriz result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23760" y="2514600"/>
            <a:ext cx="89060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nGL 2D view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realidad, OpenGl no provee funciones especiales para 2D viewing pipe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mo se especifica la ventana de clipp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rixMode(GL_PROJECTION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Identity(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tho2D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xwmin,xwmax, ywmin,ywma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no se especifica una ventana de clipping, los valores usados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371600" y="6400800"/>
                <a:ext cx="7315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,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nGL 2D view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29920" y="1501560"/>
            <a:ext cx="9070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mo se especifica viewpor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port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xvmin,xvmax,vpWidth,vpHeigh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parámetros son coordenadas ent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vmin,yvmin) esquina  inferior izquierda relativa a la esquina interior izquierda de la ventana de dis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mo crear múltiples vis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GetIntegerv(GL_VIEWPORT, vparra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iene los parámetros del viewport act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 en OpenG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903240" y="1393920"/>
            <a:ext cx="8315280" cy="47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ualización de un triángulo en dos viewpor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971640" y="1995480"/>
            <a:ext cx="8058240" cy="43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57040" y="2057400"/>
            <a:ext cx="9572760" cy="5143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228600" y="343080"/>
            <a:ext cx="3057480" cy="1714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icializació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pecificación del triángul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914400" y="1428840"/>
            <a:ext cx="780084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unción que dibuj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06320" y="1285920"/>
            <a:ext cx="8894880" cy="60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goritmos de clipp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mo eliminar las porciones de la escena que estan fuer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pping de pu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pping de lín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pping de polígo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pping de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pping de curv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pping de un punt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ntana de clipping definida por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pping de un punt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200400" y="4114800"/>
                <a:ext cx="2560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154320" y="4572000"/>
                <a:ext cx="25606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y</m:t>
                    </m:r>
                    <m:r>
                      <m:t xml:space="preserve">≤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343400" y="3429000"/>
                <a:ext cx="13208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627280" y="2286000"/>
                <a:ext cx="49165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D viewing pip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ing en Open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mos de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pping de una líne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mo chequear si un segmento está dentro, fuera o intersecta el borde de la venta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743200" y="3429000"/>
            <a:ext cx="3944880" cy="30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goritmo Cohen-Sutherlan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 punto extremo de un segmento se clasifica con un número binario de 4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1:  Left (lado izquierdo de la vent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2: Right (lado derecho de la vent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3: Bottom (bajo la vent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4: Top (arriba de la vent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un punto extremo está fuera de la ventana se asigna al (o los) bit(s) correspondiente(s) u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goritmo Cohen-Sutherlan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" y="1828800"/>
            <a:ext cx="4754520" cy="530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ómo clasificar P(x,y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t 1: bit de signo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t 2: bit de signo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t 3: bit de signo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t 4: bit de signo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403960" y="2070000"/>
            <a:ext cx="4425840" cy="3873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057400" y="3200400"/>
                <a:ext cx="1371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057400" y="4370400"/>
                <a:ext cx="1398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000160" y="6716880"/>
                <a:ext cx="14464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057400" y="5715000"/>
                <a:ext cx="14241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goritmo Cohen-Sutherlan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2920" y="1828800"/>
            <a:ext cx="475452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o de operaciones lógicas la secuencia de bits de cada punto extremo para decidi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la operación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ulta  0 =&gt;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egmento “i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lsei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operació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AND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a != 0 =&gt;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segmento “ou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l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r inters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403960" y="2351160"/>
            <a:ext cx="4425840" cy="38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goritmo Cohen-Sutherlan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50292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ciones para el cálculo de las intersec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ndo representación con la pendiente del seg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ndo la representación paramétrica (Liang-Bars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56000" indent="0">
              <a:lnSpc>
                <a:spcPct val="93000"/>
              </a:lnSpc>
              <a:spcAft>
                <a:spcPts val="575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172200" y="4219560"/>
            <a:ext cx="3429000" cy="3095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172200" y="1600200"/>
            <a:ext cx="3429000" cy="2514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994040" y="3886200"/>
                <a:ext cx="143496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=mx+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57200" y="5321160"/>
                <a:ext cx="57754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=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+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n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=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+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n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481120" y="5823000"/>
                <a:ext cx="11764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u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325520" y="2743200"/>
                <a:ext cx="256068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nd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n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pping polígon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49120" y="3429000"/>
            <a:ext cx="9352080" cy="27496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therland-Hodgema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ta el polígono contra los cuatro ar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pping polígon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3400" y="1321920"/>
            <a:ext cx="90712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therland-Hodgema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bre polígonos convex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: vértices del polígonos. Output: vértices del polígono recor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analizan 4 c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85800" y="4114800"/>
            <a:ext cx="86868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corte de text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019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ar bounding-box que rodea el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ar bounding-box de cada carac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tar cada caracter si es neces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5800" y="3200400"/>
            <a:ext cx="80010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D viewing pipelin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eptos important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ransformaciones de viewing 2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peo from WC a 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143000" y="2971800"/>
            <a:ext cx="8458200" cy="4114800"/>
            <a:chOff x="1143000" y="2971800"/>
            <a:chExt cx="8458200" cy="411480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143000" y="2971800"/>
              <a:ext cx="84582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143000" y="2971800"/>
              <a:ext cx="845820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D viewing pipelin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ana de clipping y   view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85960" y="2619360"/>
            <a:ext cx="87152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D viewing pipelin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eptos important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entana de clipping (WC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lecciona las partes de la escena a mostrar en la pantalla (u otro dispositivo de sali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entana Viewport (VC)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pecifica en qué parte de la ventana de display  se mostrará la parte de la escena seleccionada en la ventana de clip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últiples viewports pueden ser usados para mostrar mútiples vistas de la esc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biando el tamaño de los viewports se puede mostrar los objetos de diferentes tam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uesto: Cómo lograr zoom in y zoom 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D viewing pipelin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ntana de Clipping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: polígono convexo, círculo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s lento de proce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 rectangular:  inclinada o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n general los paquetes gráficos solo se proveen ventanas de forma rectangular y con arcos paralelos a los eje x e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D viewing pipelin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eo Ventana de clipping- ventana viewport normal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calcular la transformación asociad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43000" y="2552760"/>
            <a:ext cx="811548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D viewing pipelin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7086600" cy="2286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108240" y="3886200"/>
                <a:ext cx="34750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xv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xw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971800" y="4800600"/>
                <a:ext cx="35575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yv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yw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600200" y="6702480"/>
                <a:ext cx="18288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v=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w+t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184720" y="6702480"/>
                <a:ext cx="19018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v=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w+t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457200" y="6141960"/>
            <a:ext cx="7942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viendo la expresión anterior se obtie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D viewing pipelin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uesto: obtener la transformación aplicando las transformaciones vistas las clases anteri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033720" y="2193840"/>
                <a:ext cx="22240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971800" y="4572000"/>
                <a:ext cx="35290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234120" y="2193840"/>
                <a:ext cx="22813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971800" y="3657600"/>
                <a:ext cx="3429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23:13:24Z</dcterms:created>
  <dc:creator>Nancy Hitschfeld</dc:creator>
  <dc:description/>
  <dc:language>en-US</dc:language>
  <cp:lastModifiedBy/>
  <dcterms:modified xsi:type="dcterms:W3CDTF">2012-04-12T15:14:10Z</dcterms:modified>
  <cp:revision>18</cp:revision>
  <dc:subject/>
  <dc:title/>
</cp:coreProperties>
</file>