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DE7-EFC2-4CF9-92EC-86F30244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6D3-9678-4AB1-8887-38C0AB8B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2CA-18D7-4562-BD5C-4AF7416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106-9DED-4C13-853C-FFD40BF9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AA8-B122-4FE4-B79C-15178B9E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77D-6008-47A0-B166-81BB40F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CBD-C0DB-400E-BB83-54048B86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4234-7772-4633-BE11-306AB1C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FAF6-8653-4444-9040-0D49CB26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A5D-84FD-4948-851B-179850A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0945-729A-4BB9-8C1D-E94F8A6F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9CB-643D-437F-95B6-553A1859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C3A6-1379-447A-8673-69FDC76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3F55-4B5F-412A-A490-F14B38C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64AC-BB1E-456A-9035-399AACC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55C-954C-495B-9A1F-4B279DFD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D2E-5B33-4E39-8A81-E6D8713D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A16-9737-4151-9E54-ED8C3A5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CEC-F0A6-4AA5-8070-6CB740D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71F-D478-4681-AD47-4F0C515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A52-0F1D-4C8D-BA3D-E7AF7BBC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BD0-07C3-4538-985A-F19E8C5B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E56-A2B4-4324-9295-D6CD19D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BB1-9323-4638-AEF4-BC08F1C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F6E48-3682-41E6-9227-3EBA3473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BD842-997A-43F1-8F2A-5D756E94D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o forma de viewing pipeline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onstruir la matriz resul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23760" y="2514600"/>
            <a:ext cx="890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realidad, OpenGl no provee funciones especiales para 2D viewin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la ventana de cli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(GL_PROJEC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dentity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2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wmin,xwmax, ywmin,ywma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se especifica una ventana de clipping, los valores usa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6400800"/>
                <a:ext cx="7315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9920" y="150156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viewpo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vmin,xvmax,vpWidth,vpHe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ámetros son coordenadas ent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vmin,yvmin) esquina  inferior izquierda relativa a la esquina interior izquierda de la ventana d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rear múltiples vi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GetIntegerv(GL_VIEWPORT, vparra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iene los parámetros del viewport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en OpenG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3240" y="1393920"/>
            <a:ext cx="83152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de un triángulo en dos view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995480"/>
            <a:ext cx="80582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7040" y="2057400"/>
            <a:ext cx="957276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43080"/>
            <a:ext cx="305748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pecificación del triángu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428840"/>
            <a:ext cx="7800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ión que dibuj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6320" y="1285920"/>
            <a:ext cx="8894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eliminar las porciones de la escena que estan fue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u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lí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olíg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 pun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 definida po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un p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411480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54320" y="4572000"/>
                <a:ext cx="256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343400" y="342900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27280" y="2286000"/>
                <a:ext cx="4916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e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a líne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hequear si un segmento está dentro, fuera o intersecta el borde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9448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 punto extremo de un segmento se clasifica con un número binario de 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1:  Left (lado izquierd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2: Right (lado derech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3: Bottom (bajo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4: Top (arriba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 punto extremo está fuera de la ventana se asigna al (o los) bit(s) correspondiente(s) u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ómo clasificar P(x,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1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2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3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4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03960" y="2070000"/>
            <a:ext cx="4425840" cy="387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320040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57400" y="4370400"/>
                <a:ext cx="139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00160" y="6716880"/>
                <a:ext cx="1446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5715000"/>
                <a:ext cx="1424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 operaciones lógicas la secuencia de bits de cada punto extremo para decid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a operació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a  0 =&gt;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gmento “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operació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 != 0 =&gt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gmento “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03960" y="2351160"/>
            <a:ext cx="442584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029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para el cálculo de las interse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representación con la pendiente del seg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la representación paramétrica (Liang-Bar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219560"/>
            <a:ext cx="3429000" cy="309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342900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94040" y="3886200"/>
                <a:ext cx="14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x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5321160"/>
                <a:ext cx="577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81120" y="5823000"/>
                <a:ext cx="1176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25520" y="2743200"/>
                <a:ext cx="2560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9120" y="3429000"/>
            <a:ext cx="9352080" cy="2749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ta el polígono contra los cuatro ar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3400" y="1321920"/>
            <a:ext cx="9071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olígonos conv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vértices del polígonos. Output: vértices del polígono reco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nalizan 4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rte de tex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que rodea 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de cada cara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tar cada caracter si es neces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viewing 2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eo from WC a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71800"/>
            <a:ext cx="8458200" cy="4114800"/>
            <a:chOff x="1143000" y="2971800"/>
            <a:chExt cx="8458200" cy="41148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143000" y="2971800"/>
              <a:ext cx="8458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143000" y="2971800"/>
              <a:ext cx="8458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ana de clipping y   view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5960" y="2619360"/>
            <a:ext cx="8715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de clipping (WC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ciona las partes de la escena a mostrar en la pantalla (u otro dispositivo de sa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Viewport (VC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fica en qué parte de la ventana de display  se mostrará la parte de la escena seleccionada en la ventana de clip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viewports pueden ser usados para mostrar mútiples vistas de la es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ando el tamaño de los viewports se puede mostrar los objetos de diferentes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ómo lograr zoom in y zoom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: polígono convexo, círcul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lento de proc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rectangular:  inclinada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los paquetes gráficos solo se proveen ventanas de forma rectangular y con arcos paralelos a los eje x 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eo Ventana de clipping- ventana viewport norm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la transformación asociad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2552760"/>
            <a:ext cx="8115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0866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8240" y="3886200"/>
                <a:ext cx="3475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4800600"/>
                <a:ext cx="3557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00200" y="6702480"/>
                <a:ext cx="1828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v=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+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84720" y="6702480"/>
                <a:ext cx="1901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v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+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6141960"/>
            <a:ext cx="7942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endo la expresión anterior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obtener la transformación aplicando las transformaciones vistas las clases anteri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3720" y="2193840"/>
                <a:ext cx="2224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4572000"/>
                <a:ext cx="352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34120" y="2193840"/>
                <a:ext cx="228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657600"/>
                <a:ext cx="3429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12T15:14:10Z</dcterms:modified>
  <cp:revision>18</cp:revision>
  <dc:subject/>
  <dc:title/>
</cp:coreProperties>
</file>