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7D5-8542-4C10-B5E6-90D02C41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41C-6F83-429E-8C12-873ACD04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778-C0FD-4D20-84FD-B05CD7B2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F2A-104A-4A5F-9C0C-46E6401D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A8DD-5417-4C8E-96CF-28BEE0CF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2D9D-D1E8-4424-A810-C9E81CA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0245-D69C-430E-B442-154FDA50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125-B909-4322-8B9D-B0F4F3C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7E60-FA70-482E-9BC5-20EF736B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C58B-1FC3-4E96-A22F-9043B9B0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F6B4-015E-44B3-B824-30BF623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9D4-78B6-41CC-BF45-CD4F735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0F8C-1557-4D1D-B558-F77E134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AB6-3EE7-432D-8ED5-550902B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E50-D3A2-4672-8F3E-746D8ED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39E6-9F70-4327-B2C0-95629FF0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9B00-A19F-49A9-A831-C8638616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278-B859-4B6D-B272-9051254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9D6-919B-409A-9DE9-C8F323AC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5D9-DF43-4DB7-BB1F-8DD27448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510-F919-4806-86DE-78A1F63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282-DBCB-4A40-9A14-3574E081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1FE-DBB8-4F57-93B5-56E9BE5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4E4-723A-4664-9DAB-FA57467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5F71-9DDE-4C44-922D-CCAE9954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DCA36-AEC6-4A1B-A9C4-515501AA8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09680" y="2743200"/>
                <a:ext cx="33400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90600"/>
            <a:ext cx="1627200" cy="60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28800" y="2489040"/>
                <a:ext cx="252720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57360" y="4873680"/>
                <a:ext cx="743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57600" y="4873680"/>
                <a:ext cx="72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85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            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743200" y="5330880"/>
                <a:ext cx="677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38560" y="5330880"/>
                <a:ext cx="662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2489040"/>
                <a:ext cx="2346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70400" y="2041560"/>
            <a:ext cx="4330800" cy="435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76400" y="4572000"/>
                <a:ext cx="1828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=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371600"/>
            <a:ext cx="89154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dado un eje arbitrario representado por          determine la matriz de transformación  que rota un punto R alrededor de            en un ángulo </a:t>
            </a:r>
            <a:r>
              <a:rPr b="0" lang="es-E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24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001000" y="137160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2130480"/>
                <a:ext cx="457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286000"/>
                <a:ext cx="4550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=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ordenadas del eje de rotación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vector unitario u 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1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4114800"/>
                <a:ext cx="5602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81200" y="5715000"/>
                <a:ext cx="2309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159000"/>
            <a:ext cx="937260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86000" y="1706400"/>
                <a:ext cx="1643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'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rPr>
                            <m:lit/>
                            <m:nor/>
                          </m:rPr>
                          <m:t xml:space="preserve">b,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29000" y="2349360"/>
                <a:ext cx="1463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77000" y="1557360"/>
                <a:ext cx="1467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0" y="1469880"/>
                <a:ext cx="15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ón con respecto a un eje arbitrario 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o 2: propue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result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94476b"/>
                </a:solidFill>
                <a:latin typeface="Arial"/>
              </a:rPr>
              <a:t>En las matrices de rotación               dado que solo la función seno cambia de sig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2514600"/>
                <a:ext cx="137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1630440"/>
            <a:ext cx="4114800" cy="362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754520" y="36306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5568840"/>
                <a:ext cx="8101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89680" y="6172200"/>
                <a:ext cx="1096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*(tx,ty,tz)  (matriz de traslación 4x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f(tx,ty,tz)  (f = flo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(tx,ty,tz)  (f = dou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*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  <a:ea typeface="DejaVu Sans"/>
              </a:rPr>
              <a:t>θ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vy,vz)   (vx,vy,vz) define un eje de rotación que pasa por el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*(sx,sy,s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ar que hemos 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GL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caso nos debemos referir a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MODEL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designa que la matriz actual es de tipo modelview. Esta se usa para aplicar transformaciones a los puntos de la esc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llamada a una función de transformación genera una matrix que es multiplicada por la matriz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signar valores a la matriz actual us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*(elements16) (arreglo elements[16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 elems[16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(k=0; k&lt;16, k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s[k] = (float)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Matrixf(ele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mutatividad en transformaciones geo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 en 3D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formaciones 3D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ón con respect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Qué provee  OpenG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93726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atenación de la matriz actual con una especí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*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M es la matrix actual,  la nueva M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 * M'(otherElements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VIEW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Identity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2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Matrixf(elemsM1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= M2*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pasa si necesitamos mantener más de una matriz de transformaciones para modelar distintas escen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cada modo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PROJECTION,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,etc) que seleccionamos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penGl mantiene un “stack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En el tope esta la matriz ac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tamaño predefinido es 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terminar el tamaño máx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AX_MODELVIEW_STACK_DEPTH,                            stackSiz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Integerv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MODELVIEW_STACK_DEPTH,                                      numMats);  // número de matr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.. ¿qué prove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78000"/>
            <a:ext cx="9601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Matrix(): se copia la matriz actual en el tope del satck activo  y deja la que estaba antes en el tope en la segunda posició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dos matrices iguales en las primeras dos posiciones del St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Matrix():  elimina la que está en el tope. (Error si no hay menos de dos matr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90, 0.0, 0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dentity()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-0.5, 1.0, 1.0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programación de transformaciones geométricas (con sta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77640"/>
            <a:ext cx="9601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Mode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MODELVI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0.0, 0.0, 1.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 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3f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1.0, 0.0, 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200.0, -50.0, -0.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ras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 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Matrix();// copia identidad en el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90, 0.0, 0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Matrix(); //elimina matriz de ro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-0.5, 1.0, 1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, 100, 200, 150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ibuja en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365760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Gl Transformacione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ransformaciones no son conmutativas en 3D que si lo eran en 2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Programar una rotación en torno a un eje arbitr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33720" y="2286000"/>
            <a:ext cx="47530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-D y 3D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esde donde  miro la es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la proye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67560" y="914400"/>
            <a:ext cx="316224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05120"/>
            <a:ext cx="4600440" cy="3381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67440" y="4286160"/>
            <a:ext cx="3762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= reflexion y T' = rotacion no son conmut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919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conmutativas en dos dimensio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sl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entre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alamiento (            ) y r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 (demostrar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arbitraria de transformaciones (escalamiento, rotación y trasl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aciones preservan ángulos y long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ecuencia arbitraria de transformaciones preserva el paralelismo de las líneas, pero no longitudes ni áng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00400" y="3657600"/>
                <a:ext cx="914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s etapas del proceso de  visualización necesitamos cambiar el sistema de coordenadas. Ejemplo: MCS--&gt;W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: Sistema de coordenada x'y' con origen en             y orientació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en el sistema de referencia 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Cómo transformar un objeto en coordenadas del sistema xy al sistema x'y'?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835760" y="262404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entre sistemas de coordenadas en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Pasos a segu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sladar el origen del sistema x'y'              de tal manera que coincida en (0,0) en el sistema 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Rotar de tal manera que los ejes coincid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Transformación resultante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2286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4520" y="3630600"/>
            <a:ext cx="719280" cy="36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43200" y="558648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,x'y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2743200"/>
            <a:ext cx="3124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3600" y="1839960"/>
            <a:ext cx="3591000" cy="27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114800"/>
                <a:ext cx="3733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86080" y="2260440"/>
                <a:ext cx="3543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371600" y="5029200"/>
                <a:ext cx="35434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943600" y="5029200"/>
                <a:ext cx="35211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en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va es ccw (counter clock wise) miran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de la parte positiva del eje hacia el orig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314440" cy="491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>Nancy Hitschfeld</cp:lastModifiedBy>
  <dcterms:modified xsi:type="dcterms:W3CDTF">2012-04-10T13:27:20Z</dcterms:modified>
  <cp:revision>27</cp:revision>
  <dc:subject/>
  <dc:title/>
</cp:coreProperties>
</file>