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E5E-1B85-4C86-BCDF-49D297CF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B21-6FE1-4B82-9F33-D8402C85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D6-3C6D-4986-B0E4-73540C36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824-B565-49FD-AECC-AFB0F2EB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594-AD3E-4D63-8289-2038CFAE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7E7-B33E-44CE-B604-E22B1D7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AADB-B7DB-4130-ABE7-774A70A9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A60-9945-46E1-B243-1FCAA33B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B90-6D9F-4B93-A8A5-E00FB86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E08A-D2E1-496D-B14A-6726914D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C07-1A35-415B-9154-220919A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CA9-1406-4973-B9A0-F1D1122D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348E-4C46-44EF-BF9C-E1ED4AA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A8F-5609-4536-89E3-717AAF8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DBD0-3A58-4480-9A87-B3A5469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97E6-275B-4CCA-AA83-3D7BBDB1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60E8-BDEC-4C83-AC68-66AF0C3E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8B-0C59-4CBA-8F39-3B3819C3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FEF-6F2C-4E6C-8B30-5092BA9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642-8296-4C17-97D1-018B523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244-EF9E-458D-8DBE-09A6262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1B7-31D7-4619-80A7-87DB795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B30-87F9-45A7-8149-16EDA05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912-7795-46D2-8877-92A968F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8176-A818-4618-BA3E-7F600D6F0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9741D-2BE1-4835-86B7-483C9FD8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09680" y="2743200"/>
                <a:ext cx="33400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90600"/>
            <a:ext cx="16272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28800" y="2489040"/>
                <a:ext cx="25272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7360" y="48736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4873680"/>
                <a:ext cx="72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85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743200" y="5330880"/>
                <a:ext cx="677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38560" y="5330880"/>
                <a:ext cx="662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2489040"/>
                <a:ext cx="2346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70400" y="2041560"/>
            <a:ext cx="4330800" cy="435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76400" y="4572000"/>
                <a:ext cx="1828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371600"/>
            <a:ext cx="8915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ado un eje arbitrario representado por          determine la matriz de transformación  que rota un punto R alrededor de            en un ángulo </a:t>
            </a:r>
            <a:r>
              <a:rPr b="0" lang="es-E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24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010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286000"/>
                <a:ext cx="455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=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ordenadas del eje de rotación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ector unitario u 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4114800"/>
                <a:ext cx="5602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81200" y="5715000"/>
                <a:ext cx="23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159000"/>
            <a:ext cx="937260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1706400"/>
                <a:ext cx="164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'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rPr>
                            <m:lit/>
                            <m:nor/>
                          </m:rPr>
                          <m:t xml:space="preserve">b,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2349360"/>
                <a:ext cx="1463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77000" y="1557360"/>
                <a:ext cx="1467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1469880"/>
                <a:ext cx="15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 pro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result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94476b"/>
                </a:solidFill>
                <a:latin typeface="Arial"/>
              </a:rPr>
              <a:t>En las matrices de rotación               dado que solo la función seno cambia de sig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2514600"/>
                <a:ext cx="137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1630440"/>
            <a:ext cx="4114800" cy="362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754520" y="36306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5568840"/>
                <a:ext cx="8101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89680" y="6172200"/>
                <a:ext cx="1096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*(tx,ty,tz)  (matriz de traslación 4x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f(tx,ty,tz)  (f = flo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(tx,ty,tz)  (f = 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*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  <a:ea typeface="DejaVu Sans"/>
              </a:rPr>
              <a:t>θ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vy,vz)   (vx,vy,vz) define un eje de rotación que pasa por el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*(sx,sy,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ar que hemos 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GL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caso nos debemos referir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MODEL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designa que la matriz actual es de tipo modelview. Esta se usa para aplicar transformaciones a los puntos de la esc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llamada a una función de transformación genera una matrix que es multiplicada por la matriz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signar valores a la matriz actual us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*(elements16) (arreglo elements[16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elems[1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(k=0; k&lt;16, k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s[k] = (float)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f(ele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mutatividad en transformaciones geo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 en 3D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formaciones 3D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ón con respect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Qué provee  OpenG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ción de la matriz actual con una especí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*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M es la matrix actual,  la nueva M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 * M'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2*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sa si necesitamos mantener más de una matriz de transformaciones para modelar distintas escen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cada modo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PROJECTION,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,etc) que seleccionamos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penGl mantiene un “stack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n el tope esta la matriz ac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tamaño predefinido es 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terminar el tamaño máx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AX_MODELVIEW_STACK_DEPTH,                            stackSiz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_STACK_DEPTH,                                      numMats);  // número de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Matrix(): se copia la matriz actual en el tope del satck activo  y deja la que estaba antes en el tope en la segunda posició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dos matrices iguales en las primeras dos posiciones del St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Matrix():  elimina la que está en el tope. (Error si no hay menos de dos 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90, 0.0, 0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0.5, 1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 (con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 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 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90, 0.0, 0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0.5, 1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ransformaciones no son conmutativas en 3D que si lo eran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Programar una rotación en torn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33720" y="2286000"/>
            <a:ext cx="47530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-D y 3D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esde donde  miro la es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la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67560" y="914400"/>
            <a:ext cx="316224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05120"/>
            <a:ext cx="4600440" cy="3381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67440" y="4286160"/>
            <a:ext cx="3762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= reflexion y T' = rotacion no son conmu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conmutativas en dos dimensio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sl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(            ) y r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 (demostrar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arbitraria de transformaciones (escalamiento, rotación y trasl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preservan ángulos y long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ecuencia arbitraria de transformaciones preserva el paralelismo de las líneas, pero no longitudes ni 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00400" y="3657600"/>
                <a:ext cx="914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s etapas del proceso de  visualización necesitamos cambiar el sistema de coordenadas. Ejemplo: MCS--&gt;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Sistema de coordenada x'y' con origen en             y orientació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en el sistema de referencia 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Cómo transformar un objeto en coordenadas del sistema xy al sistema x'y'?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835760" y="262404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Pasos a segu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sladar el origen del sistema x'y'              de tal manera que coincida en (0,0) en el sistema 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Rotar de tal manera que los ejes coincid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nsformación resultante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2286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4520" y="3630600"/>
            <a:ext cx="719280" cy="3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3200" y="55864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,x'y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274320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839960"/>
            <a:ext cx="3591000" cy="27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114800"/>
                <a:ext cx="3733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86080" y="2260440"/>
                <a:ext cx="3543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371600" y="5029200"/>
                <a:ext cx="3543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943600" y="5029200"/>
                <a:ext cx="35211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va es ccw (counter clock wise) miran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de la parte positiva del eje hacia el ori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314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>Nancy Hitschfeld</cp:lastModifiedBy>
  <dcterms:modified xsi:type="dcterms:W3CDTF">2012-04-10T13:27:20Z</dcterms:modified>
  <cp:revision>27</cp:revision>
  <dc:subject/>
  <dc:title/>
</cp:coreProperties>
</file>