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27D-8982-4DF5-AC1B-681EBC92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9EA-6EFF-4C6C-8786-D25B94F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7AD-F15C-400B-AC9E-CDB431E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A02-6454-4956-9050-9E81183E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DC6-3A6F-4209-B4B9-5A12626D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1A96-C7B4-4515-98DC-336DEA3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E981-4976-46C8-8192-FA6616C2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CD9A-3043-468A-9594-7925521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8DA3-ABA9-4E6B-8CB3-F055726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A81A-4C0E-4982-AE1B-D2422F9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E94A-E5FB-4BAB-930C-54DB62F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7B3-A025-43CD-BD7C-DAA27AE6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8374-7201-4A47-B85F-68463A23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CDD-A543-4701-8166-D3D3C4C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B435-0E25-4017-A7AA-CE1C5C8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8BB9-6269-43D3-AC54-EEFA544F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677F-6384-4E2E-859C-5F514E57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4EC-3153-4218-B750-E0555EB0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1A5-A345-41E8-9C12-29F8761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14C-22F1-4839-AD69-1E83853F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A9D-9B73-4D51-B9F1-12A20B9D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F1B-4562-4678-AA2C-99E6121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73A-F649-4659-B8E6-21DEDC2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5CB-AEDD-4789-BCA0-A130256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6181A-8F34-45B2-983B-3F6652B6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4A355-7CF5-47A0-ABBC-BC397532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09680" y="2743200"/>
                <a:ext cx="33400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90600"/>
            <a:ext cx="16272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28800" y="2489040"/>
                <a:ext cx="25272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7360" y="48736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4873680"/>
                <a:ext cx="72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85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743200" y="5330880"/>
                <a:ext cx="677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38560" y="5330880"/>
                <a:ext cx="662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2489040"/>
                <a:ext cx="2346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70400" y="2041560"/>
            <a:ext cx="4330800" cy="435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76400" y="4572000"/>
                <a:ext cx="1828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371600"/>
            <a:ext cx="8915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ado un eje arbitrario representado por          determine la matriz de transformación  que rota un punto R alrededor de            en un ángulo </a:t>
            </a:r>
            <a:r>
              <a:rPr b="0" lang="es-E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24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010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286000"/>
                <a:ext cx="455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=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ordenadas del eje de rotación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ector unitario u 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4114800"/>
                <a:ext cx="5602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81200" y="5715000"/>
                <a:ext cx="23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159000"/>
            <a:ext cx="937260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1706400"/>
                <a:ext cx="164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'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rPr>
                            <m:lit/>
                            <m:nor/>
                          </m:rPr>
                          <m:t xml:space="preserve">b,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2349360"/>
                <a:ext cx="1463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77000" y="1557360"/>
                <a:ext cx="1467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1469880"/>
                <a:ext cx="15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 pro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result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94476b"/>
                </a:solidFill>
                <a:latin typeface="Arial"/>
              </a:rPr>
              <a:t>En las matrices de rotación               dado que solo la función seno cambia de sig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2514600"/>
                <a:ext cx="137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1630440"/>
            <a:ext cx="4114800" cy="362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754520" y="36306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5568840"/>
                <a:ext cx="8101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89680" y="6172200"/>
                <a:ext cx="1096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*(tx,ty,tz)  (matriz de traslación 4x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f(tx,ty,tz)  (f = flo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(tx,ty,tz)  (f = 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*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  <a:ea typeface="DejaVu Sans"/>
              </a:rPr>
              <a:t>θ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vy,vz)   (vx,vy,vz) define un eje de rotación que pasa por el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*(sx,sy,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ar que hemos 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GL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caso nos debemos referir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MODEL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designa que la matriz actual es de tipo modelview. Esta se usa para aplicar transformaciones a los puntos de la esc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llamada a una función de transformación genera una matrix que es multiplicada por la matriz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signar valores a la matriz actual us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*(elements16) (arreglo elements[16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elems[1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(k=0; k&lt;16, k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s[k] = (float)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f(ele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mutatividad en transformaciones geo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 en 3D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formaciones 3D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ón con respect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Qué provee  OpenG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ción de la matriz actual con una especí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*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M es la matrix actual,  la nueva M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 * M'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2*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sa si necesitamos mantener más de una matriz de transformaciones para modelar distintas escen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cada modo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PROJECTION,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,etc) que seleccionamos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penGl mantiene un “stack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n el tope esta la matriz ac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tamaño predefinido es 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terminar el tamaño máx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AX_MODELVIEW_STACK_DEPTH,                            stackSiz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_STACK_DEPTH,                                      numMats);  // número de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Matrix(): se copia la matriz actual en el tope del satck activo  y deja la que estaba antes en el tope en la segunda posició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dos matrices iguales en las primeras dos posiciones del St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Matrix():  elimina la que está en el tope. (Error si no hay menos de dos 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90, 0.0, 0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0.5, 1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 (con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 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 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90, 0.0, 0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0.5, 1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ransformaciones no son conmutativas en 3D que si lo eran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Programar una rotación en torn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33720" y="2286000"/>
            <a:ext cx="47530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-D y 3D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esde donde  miro la es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la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67560" y="914400"/>
            <a:ext cx="316224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05120"/>
            <a:ext cx="4600440" cy="3381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67440" y="4286160"/>
            <a:ext cx="3762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= reflexion y T' = rotacion no son conmu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conmutativas en dos dimensio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sl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(            ) y r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 (demostrar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arbitraria de transformaciones (escalamiento, rotación y trasl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preservan ángulos y long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ecuencia arbitraria de transformaciones preserva el paralelismo de las líneas, pero no longitudes ni 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00400" y="3657600"/>
                <a:ext cx="914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s etapas del proceso de  visualización necesitamos cambiar el sistema de coordenadas. Ejemplo: MCS--&gt;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Sistema de coordenada x'y' con origen en             y orientació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en el sistema de referencia 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Cómo transformar un objeto en coordenadas del sistema xy al sistema x'y'?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835760" y="262404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Pasos a segu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sladar el origen del sistema x'y'              de tal manera que coincida en (0,0) en el sistema 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Rotar de tal manera que los ejes coincid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nsformación resultante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2286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4520" y="3630600"/>
            <a:ext cx="719280" cy="3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3200" y="55864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,x'y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274320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839960"/>
            <a:ext cx="3591000" cy="27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114800"/>
                <a:ext cx="3733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86080" y="2260440"/>
                <a:ext cx="3543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371600" y="5029200"/>
                <a:ext cx="3543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943600" y="5029200"/>
                <a:ext cx="35211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va es ccw (counter clock wise) miran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de la parte positiva del eje hacia el ori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314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>Nancy Hitschfeld</cp:lastModifiedBy>
  <dcterms:modified xsi:type="dcterms:W3CDTF">2012-04-10T13:27:20Z</dcterms:modified>
  <cp:revision>27</cp:revision>
  <dc:subject/>
  <dc:title/>
</cp:coreProperties>
</file>