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929-F263-46B5-B924-D02F2991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073-8F07-4EB3-BAD2-36195E0F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15F-0657-4A9B-865F-F828EB36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21D-5189-49AC-9EC0-EC2BABF8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F9F4-98B8-4241-89A2-9FE5F42E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7B6A-C2E9-44FB-AE58-0AB00F7D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DDA-A075-42B5-9377-159784B6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9A43-416C-487A-96ED-ACC1606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FC31-EE6E-4B15-BC40-EFB34DC1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FBF-C52E-4B5C-AD15-92CB1623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792-3781-4A3D-B7FB-1C1F988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242-329F-4AAF-AA36-831A0D5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7725-FB45-46D3-82E9-5039A43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E21-319A-443E-B0E9-2936186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640-8520-411F-942A-90679C59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AE4B-ED38-4F36-AF97-798F77F9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841-9D01-4EA9-8D36-03864C48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92B-124E-417D-A969-DD64777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5D7-9E71-451A-89C9-B6C8481E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516-2C31-4977-8F41-26BF684B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AE4-3731-4222-A191-3D7E4756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E9E-8DB2-4230-8778-CF208D4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92E-3204-430E-911F-539101D1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D43-C118-4B4A-8353-471D9FC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DF68C-E87C-453D-B6FF-2CD06AE6C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E0C5E-56BE-4EEF-88B6-760EA772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compuestas bidimension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 mostrar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414520"/>
                <a:ext cx="5372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4343400"/>
                <a:ext cx="3592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3328920"/>
                <a:ext cx="5486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ombinan las matrices elementales para producir el efecto des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gana eficiencia usando la matriz resul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Rotación alrededor de punto arbitrario P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(x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e alrededor de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ara que el punto en el origen vuelva a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745240"/>
            <a:ext cx="657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T (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=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Matriz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3º          2º              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Arial"/>
              </a:rPr>
              <a:t>Expresar como una composición de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otación en torno a un punto distinto del orige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scalamiento en torno a un punto distinto del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280" y="2743200"/>
            <a:ext cx="1679400" cy="1523880"/>
            <a:chOff x="1979280" y="2743200"/>
            <a:chExt cx="1679400" cy="1523880"/>
          </a:xfrm>
        </p:grpSpPr>
        <p:grpSp>
          <p:nvGrpSpPr>
            <p:cNvPr id="139" name=""/>
            <p:cNvGrpSpPr/>
            <p:nvPr/>
          </p:nvGrpSpPr>
          <p:grpSpPr>
            <a:xfrm>
              <a:off x="1979280" y="2743200"/>
              <a:ext cx="1679400" cy="1523880"/>
              <a:chOff x="1979280" y="2743200"/>
              <a:chExt cx="167940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12840" y="2743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97928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90920" y="28954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256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56000" y="2743200"/>
            <a:ext cx="1679400" cy="1523880"/>
            <a:chOff x="5256000" y="2743200"/>
            <a:chExt cx="1679400" cy="1523880"/>
          </a:xfrm>
        </p:grpSpPr>
        <p:grpSp>
          <p:nvGrpSpPr>
            <p:cNvPr id="145" name=""/>
            <p:cNvGrpSpPr/>
            <p:nvPr/>
          </p:nvGrpSpPr>
          <p:grpSpPr>
            <a:xfrm>
              <a:off x="5256000" y="2743200"/>
              <a:ext cx="1679400" cy="1523880"/>
              <a:chOff x="5256000" y="2743200"/>
              <a:chExt cx="1679400" cy="1523880"/>
            </a:xfrm>
          </p:grpSpPr>
          <p:sp>
            <p:nvSpPr>
              <p:cNvPr id="146" name=""/>
              <p:cNvSpPr/>
              <p:nvPr/>
            </p:nvSpPr>
            <p:spPr>
              <a:xfrm>
                <a:off x="5389560" y="2743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25600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6200000">
              <a:off x="5713560" y="304812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928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280" y="5486400"/>
            <a:ext cx="1679400" cy="1523880"/>
            <a:chOff x="1979280" y="5486400"/>
            <a:chExt cx="1679400" cy="1523880"/>
          </a:xfrm>
        </p:grpSpPr>
        <p:grpSp>
          <p:nvGrpSpPr>
            <p:cNvPr id="151" name=""/>
            <p:cNvGrpSpPr/>
            <p:nvPr/>
          </p:nvGrpSpPr>
          <p:grpSpPr>
            <a:xfrm>
              <a:off x="1979280" y="5486400"/>
              <a:ext cx="1679400" cy="1523880"/>
              <a:chOff x="1979280" y="5486400"/>
              <a:chExt cx="1679400" cy="152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112840" y="54864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7928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90920" y="56386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256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6000" y="5486400"/>
            <a:ext cx="1679400" cy="1523880"/>
            <a:chOff x="5256000" y="5486400"/>
            <a:chExt cx="1679400" cy="1523880"/>
          </a:xfrm>
        </p:grpSpPr>
        <p:grpSp>
          <p:nvGrpSpPr>
            <p:cNvPr id="157" name=""/>
            <p:cNvGrpSpPr/>
            <p:nvPr/>
          </p:nvGrpSpPr>
          <p:grpSpPr>
            <a:xfrm>
              <a:off x="5256000" y="5486400"/>
              <a:ext cx="1679400" cy="1523880"/>
              <a:chOff x="5256000" y="5486400"/>
              <a:chExt cx="1679400" cy="15238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9560" y="54864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25600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006960" y="5969160"/>
              <a:ext cx="15264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928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4800" y="2171880"/>
            <a:ext cx="2673000" cy="3840120"/>
            <a:chOff x="604800" y="2171880"/>
            <a:chExt cx="2673000" cy="3840120"/>
          </a:xfrm>
        </p:grpSpPr>
        <p:sp>
          <p:nvSpPr>
            <p:cNvPr id="164" name=""/>
            <p:cNvSpPr/>
            <p:nvPr/>
          </p:nvSpPr>
          <p:spPr>
            <a:xfrm>
              <a:off x="1676520" y="217188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98400" y="3525840"/>
              <a:ext cx="167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2324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209680" y="38098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04800" y="4876920"/>
                  <a:ext cx="1236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4707000" y="1066680"/>
            <a:ext cx="3698640" cy="5105520"/>
            <a:chOff x="4707000" y="1066680"/>
            <a:chExt cx="3698640" cy="5105520"/>
          </a:xfrm>
        </p:grpSpPr>
        <p:sp>
          <p:nvSpPr>
            <p:cNvPr id="170" name=""/>
            <p:cNvSpPr/>
            <p:nvPr/>
          </p:nvSpPr>
          <p:spPr>
            <a:xfrm>
              <a:off x="5618160" y="15238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22840" y="2878200"/>
              <a:ext cx="244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57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7040" y="3886200"/>
              <a:ext cx="18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07000" y="6019920"/>
              <a:ext cx="236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8040000">
              <a:off x="5317920" y="4495320"/>
              <a:ext cx="304560" cy="609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84760" y="4189320"/>
              <a:ext cx="2057400" cy="195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9680" y="5726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60000">
              <a:off x="6016320" y="5219280"/>
              <a:ext cx="304920" cy="60984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2120" y="487692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(propuest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700680" y="1066680"/>
                  <a:ext cx="1236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60400" y="1600200"/>
            <a:ext cx="1562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s Transformaciones 2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772400" y="2743200"/>
                <a:ext cx="1482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1064880" y="3886200"/>
            <a:ext cx="7391520" cy="2135880"/>
            <a:chOff x="1064880" y="3886200"/>
            <a:chExt cx="7391520" cy="213588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640" y="571500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064880" y="3886200"/>
              <a:ext cx="1679400" cy="1523880"/>
              <a:chOff x="1064880" y="3886200"/>
              <a:chExt cx="16794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198440" y="3886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6488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55800" y="3886200"/>
              <a:ext cx="1679400" cy="1523880"/>
              <a:chOff x="3655800" y="3886200"/>
              <a:chExt cx="1679400" cy="1523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78936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5580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75320" y="3886200"/>
              <a:ext cx="1679760" cy="1523880"/>
              <a:chOff x="6475320" y="3886200"/>
              <a:chExt cx="1679760" cy="1523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61032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475320" y="5241960"/>
                <a:ext cx="167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219320" y="4495680"/>
              <a:ext cx="990360" cy="736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4680" y="4546440"/>
              <a:ext cx="1295280" cy="685800"/>
            </a:xfrm>
            <a:prstGeom prst="parallelogram">
              <a:avLst>
                <a:gd name="adj" fmla="val 472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6703200" y="4177800"/>
              <a:ext cx="978120" cy="1155960"/>
            </a:xfrm>
            <a:prstGeom prst="parallelogram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hearing: </a:t>
            </a: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Esta transformación cambia el valor de las coordenadas sumándole un valor lineal de la otra coordenada. La matriz general cor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óxima clas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áles son commutativas y cuales no, cómo especificarlas en OpenGl y transformacione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ción  (2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sformaciones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0200" y="2286000"/>
            <a:ext cx="6335280" cy="3723480"/>
            <a:chOff x="1600200" y="2286000"/>
            <a:chExt cx="6335280" cy="3723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267080" y="2286000"/>
              <a:ext cx="14479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886200" y="379728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24480" y="3808440"/>
              <a:ext cx="13716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600200" y="38005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54200" y="5092560"/>
              <a:ext cx="62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scalamiento               Rotación                                      Tras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50%)                        (45º)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39800" y="1398600"/>
            <a:ext cx="451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y Importante en ani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ción: Visualizar y animar modelos 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visualización de modelos bidimensionales requiere la capacidad de </a:t>
            </a: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crear y manip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cambiar tamaño, posición u orientación) de entidades como líneas, triángulos, punt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resentación de geometrías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coordenadas cartesiano 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Punto como elemento bás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or ejemplo, un segmento de línea se representa por sus puntos extremos, un triángulo por tres pun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502920"/>
            <a:ext cx="85676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4535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’ = x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 y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’ = x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y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tación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679400"/>
            <a:ext cx="144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40040" y="4367160"/>
            <a:ext cx="31957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6000" y="3525840"/>
            <a:ext cx="1847880" cy="84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6000" y="2685600"/>
            <a:ext cx="109224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3880" y="3527280"/>
            <a:ext cx="14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88240" y="268776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3863880"/>
            <a:ext cx="252360" cy="2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3160" y="4116240"/>
            <a:ext cx="84240" cy="2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33400" y="3651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8880" y="3975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836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76800" y="2351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’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49200" y="5257800"/>
                <a:ext cx="3780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3200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Esca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DejaVu Sans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x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y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6309"/>
                </a:solidFill>
                <a:latin typeface="Arial"/>
                <a:ea typeface="DejaVu Sans"/>
              </a:rPr>
              <a:t>¿Notación matr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triz T) No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684520"/>
                <a:ext cx="222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4033800"/>
            <a:ext cx="441936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Es deseable una representación matricial uniforme para las transformaciones geométr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Arial"/>
              </a:rPr>
              <a:t>Coordenadas homogénea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ada punto tiene muchas represent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ordenadas homogéneas. (0, 0, 0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no está permi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3200400"/>
                <a:ext cx="4284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y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46080"/>
            <a:ext cx="9070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ropiedades / restric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jemplo de infinitas representaciones para un mismo pu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2,3,6) = (4,6,12) = (1/3, 1/2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 frecuencia se normaliza w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l punto (x, y, 0) representa punto en el infinito en la dirección 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as coordenadas “homogeinizan” el tratamiento  del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Si especificamos las transformaciones anteriores en coordenadas homogénea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é se logra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3657600"/>
                <a:ext cx="298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73360" y="5418000"/>
                <a:ext cx="34988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99200" y="3657600"/>
                <a:ext cx="2930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54040" y="2400480"/>
                <a:ext cx="197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14720" y="2417760"/>
                <a:ext cx="147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1880" y="2386080"/>
                <a:ext cx="1876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/>
  <dcterms:modified xsi:type="dcterms:W3CDTF">2012-04-03T15:00:15Z</dcterms:modified>
  <cp:revision>11</cp:revision>
  <dc:subject/>
  <dc:title/>
</cp:coreProperties>
</file>