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7B0-44C6-422B-BE14-8B2D2F0E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D8D-9426-45B2-82EE-73270167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2EA-B415-4FC4-BA17-7BE25CF7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58D-EF9D-4293-93D0-9209E669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2A09-0E97-48D2-8EA2-1216291D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3D9C-D097-43CC-9BBC-35000040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98C9-9FF3-4A48-A66D-E1C29C61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A497-7509-4FA9-941E-4F496DD1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A11-10A7-4651-BA74-EE143A0F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B13A-808A-4E35-9101-3DCADA3F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D22F-48AD-4EE1-94C6-3CDB1294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78F-731D-4EFA-817C-13BDC3F7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5404-42CD-43F4-85D9-192CAF4F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E6F-A764-44AB-8F45-03DC9EA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FA2A-756A-43CA-A413-0E3F653B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B92B-E585-478C-8723-80C2EC6F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2E0B-ECE2-4126-803E-B56FFCD6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D8B-783B-47FA-A3D9-93307037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979-5D44-4DBA-9E29-9132F76C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915-4ECA-4545-AC20-A916EDF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C1D-62B0-451E-BEF7-52588A25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3D2-DCF7-411C-9795-5039235E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6C3-0A09-44C5-A573-591DC776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EC2-C0B8-40CF-8A9C-2200B00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1B91B-8F1F-4189-804D-CF6A2738F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33E4F-FEDC-4825-9178-E46422F2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compuestas bidimension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 mostrar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71600" y="2414520"/>
                <a:ext cx="53722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4343400"/>
                <a:ext cx="35924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71600" y="3328920"/>
                <a:ext cx="5486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ombinan las matrices elementales para producir el efecto des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gana eficiencia usando la matriz resul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Rotación alrededor de punto arbitrario P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(x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e alrededor de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ara que el punto en el origen vuelva a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745240"/>
            <a:ext cx="657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T (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-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=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Matriz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3º          2º               1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Arial"/>
              </a:rPr>
              <a:t>Expresar como una composición de transforma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Rotación en torno a un punto distinto del orige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scalamiento en torno a un punto distinto del 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979280" y="2743200"/>
            <a:ext cx="1679400" cy="1523880"/>
            <a:chOff x="1979280" y="2743200"/>
            <a:chExt cx="1679400" cy="1523880"/>
          </a:xfrm>
        </p:grpSpPr>
        <p:grpSp>
          <p:nvGrpSpPr>
            <p:cNvPr id="139" name=""/>
            <p:cNvGrpSpPr/>
            <p:nvPr/>
          </p:nvGrpSpPr>
          <p:grpSpPr>
            <a:xfrm>
              <a:off x="1979280" y="2743200"/>
              <a:ext cx="1679400" cy="1523880"/>
              <a:chOff x="1979280" y="2743200"/>
              <a:chExt cx="167940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2112840" y="2743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97928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590920" y="28954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256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256000" y="2743200"/>
            <a:ext cx="1679400" cy="1523880"/>
            <a:chOff x="5256000" y="2743200"/>
            <a:chExt cx="1679400" cy="1523880"/>
          </a:xfrm>
        </p:grpSpPr>
        <p:grpSp>
          <p:nvGrpSpPr>
            <p:cNvPr id="145" name=""/>
            <p:cNvGrpSpPr/>
            <p:nvPr/>
          </p:nvGrpSpPr>
          <p:grpSpPr>
            <a:xfrm>
              <a:off x="5256000" y="2743200"/>
              <a:ext cx="1679400" cy="1523880"/>
              <a:chOff x="5256000" y="2743200"/>
              <a:chExt cx="1679400" cy="1523880"/>
            </a:xfrm>
          </p:grpSpPr>
          <p:sp>
            <p:nvSpPr>
              <p:cNvPr id="146" name=""/>
              <p:cNvSpPr/>
              <p:nvPr/>
            </p:nvSpPr>
            <p:spPr>
              <a:xfrm>
                <a:off x="5389560" y="2743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25600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6200000">
              <a:off x="5713560" y="304812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928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979280" y="5486400"/>
            <a:ext cx="1679400" cy="1523880"/>
            <a:chOff x="1979280" y="5486400"/>
            <a:chExt cx="1679400" cy="1523880"/>
          </a:xfrm>
        </p:grpSpPr>
        <p:grpSp>
          <p:nvGrpSpPr>
            <p:cNvPr id="151" name=""/>
            <p:cNvGrpSpPr/>
            <p:nvPr/>
          </p:nvGrpSpPr>
          <p:grpSpPr>
            <a:xfrm>
              <a:off x="1979280" y="5486400"/>
              <a:ext cx="1679400" cy="1523880"/>
              <a:chOff x="1979280" y="5486400"/>
              <a:chExt cx="1679400" cy="152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2112840" y="54864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97928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90920" y="56386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256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6000" y="5486400"/>
            <a:ext cx="1679400" cy="1523880"/>
            <a:chOff x="5256000" y="5486400"/>
            <a:chExt cx="1679400" cy="1523880"/>
          </a:xfrm>
        </p:grpSpPr>
        <p:grpSp>
          <p:nvGrpSpPr>
            <p:cNvPr id="157" name=""/>
            <p:cNvGrpSpPr/>
            <p:nvPr/>
          </p:nvGrpSpPr>
          <p:grpSpPr>
            <a:xfrm>
              <a:off x="5256000" y="5486400"/>
              <a:ext cx="1679400" cy="1523880"/>
              <a:chOff x="5256000" y="5486400"/>
              <a:chExt cx="1679400" cy="1523880"/>
            </a:xfrm>
          </p:grpSpPr>
          <p:sp>
            <p:nvSpPr>
              <p:cNvPr id="158" name=""/>
              <p:cNvSpPr/>
              <p:nvPr/>
            </p:nvSpPr>
            <p:spPr>
              <a:xfrm>
                <a:off x="5389560" y="54864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25600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006960" y="5969160"/>
              <a:ext cx="15264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928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4800" y="2171880"/>
            <a:ext cx="2673000" cy="3840120"/>
            <a:chOff x="604800" y="2171880"/>
            <a:chExt cx="2673000" cy="3840120"/>
          </a:xfrm>
        </p:grpSpPr>
        <p:sp>
          <p:nvSpPr>
            <p:cNvPr id="164" name=""/>
            <p:cNvSpPr/>
            <p:nvPr/>
          </p:nvSpPr>
          <p:spPr>
            <a:xfrm>
              <a:off x="1676520" y="2171880"/>
              <a:ext cx="144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598400" y="3525840"/>
              <a:ext cx="167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9680" y="2324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209680" y="38098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04800" y="4876920"/>
                  <a:ext cx="123660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"/>
          <p:cNvGrpSpPr/>
          <p:nvPr/>
        </p:nvGrpSpPr>
        <p:grpSpPr>
          <a:xfrm>
            <a:off x="4707000" y="1066680"/>
            <a:ext cx="3698640" cy="5105520"/>
            <a:chOff x="4707000" y="1066680"/>
            <a:chExt cx="3698640" cy="5105520"/>
          </a:xfrm>
        </p:grpSpPr>
        <p:sp>
          <p:nvSpPr>
            <p:cNvPr id="170" name=""/>
            <p:cNvSpPr/>
            <p:nvPr/>
          </p:nvSpPr>
          <p:spPr>
            <a:xfrm>
              <a:off x="5618160" y="152388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722840" y="2878200"/>
              <a:ext cx="244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57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37040" y="3886200"/>
              <a:ext cx="18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707000" y="6019920"/>
              <a:ext cx="236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8040000">
              <a:off x="5317920" y="4495320"/>
              <a:ext cx="304560" cy="609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84760" y="4189320"/>
              <a:ext cx="2057400" cy="1959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9680" y="5726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260000">
              <a:off x="6016320" y="5219280"/>
              <a:ext cx="304920" cy="60984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2120" y="4876920"/>
              <a:ext cx="14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(propuest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700680" y="1066680"/>
                  <a:ext cx="123696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860400" y="1600200"/>
            <a:ext cx="1562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as Transformaciones 2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772400" y="2743200"/>
                <a:ext cx="14828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5" name=""/>
          <p:cNvGrpSpPr/>
          <p:nvPr/>
        </p:nvGrpSpPr>
        <p:grpSpPr>
          <a:xfrm>
            <a:off x="1064880" y="3886200"/>
            <a:ext cx="7391520" cy="2135880"/>
            <a:chOff x="1064880" y="3886200"/>
            <a:chExt cx="7391520" cy="2135880"/>
          </a:xfrm>
        </p:grpSpPr>
        <p:sp>
          <p:nvSpPr>
            <p:cNvPr id="186" name=""/>
            <p:cNvSpPr/>
            <p:nvPr/>
          </p:nvSpPr>
          <p:spPr>
            <a:xfrm>
              <a:off x="3429000" y="571500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6640" y="5715000"/>
              <a:ext cx="212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064880" y="3886200"/>
              <a:ext cx="1679400" cy="1523880"/>
              <a:chOff x="1064880" y="3886200"/>
              <a:chExt cx="167940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1198440" y="3886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06488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655800" y="3886200"/>
              <a:ext cx="1679400" cy="1523880"/>
              <a:chOff x="3655800" y="3886200"/>
              <a:chExt cx="1679400" cy="1523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78936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365580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475320" y="3886200"/>
              <a:ext cx="1679760" cy="1523880"/>
              <a:chOff x="6475320" y="3886200"/>
              <a:chExt cx="1679760" cy="1523880"/>
            </a:xfrm>
          </p:grpSpPr>
          <p:sp>
            <p:nvSpPr>
              <p:cNvPr id="195" name=""/>
              <p:cNvSpPr/>
              <p:nvPr/>
            </p:nvSpPr>
            <p:spPr>
              <a:xfrm>
                <a:off x="661032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475320" y="5241960"/>
                <a:ext cx="167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219320" y="4495680"/>
              <a:ext cx="990360" cy="736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84680" y="4546440"/>
              <a:ext cx="1295280" cy="685800"/>
            </a:xfrm>
            <a:prstGeom prst="parallelogram">
              <a:avLst>
                <a:gd name="adj" fmla="val 472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5400000">
              <a:off x="6703200" y="4177800"/>
              <a:ext cx="978120" cy="1155960"/>
            </a:xfrm>
            <a:prstGeom prst="parallelogram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hearing: </a:t>
            </a: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Esta transformación cambia el valor de las coordenadas sumándole un valor lineal de la otra coordenada. La matriz general cor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óxima clase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áles son commutativas y cuales no, cómo especificarlas en OpenGl y transformaciones en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ción  (2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sformaciones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00200" y="2286000"/>
            <a:ext cx="6335280" cy="3723480"/>
            <a:chOff x="1600200" y="2286000"/>
            <a:chExt cx="6335280" cy="37234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4267080" y="2286000"/>
              <a:ext cx="14479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886200" y="379728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324480" y="3808440"/>
              <a:ext cx="137160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1600200" y="3800520"/>
              <a:ext cx="129528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54200" y="5092560"/>
              <a:ext cx="62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scalamiento               Rotación                                      Tras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50%)                        (45º)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39800" y="1398600"/>
            <a:ext cx="4518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y Importante en ani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ción: Visualizar y animar modelos 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visualización de modelos bidimensionales requiere la capacidad de </a:t>
            </a: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crear y manipula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cambiar tamaño, posición u orientación) de entidades como líneas, triángulos, punto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presentación de geometrías 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coordenadas cartesiano x,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Punto como elemento bás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Por ejemplo, un segmento de línea se representa por sus puntos extremos, un triángulo por tres punt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502920"/>
            <a:ext cx="856764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428480"/>
            <a:ext cx="4535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’ = x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- y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’ = x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y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tación matr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679400"/>
            <a:ext cx="1440" cy="302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540040" y="4367160"/>
            <a:ext cx="31957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96000" y="3525840"/>
            <a:ext cx="1847880" cy="84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96000" y="2685600"/>
            <a:ext cx="1092240" cy="168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43880" y="3527280"/>
            <a:ext cx="144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88240" y="268776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32600" y="3863880"/>
            <a:ext cx="252360" cy="2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3160" y="4116240"/>
            <a:ext cx="84240" cy="2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33400" y="3651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28880" y="3975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836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76800" y="23511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’(x’,y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49200" y="5257800"/>
                <a:ext cx="3780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219320"/>
            <a:ext cx="3200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Esca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  <a:ea typeface="DejaVu Sans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x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y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6309"/>
                </a:solidFill>
                <a:latin typeface="Arial"/>
                <a:ea typeface="DejaVu Sans"/>
              </a:rPr>
              <a:t>¿Notación matri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matriz T) No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684520"/>
                <a:ext cx="222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62520" y="4033800"/>
            <a:ext cx="441936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Es deseable una representación matricial uniforme para las transformaciones geométr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Arial"/>
              </a:rPr>
              <a:t>Coordenadas homogéneas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ada punto tiene muchas represent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coordenadas homogéneas. (0, 0, 0)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no está permi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00400" y="3200400"/>
                <a:ext cx="4284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h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y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46080"/>
            <a:ext cx="9070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Propiedades / restric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jemplo de infinitas representaciones para un mismo pu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2,3,6) = (4,6,12) = (1/3, 1/2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Con frecuencia se normaliza w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l punto (x, y, 0) representa punto en el infinito en la dirección 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as coordenadas “homogeinizan” el tratamiento  del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Si especificamos las transformaciones anteriores en coordenadas homogénea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é se logra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14400" y="3657600"/>
                <a:ext cx="2982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73360" y="5418000"/>
                <a:ext cx="34988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99200" y="3657600"/>
                <a:ext cx="29304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54040" y="2400480"/>
                <a:ext cx="1974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14720" y="2417760"/>
                <a:ext cx="1471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81880" y="2386080"/>
                <a:ext cx="1876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/>
  <dcterms:modified xsi:type="dcterms:W3CDTF">2012-04-03T15:00:15Z</dcterms:modified>
  <cp:revision>11</cp:revision>
  <dc:subject/>
  <dc:title/>
</cp:coreProperties>
</file>