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8C5-9B63-4C66-BFD6-9C215B53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09C-5FE5-470B-A38D-C0D25F41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27C-07C8-4CBC-9021-5DBE2A3A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E39-38C4-4AD0-ACD4-C6C3DFCE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70E1-90B8-4E5E-B124-C433814C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7919-87A1-470C-B881-A54696E3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851F-52D9-4CAC-9CE5-74C8796E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C570-FA1C-48A7-BB92-E5D10528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729A-4316-474C-A671-195B57D8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4948-6646-451B-84F6-4413879F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72F3-090D-4116-9469-55FC491C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174-5CB3-4C07-AAE2-E1239E2F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4F5A-AF86-410D-819C-2382BEC2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B2B8-BC6E-4DAB-946C-F9D1451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07BD-EFED-45F6-A4A7-7A0D7863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F4CF-2A53-4C78-B65E-3815A0EF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78EF-0282-4CA0-BB51-FBC806AE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64D-1C87-43DA-98C3-BFEAD1CB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D4A-6A28-469B-97EF-C0D397C9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219-00BF-4E97-815E-E1EE6E65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568-FBA1-4A67-B415-03A57820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438-3530-4D9E-A935-FB6A42EE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ABB-FDD5-41CE-82B8-E42F2AE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2FE-D554-4CAE-90A3-2F25D0AF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359D1-BD38-429A-8422-0EE60E4C5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C38DE-2EF7-4CE2-A431-F82D8E0EA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geo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2D 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compuestas bidimension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 mostrar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71600" y="2414520"/>
                <a:ext cx="53722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4343400"/>
                <a:ext cx="35924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71600" y="3328920"/>
                <a:ext cx="5486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combinan las matrices elementales para producir el efecto dese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gana eficiencia usando la matriz resul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Rotación alrededor de punto arbitrario P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(x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te alrededor de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ara que el punto en el origen vuelva a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745240"/>
            <a:ext cx="657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T (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-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=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Matriz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3º          2º               1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Arial"/>
              </a:rPr>
              <a:t>Expresar como una composición de transforma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Rotación en torno a un punto distinto del orige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scalamiento en torno a un punto distinto del 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979280" y="2743200"/>
            <a:ext cx="1679400" cy="1523880"/>
            <a:chOff x="1979280" y="2743200"/>
            <a:chExt cx="1679400" cy="1523880"/>
          </a:xfrm>
        </p:grpSpPr>
        <p:grpSp>
          <p:nvGrpSpPr>
            <p:cNvPr id="139" name=""/>
            <p:cNvGrpSpPr/>
            <p:nvPr/>
          </p:nvGrpSpPr>
          <p:grpSpPr>
            <a:xfrm>
              <a:off x="1979280" y="2743200"/>
              <a:ext cx="1679400" cy="1523880"/>
              <a:chOff x="1979280" y="2743200"/>
              <a:chExt cx="167940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2112840" y="2743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97928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590920" y="28954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256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256000" y="2743200"/>
            <a:ext cx="1679400" cy="1523880"/>
            <a:chOff x="5256000" y="2743200"/>
            <a:chExt cx="1679400" cy="1523880"/>
          </a:xfrm>
        </p:grpSpPr>
        <p:grpSp>
          <p:nvGrpSpPr>
            <p:cNvPr id="145" name=""/>
            <p:cNvGrpSpPr/>
            <p:nvPr/>
          </p:nvGrpSpPr>
          <p:grpSpPr>
            <a:xfrm>
              <a:off x="5256000" y="2743200"/>
              <a:ext cx="1679400" cy="1523880"/>
              <a:chOff x="5256000" y="2743200"/>
              <a:chExt cx="1679400" cy="1523880"/>
            </a:xfrm>
          </p:grpSpPr>
          <p:sp>
            <p:nvSpPr>
              <p:cNvPr id="146" name=""/>
              <p:cNvSpPr/>
              <p:nvPr/>
            </p:nvSpPr>
            <p:spPr>
              <a:xfrm>
                <a:off x="5389560" y="2743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525600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6200000">
              <a:off x="5713560" y="304812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928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979280" y="5486400"/>
            <a:ext cx="1679400" cy="1523880"/>
            <a:chOff x="1979280" y="5486400"/>
            <a:chExt cx="1679400" cy="1523880"/>
          </a:xfrm>
        </p:grpSpPr>
        <p:grpSp>
          <p:nvGrpSpPr>
            <p:cNvPr id="151" name=""/>
            <p:cNvGrpSpPr/>
            <p:nvPr/>
          </p:nvGrpSpPr>
          <p:grpSpPr>
            <a:xfrm>
              <a:off x="1979280" y="5486400"/>
              <a:ext cx="1679400" cy="1523880"/>
              <a:chOff x="1979280" y="5486400"/>
              <a:chExt cx="1679400" cy="1523880"/>
            </a:xfrm>
          </p:grpSpPr>
          <p:sp>
            <p:nvSpPr>
              <p:cNvPr id="152" name=""/>
              <p:cNvSpPr/>
              <p:nvPr/>
            </p:nvSpPr>
            <p:spPr>
              <a:xfrm>
                <a:off x="2112840" y="54864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97928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90920" y="56386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256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56000" y="5486400"/>
            <a:ext cx="1679400" cy="1523880"/>
            <a:chOff x="5256000" y="5486400"/>
            <a:chExt cx="1679400" cy="1523880"/>
          </a:xfrm>
        </p:grpSpPr>
        <p:grpSp>
          <p:nvGrpSpPr>
            <p:cNvPr id="157" name=""/>
            <p:cNvGrpSpPr/>
            <p:nvPr/>
          </p:nvGrpSpPr>
          <p:grpSpPr>
            <a:xfrm>
              <a:off x="5256000" y="5486400"/>
              <a:ext cx="1679400" cy="1523880"/>
              <a:chOff x="5256000" y="5486400"/>
              <a:chExt cx="1679400" cy="1523880"/>
            </a:xfrm>
          </p:grpSpPr>
          <p:sp>
            <p:nvSpPr>
              <p:cNvPr id="158" name=""/>
              <p:cNvSpPr/>
              <p:nvPr/>
            </p:nvSpPr>
            <p:spPr>
              <a:xfrm>
                <a:off x="5389560" y="54864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25600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006960" y="5969160"/>
              <a:ext cx="15264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928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4800" y="2171880"/>
            <a:ext cx="2673000" cy="3840120"/>
            <a:chOff x="604800" y="2171880"/>
            <a:chExt cx="2673000" cy="3840120"/>
          </a:xfrm>
        </p:grpSpPr>
        <p:sp>
          <p:nvSpPr>
            <p:cNvPr id="164" name=""/>
            <p:cNvSpPr/>
            <p:nvPr/>
          </p:nvSpPr>
          <p:spPr>
            <a:xfrm>
              <a:off x="1676520" y="2171880"/>
              <a:ext cx="144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598400" y="3525840"/>
              <a:ext cx="167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9680" y="2324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209680" y="38098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04800" y="4876920"/>
                  <a:ext cx="123660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" name=""/>
          <p:cNvGrpSpPr/>
          <p:nvPr/>
        </p:nvGrpSpPr>
        <p:grpSpPr>
          <a:xfrm>
            <a:off x="4707000" y="1066680"/>
            <a:ext cx="3698640" cy="5105520"/>
            <a:chOff x="4707000" y="1066680"/>
            <a:chExt cx="3698640" cy="5105520"/>
          </a:xfrm>
        </p:grpSpPr>
        <p:sp>
          <p:nvSpPr>
            <p:cNvPr id="170" name=""/>
            <p:cNvSpPr/>
            <p:nvPr/>
          </p:nvSpPr>
          <p:spPr>
            <a:xfrm>
              <a:off x="5618160" y="1523880"/>
              <a:ext cx="144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722840" y="2878200"/>
              <a:ext cx="244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57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37040" y="3886200"/>
              <a:ext cx="18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707000" y="6019920"/>
              <a:ext cx="236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8040000">
              <a:off x="5317920" y="4495320"/>
              <a:ext cx="304560" cy="609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84760" y="4189320"/>
              <a:ext cx="2057400" cy="1959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9680" y="57261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9260000">
              <a:off x="6016320" y="5219280"/>
              <a:ext cx="304920" cy="60984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72120" y="4876920"/>
              <a:ext cx="14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(propuest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700680" y="1066680"/>
                  <a:ext cx="123696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860400" y="1600200"/>
            <a:ext cx="1562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as Transformaciones 2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772400" y="2743200"/>
                <a:ext cx="14828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5" name=""/>
          <p:cNvGrpSpPr/>
          <p:nvPr/>
        </p:nvGrpSpPr>
        <p:grpSpPr>
          <a:xfrm>
            <a:off x="1064880" y="3886200"/>
            <a:ext cx="7391520" cy="2135880"/>
            <a:chOff x="1064880" y="3886200"/>
            <a:chExt cx="7391520" cy="2135880"/>
          </a:xfrm>
        </p:grpSpPr>
        <p:sp>
          <p:nvSpPr>
            <p:cNvPr id="186" name=""/>
            <p:cNvSpPr/>
            <p:nvPr/>
          </p:nvSpPr>
          <p:spPr>
            <a:xfrm>
              <a:off x="3429000" y="5715000"/>
              <a:ext cx="213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6640" y="5715000"/>
              <a:ext cx="212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064880" y="3886200"/>
              <a:ext cx="1679400" cy="1523880"/>
              <a:chOff x="1064880" y="3886200"/>
              <a:chExt cx="167940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1198440" y="3886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06488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655800" y="3886200"/>
              <a:ext cx="1679400" cy="1523880"/>
              <a:chOff x="3655800" y="3886200"/>
              <a:chExt cx="1679400" cy="1523880"/>
            </a:xfrm>
          </p:grpSpPr>
          <p:sp>
            <p:nvSpPr>
              <p:cNvPr id="192" name=""/>
              <p:cNvSpPr/>
              <p:nvPr/>
            </p:nvSpPr>
            <p:spPr>
              <a:xfrm>
                <a:off x="378936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365580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475320" y="3886200"/>
              <a:ext cx="1679760" cy="1523880"/>
              <a:chOff x="6475320" y="3886200"/>
              <a:chExt cx="1679760" cy="1523880"/>
            </a:xfrm>
          </p:grpSpPr>
          <p:sp>
            <p:nvSpPr>
              <p:cNvPr id="195" name=""/>
              <p:cNvSpPr/>
              <p:nvPr/>
            </p:nvSpPr>
            <p:spPr>
              <a:xfrm>
                <a:off x="661032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475320" y="5241960"/>
                <a:ext cx="167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219320" y="4495680"/>
              <a:ext cx="990360" cy="736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84680" y="4546440"/>
              <a:ext cx="1295280" cy="685800"/>
            </a:xfrm>
            <a:prstGeom prst="parallelogram">
              <a:avLst>
                <a:gd name="adj" fmla="val 472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5400000">
              <a:off x="6703200" y="4177800"/>
              <a:ext cx="978120" cy="1155960"/>
            </a:xfrm>
            <a:prstGeom prst="parallelogram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hearing: </a:t>
            </a: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Esta transformación cambia el valor de las coordenadas sumándole un valor lineal de la otra coordenada. La matriz general cor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5724360" cy="224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 P'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' 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 T'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óxima clase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áles son commutativas y cuales no, cómo especificarlas en OpenGl y transformaciones en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ción  (2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formaciones básicas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, traslación y escal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transformaciones: reflexión y shea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00200" y="2286000"/>
            <a:ext cx="6335280" cy="3723480"/>
            <a:chOff x="1600200" y="2286000"/>
            <a:chExt cx="6335280" cy="372348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4267080" y="2286000"/>
              <a:ext cx="14479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3886200" y="379728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324480" y="3808440"/>
              <a:ext cx="137160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1600200" y="3800520"/>
              <a:ext cx="1295280" cy="12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54200" y="5092560"/>
              <a:ext cx="62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scalamiento               Rotación                                      Trasl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50%)                        (45º)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39800" y="1398600"/>
            <a:ext cx="4518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y Importante en ani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ción: Visualizar y animar modelos 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visualización de modelos bidimensionales requiere la capacidad de </a:t>
            </a: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crear y manipular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cambiar tamaño, posición u orientación) de entidades como líneas, triángulos, punto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presentación de geometrías 2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coordenadas cartesiano x,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Punto como elemento bás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Por ejemplo, un segmento de línea se representa por sus puntos extremos, un triángulo por tres punt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502920"/>
            <a:ext cx="856764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428480"/>
            <a:ext cx="4535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Ro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’ = x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- y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’ = x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y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tación matr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679400"/>
            <a:ext cx="1440" cy="302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540040" y="4367160"/>
            <a:ext cx="31957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96000" y="3525840"/>
            <a:ext cx="1847880" cy="84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96000" y="2685600"/>
            <a:ext cx="1092240" cy="168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43880" y="3527280"/>
            <a:ext cx="1440" cy="8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88240" y="2687760"/>
            <a:ext cx="1440" cy="16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32600" y="3863880"/>
            <a:ext cx="252360" cy="2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3160" y="4116240"/>
            <a:ext cx="84240" cy="2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33400" y="3651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28880" y="3975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836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76800" y="23511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’(x’,y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49200" y="5257800"/>
                <a:ext cx="3780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219320"/>
            <a:ext cx="3200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Esca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  <a:ea typeface="DejaVu Sans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ras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x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y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6309"/>
                </a:solidFill>
                <a:latin typeface="Arial"/>
                <a:ea typeface="DejaVu Sans"/>
              </a:rPr>
              <a:t>¿Notación matri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matriz T) No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684520"/>
                <a:ext cx="2224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4267440" cy="1866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62520" y="4033800"/>
            <a:ext cx="441936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Es deseable una representación matricial uniforme para las transformaciones geométr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Arial"/>
              </a:rPr>
              <a:t>Coordenadas homogéneas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Cada punto tiene muchas represent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coordenadas homogéneas. (0, 0, 0)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no está permi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200400" y="3200400"/>
                <a:ext cx="4284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h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rPr>
                        <m:lit/>
                        <m:nor/>
                      </m:rPr>
                      <m:t xml:space="preserve">x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y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-46080"/>
            <a:ext cx="90709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Propiedades / restric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jemplo de infinitas representaciones para un mismo pu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2,3,6) = (4,6,12) = (1/3, 1/2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Con frecuencia se normaliza w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l punto (x, y, 0) representa punto en el infinito en la dirección 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as coordenadas “homogeinizan” el tratamiento  del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Si especificamos las transformaciones anteriores en coordenadas homogénea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é se logra</a:t>
            </a: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14400" y="3657600"/>
                <a:ext cx="29829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73360" y="5418000"/>
                <a:ext cx="34988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99200" y="3657600"/>
                <a:ext cx="29304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54040" y="2400480"/>
                <a:ext cx="1974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14720" y="2417760"/>
                <a:ext cx="1471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81880" y="2386080"/>
                <a:ext cx="1876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1:08:54Z</dcterms:created>
  <dc:creator>Nancy Hitschfeld</dc:creator>
  <dc:description/>
  <dc:language>en-US</dc:language>
  <cp:lastModifiedBy/>
  <dcterms:modified xsi:type="dcterms:W3CDTF">2012-04-03T15:00:15Z</dcterms:modified>
  <cp:revision>11</cp:revision>
  <dc:subject/>
  <dc:title/>
</cp:coreProperties>
</file>