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2CE-24A3-4BE1-91AB-62CBA1B1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B2B-1F4B-49E8-969B-4A527C43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643-8A86-4E4C-B6E8-21545D9E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B77-3A11-4ED4-8C90-6430D8BC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0A5E-0904-4E44-9EC2-4C3C731A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3453-EAB9-4A42-8D87-7BDB5F32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B78C-6EED-492F-9676-24321D91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B43E-E005-4166-B1B7-892AEAE8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B303-EE8E-4878-A48D-2B925926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FD9D-8531-409E-9697-AA00E8EB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7212-D113-470D-B546-91981834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D1C-A989-46E7-A672-7775DFB0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D904-E61A-49AF-BEC6-0C9F5175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65D3-3D75-4A9A-B099-195E9ACD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C074-D086-4D8C-B4CD-7D9975BA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B573-1AA4-4099-8638-8E844B2C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D241-5601-41DE-B9E9-F13E2D64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4D6-0503-4FA5-82EE-1B6AD97D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32A-32CD-4B73-B57E-572F43B6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345-154E-478A-8291-B7FD6F33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E2A-DEED-42E7-AE63-07F90663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E24-F0FE-474B-945B-971FDE5E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662-791E-49B8-91AA-D3D4BA4F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44F-5734-430D-8EFB-2F48B730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FABF-22B4-4F25-9AFE-6F5F1023C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E8932-FD24-49D6-AC15-A68EB71B8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ación gráfica: concep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especificar un ejemplo simple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ecas relacion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núcleo Open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básica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primitivas básicas, atributos, transformaciones geométricas y de visualización, entre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GL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 OpenGl utility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)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ción de matrices  de visualización y proyección, aproximación de objetos completos mediante líneas,  polígonos,  y splines, entre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OpenGl utility toolkit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 proporciona funciones para interactuar con cualquier sistema de ventanas (nos permite que nuestros programas seaa independientes del dispositiv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especificar un ejemplo simple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95008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74680"/>
            <a:ext cx="8686800" cy="70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ventana de visualización con GLU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(&amp;argc, argv): inicializa la  Glut. Podemos obtener valores que ingresa el usu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Window(“Un programa de ejemplo con OpenGl”): título de la vent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playFunc(lineSegment): ejecuta el procedimiento llamado lineSe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o aun no se muestra nada hasta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Loop(): esta debe ser la última en el progra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quí ventana de visualización tiene parámetros predefini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ventana de visualización con GLU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especificar la posición de la ventana de visualiz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WindowPosition(50,100):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en pixeles!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ción inicial de la esquina superior izquierda (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coordenadas enteras de la pantall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WindowSize(400,300): 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ancho y alto en pix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14600" y="3657600"/>
            <a:ext cx="45943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color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DisplayMode(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SINGLE |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RGB):  buffers a usar (SINGLE o DOUBLE), modo de color RGB en este cas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os son los valores predefin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Color(1.0,1.0,1.0,0.0) : asigna color de fondo pero no lo muest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GB:   (0,0,0) es negro, (1,0,0) es rojo, (0,1,0) es verde y (0,0,1)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rto parámetro?  Valor Alpha es blending: 1.0 objeto opaco y 0.0 objeto transpa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(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COLOR_BIT): muestra  el color asignado como fondo de la vent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Color3f(1.0,0.0,0.0): asigna color a la primitiva que se dibujará (3f valores de punto flota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proyecció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caso particular de 3D (se debe igual especificar tipo de proye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Mode(GL_PROY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2D(0.0, 200.0, 0.0, 150.0):  mapea el contenido de la zona [0..200,0..150]  a la pantalla de visualización. El sistema de coordenadas es W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que no se genere distorsión mantenemos la misma relación  de aspecto (aspect ratio) que en la pantalla de vis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primitiva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ujar una línea desde (180,15) a (10,1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IN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2i(180,1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2i(10,14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IN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: esto queda obsoleto en la últimas versiones y se  usando</a:t>
            </a: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 sha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la especificacion del objeto a dibu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rend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as geométricas (openG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: Dibujando una línea 2D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o completo de visualización de una es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ación del objeto (ej: mallas de polígon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formaciones geométricas y de proye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os de iluminación y shading (pinta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s de rasterización (clase anteri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s de eliminación de superfices ocultas, clipping (recor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3657600"/>
            <a:ext cx="5654520" cy="3606840"/>
            <a:chOff x="1828800" y="3657600"/>
            <a:chExt cx="5654520" cy="36068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28800" y="3657600"/>
              <a:ext cx="565452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828800" y="3657600"/>
              <a:ext cx="56545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usan varios sistemas de coordenad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local de coordenadas de modelación (M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global de coordenadas del mundo (W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coordenadas de visualización (V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normalizado de coordenadas del dispositivo (ND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n cilindro y un cubo definido en coordenadas de modelado, cada uno con su propio sistema,  es transformado a coordenadas del mundo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allí se especifica una vista y poryección y los objetos son representados en coordenadas normalizad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enadas normalizadas o coordenadas normalizadas del dispositivo. Rango de valores entre 0 y 1.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Representación que hace el paquete gráfico para ser independiente del rango de coordenadas del disposi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Resum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7200" y="3200400"/>
                <a:ext cx="9144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pipeline (co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 primitivas (elementos a dibujar)se definen en WCS y se transforman al sistema de coordenadas del dispositivo  donde se convierten en pixeles (rasterizació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 representan las transformaciones entre sistemas de coordenadas?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atrices  (composición de matri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 primitivas contienen información de su iluminación y pin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odas las primitivas se dibujan: sólo las que son visibles (clipp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a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modelos (simples o complejos) se componen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mentos de línea  rectas y cur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ígonos (en general convexos, triángulos) y patches cur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ributos (propiedades de las primitivas de salida): color, estilo de línea y  relleno  de á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as geométricas (OpenG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OpenGL 3.0 (3.1 deprecated): gl_points, gl_lines, gl_line_strips, gl_line_loop,  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2724120"/>
            <a:ext cx="7620120" cy="390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9:18:20Z</dcterms:created>
  <dc:creator/>
  <dc:description/>
  <dc:language>en-US</dc:language>
  <cp:lastModifiedBy/>
  <dcterms:modified xsi:type="dcterms:W3CDTF">2012-04-03T15:30:39Z</dcterms:modified>
  <cp:revision>9</cp:revision>
  <dc:subject/>
  <dc:title/>
</cp:coreProperties>
</file>