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355-A383-4A96-A16C-722F1546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EE5-A6EA-449F-8A30-7DCCD9D2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36B-D02F-4EE6-B73B-D0D0CCD7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26A-5A96-4E23-8439-C04BA5D7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83C3-6AE7-469E-9DA6-CAEF02D5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9AA1-2FAB-47D2-B5A7-7C549E50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8184-FCF6-4542-B2A1-8E6509E1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42C5-2ADC-428D-ABD2-AC59A0DA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0490-F6A1-44D0-9F1C-DF96C67C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0ACE-DF9F-4319-A67B-8FAF89DD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9EE4-7DE9-4EB5-9274-9A01F752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231-47B2-4C3E-8779-B318583B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D81D-4D0A-4FEB-BCD0-254AC70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B3C9-83E1-4926-B5CF-601CE144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803A-5693-40F7-85A8-979C7F41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2394-AA62-4DBB-9560-6D5FBE03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9D47-C018-4B91-829C-443CEE0B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1D4-EF93-4A51-901F-9A181F95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410-37C4-4B3E-A975-76AE111A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DCE-B515-49B7-8E77-28C981F2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59C-19A3-4353-95FB-D24241DE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F1B-8940-4A8A-9F9A-7980B80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679-B837-4119-8932-49B3395A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D5E-5B6B-4A23-95AA-C4F5CDB3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7C905-9CDD-4B11-B3DD-F672D4C7A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C8B3F-E282-4E27-884A-0F8B01CBC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ación gráfica: concep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especificar un ejemplo simple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ecas relacion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núcleo Open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básica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primitivas básicas, atributos, transformaciones geométricas y de visualización, entre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GL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 OpenGl utility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)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ción de matrices  de visualización y proyección, aproximación de objetos completos mediante líneas,  polígonos,  y splines, entre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OpenGl utility toolkit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 proporciona funciones para interactuar con cualquier sistema de ventanas (nos permite que nuestros programas seaa independientes del dispositiv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especificar un ejemplo simple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95008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74680"/>
            <a:ext cx="8686800" cy="70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ventana de visualización con GLU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(&amp;argc, argv): inicializa la  Glut. Podemos obtener valores que ingresa el usu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Window(“Un programa de ejemplo con OpenGl”): título de la vent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playFunc(lineSegment): ejecuta el procedimiento llamado lineSe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o aun no se muestra nada hasta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Loop(): esta debe ser la última en el progra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quí ventana de visualización tiene parámetros predefini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ventana de visualización con GLU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especificar la posición de la ventana de visualiz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WindowPosition(50,100):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en pixeles!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ción inicial de la esquina superior izquierda (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coordenadas enteras de la pantall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WindowSize(400,300): 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ancho y alto en pix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14600" y="3657600"/>
            <a:ext cx="45943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color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DisplayMode(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SINGLE |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RGB):  buffers a usar (SINGLE o DOUBLE), modo de color RGB en este cas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os son los valores predefin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Color(1.0,1.0,1.0,0.0) : asigna color de fondo pero no lo muest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GB:   (0,0,0) es negro, (1,0,0) es rojo, (0,1,0) es verde y (0,0,1)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rto parámetro?  Valor Alpha es blending: 1.0 objeto opaco y 0.0 objeto transpa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(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COLOR_BIT): muestra  el color asignado como fondo de la vent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Color3f(1.0,0.0,0.0): asigna color a la primitiva que se dibujará (3f valores de punto flota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proyecció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caso particular de 3D (se debe igual especificar tipo de proye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Mode(GL_PROY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2D(0.0, 200.0, 0.0, 150.0):  mapea el contenido de la zona [0..200,0..150]  a la pantalla de visualización. El sistema de coordenadas es W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que no se genere distorsión mantenemos la misma relación  de aspecto (aspect ratio) que en la pantalla de vis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primitiva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ujar una línea desde (180,15) a (10,1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IN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2i(180,1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2i(10,14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IN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: esto queda obsoleto en la últimas versiones y se  usando</a:t>
            </a: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 sha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la especificacion del objeto a dibu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rend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as geométricas (openG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: Dibujando una línea 2D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o completo de visualización de una es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ación del objeto (ej: mallas de polígon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formaciones geométricas y de proye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os de iluminación y shading (pinta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s de rasterización (clase anteri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s de eliminación de superfices ocultas, clipping (recor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3657600"/>
            <a:ext cx="5654520" cy="3606840"/>
            <a:chOff x="1828800" y="3657600"/>
            <a:chExt cx="5654520" cy="36068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28800" y="3657600"/>
              <a:ext cx="565452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828800" y="3657600"/>
              <a:ext cx="56545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usan varios sistemas de coordenad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local de coordenadas de modelación (M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global de coordenadas del mundo (W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coordenadas de visualización (V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normalizado de coordenadas del dispositivo (ND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n cilindro y un cubo definido en coordenadas de modelado, cada uno con su propio sistema,  es transformado a coordenadas del mundo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allí se especifica una vista y poryección y los objetos son representados en coordenadas normalizad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enadas normalizadas o coordenadas normalizadas del dispositivo. Rango de valores entre 0 y 1.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Representación que hace el paquete gráfico para ser independiente del rango de coordenadas del disposi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Resum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7200" y="3200400"/>
                <a:ext cx="9144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pipeline (co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 primitivas (elementos a dibujar)se definen en WCS y se transforman al sistema de coordenadas del dispositivo  donde se convierten en pixeles (rasterizació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 representan las transformaciones entre sistemas de coordenadas?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atrices  (composición de matri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 primitivas contienen información de su iluminación y pin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odas las primitivas se dibujan: sólo las que son visibles (clipp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a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modelos (simples o complejos) se componen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mentos de línea  rectas y cur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ígonos (en general convexos, triángulos) y patches cur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ributos (propiedades de las primitivas de salida): color, estilo de línea y  relleno  de á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as geométricas (OpenG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OpenGL 3.0 (3.1 deprecated): gl_points, gl_lines, gl_line_strips, gl_line_loop,  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2724120"/>
            <a:ext cx="7620120" cy="390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9:18:20Z</dcterms:created>
  <dc:creator/>
  <dc:description/>
  <dc:language>en-US</dc:language>
  <cp:lastModifiedBy/>
  <dcterms:modified xsi:type="dcterms:W3CDTF">2012-04-03T15:30:39Z</dcterms:modified>
  <cp:revision>9</cp:revision>
  <dc:subject/>
  <dc:title/>
</cp:coreProperties>
</file>