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B7F-0243-43F0-AB53-7E20D9DC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62B-8A11-4A1A-94A8-74C3CCB0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C01-9855-4EEB-B930-A71EF71A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F66-0557-418D-B66C-4F40C61F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0A0F-33F8-4D94-9FFF-4113B24C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E1A0-BD79-4DD6-85B9-CE803766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B4EE-81D3-46AA-B989-E11F152B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5F3-D85B-4756-9508-D00FA59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A1E-1434-46FA-976B-A3A3DE5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B827-B8F0-43F9-9835-79550FE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41D-BA69-48A2-9E33-5AE135C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2AF-031F-479A-8DA1-3946518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3835-6353-41BA-8087-F70451BF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3246-69E9-433D-B886-00A142AF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7EA3-FE6D-45DB-8E5C-813194CE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FDF8-8820-41CE-8AD0-24966E7E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996C-E567-4FF7-AC7C-81093668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FF4-29C4-49B9-A71A-061E03B5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24C-F4BC-49D6-BE39-C95A2C8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D58-6F6D-4F8D-97FB-792146A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43C-99F7-4E8B-9513-C1CC47DC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5ED-D6BB-47B8-A0BE-E85258F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B50-A9EE-48FD-9F53-F24FFAB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899-A09A-46B8-A61B-A2CEAD7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FBA0C-6193-466E-9B28-49E7496CB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4C597-36D5-44DF-AEFF-09D519AC6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ción gráfica: 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s relacion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núcleo Open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ásica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rimitivas básicas, atributos, transformaciones geométricas y de visualización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 OpenGl utility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)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ón de matrices  de visualización y proyección, aproximación de objetos completos mediante líneas,  polígonos,  y splines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penGl utility toolkit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 proporciona funciones para interactuar con cualquier sistema de ventanas (nos permite que nuestros programas seaa independientes del dispositiv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950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74680"/>
            <a:ext cx="8686800" cy="70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(&amp;argc, argv): inicializa la  Glut. Podemos obtener valores que ingresa el usu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Window(“Un programa de ejemplo con OpenGl”): títul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layFunc(lineSegment): ejecuta el procedimiento llamado line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o aun no se muestra nada hast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Loop(): esta debe ser la última en el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quí ventana de visualización tiene parámetros predefini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especificar la posición de la ventana de visualiz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Position(50,100):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en pixeles!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ción inicial de la esquina superior izquierda (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coordenadas enteras de la pantal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Size(400,300): 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ancho y alto en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45943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color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DisplayMode(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SINGLE |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RGB):  buffers a usar (SINGLE o DOUBLE), modo de color RGB en este ca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os son los valores predefin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Color(1.0,1.0,1.0,0.0) : asigna color de fondo pero no lo mues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GB:   (0,0,0) es negro, (1,0,0) es rojo, (0,1,0) es verde y (0,0,1)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rto parámetro?  Valor Alpha es blending: 1.0 objeto opaco y 0.0 objeto transpa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(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COLOR_BIT): muestra  el color asignado como fond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Color3f(1.0,0.0,0.0): asigna color a la primitiva que se dibujará (3f valores de punto flota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oyecció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caso particular de 3D (se debe igual especificar tipo de proye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ode(GL_PROY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2D(0.0, 200.0, 0.0, 150.0):  mapea el contenido de la zona [0..200,0..150]  a la pantalla de visualización. El sistema de coordenadas es W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que no se genere distorsión mantenemos la misma relación  de aspecto (aspect ratio) que en la pantalla de vis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imitiv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una línea desde (180,15) a (10,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80,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0,1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: esto queda obsoleto en la últimas versiones y se  usando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 sha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especificacion del objeto a dibu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rend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Dibujando una línea 2D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o completo de visualización de una es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del objeto (ej: mallas de polígon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ciones geométricas y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e iluminación y shading (pin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rasterización (clase anteri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eliminación de superfices ocultas, clipping (recor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657600"/>
            <a:ext cx="5654520" cy="3606840"/>
            <a:chOff x="1828800" y="3657600"/>
            <a:chExt cx="5654520" cy="36068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28800" y="3657600"/>
              <a:ext cx="565452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828800" y="3657600"/>
              <a:ext cx="5654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usan varios sistemas de coordenad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local de coordenadas de modelación (M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global de coordenadas del mundo (W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coordenadas de visualización (V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normalizado de coordenadas del dispositivo (ND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 cilindro y un cubo definido en coordenadas de modelado, cada uno con su propio sistema,  es transformado a coordenadas del mund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allí se especifica una vista y poryección y los objetos son representados en coordenadas normaliz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enadas normalizadas o coordenadas normalizadas del dispositivo. Rango de valores entre 0 y 1.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presentación que hace el paquete gráfico para ser independiente del rango de coordenadas del disposi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sum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" y="3200400"/>
                <a:ext cx="9144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pipeline (co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(elementos a dibujar)se definen en WCS y se transforman al sistema de coordenadas del dispositivo  donde se convierten en pixeles (rasterizació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 representan las transformaciones entre sistemas de coordenadas?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trices  (composición de matr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contienen información de su iluminación y pi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das las primitivas se dibujan: sólo las que son visibles (clipp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modelos (simples o complejos) se componen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mentos de línea  rectas y cur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ígonos (en general convexos, triángulos) y patches cur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 (propiedades de las primitivas de salida): color, estilo de línea y  relleno 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OpenGL 3.0 (3.1 deprecated): gl_points, gl_lines, gl_line_strips, gl_line_loop, 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724120"/>
            <a:ext cx="7620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9:18:20Z</dcterms:created>
  <dc:creator/>
  <dc:description/>
  <dc:language>en-US</dc:language>
  <cp:lastModifiedBy/>
  <dcterms:modified xsi:type="dcterms:W3CDTF">2012-04-03T15:30:39Z</dcterms:modified>
  <cp:revision>9</cp:revision>
  <dc:subject/>
  <dc:title/>
</cp:coreProperties>
</file>