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C93E-9CB7-489D-995B-2BDABB7B1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6865-FB5E-4BD9-B3C3-5F1D8A1D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AAE9-DC0C-4FCA-8F7D-0B98A4042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B175-3F33-4292-B71A-C9C249853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FAD2-3E6A-4250-9BED-29272DDD6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FEA8-EC5E-4801-A37F-E9ABA3B0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2027-3C33-4A18-85A7-A3B5E526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7D17-791E-43F2-8529-D285C7C8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78C7-AAAD-4D46-8A5E-2C669DEA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2AB2-FEE6-499B-971C-78DFE2BE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8D22-9F57-4757-BC38-134DFA84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E70D-2C60-4F65-922A-A042C007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C00E-8D7C-44DC-B085-6BF41C21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A1F0-8718-416D-8F1B-CF7D329A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7A63-7F0D-455A-9FBA-70496DED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E45B-A680-4F1F-BEA1-EE4B8B907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FD76-EB2A-43C4-BC62-1A0A0D4E0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D929-73B5-4145-874C-778EACED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C638-AEA6-4BC7-8EE0-B08E5DA8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D949-DBFF-41A9-90ED-D3B0B8F9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BB61-474F-4290-9B35-8E497C40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F04C-D402-412E-A546-538C12EB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4EF5-CFEB-4590-B483-960B5B2E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79D9-DBA4-4458-AEAE-0ABFC74C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31450-3853-4992-8671-01C39665E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2AFB64-EC74-442C-B471-5D7DF61AC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opreviewshop.com/lcd_refresh_rates_explained_240hz_vs_120hz_vs_60hz" TargetMode="External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44280"/>
            <a:ext cx="907092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ción gráfica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os fundament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quitectura de los sistemas raster-sc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939816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quema indirecto: Almacenar el color a usar en una tabla separada (look up table) y usar el número almacenado en el frame buffer como índice a la tab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0" y="2514600"/>
            <a:ext cx="5257800" cy="4572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28600" y="3200400"/>
            <a:ext cx="38862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quitectura de los sistemas raster-sc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939816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quema indirecto:  En la fig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a pixel puede tene run valor entre 0-2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a posición de la tabla tiene  24 bits para especificar unl color: Ej el índice 196 almacena  el color 0x82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ee flexibilidad para cambiar el color usado para un mismo índice, o cambiar la tabla compl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ánta memoria usamos frame-buffer + t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628640" y="4191120"/>
            <a:ext cx="660096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quitectura de los sistemas raster-sc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939816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quema indirecto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o de dos tablas de col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504800" y="2514600"/>
            <a:ext cx="2610000" cy="2438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257800" y="2514600"/>
            <a:ext cx="26002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943600" y="5257800"/>
            <a:ext cx="1198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0" y="5140440"/>
            <a:ext cx="12970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quitectura de los sistemas raster-sc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29920" y="13716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 processor (graphic processor, display co-process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572000" y="2057400"/>
            <a:ext cx="5257800" cy="4791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982800" y="1771560"/>
            <a:ext cx="3360600" cy="45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Liberar a la CPU de las operaciones gráfi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asformar el dibujo en conjunto de pixeles y almacenarlos en el  frame buffer (scan-conversion, rasteriz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Ej: convertir una línea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conjunto de puntos discr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generar estilos de líne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áreas rellenas, aplicar transformaciones a los ob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obtener información de los dispositivos de entrada. Ej: 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286000" y="5962680"/>
            <a:ext cx="1905120" cy="13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ómo dibujar en el frame buffer? Una línea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58520" y="16002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rreglo 2D de pixe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signación individual de intensidad/color para cada pix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ixeles centrados en coordenadas ente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setPixel(x, 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429000" y="3429000"/>
            <a:ext cx="5030640" cy="3659040"/>
            <a:chOff x="3429000" y="3429000"/>
            <a:chExt cx="5030640" cy="3659040"/>
          </a:xfrm>
        </p:grpSpPr>
        <p:sp>
          <p:nvSpPr>
            <p:cNvPr id="128" name=""/>
            <p:cNvSpPr/>
            <p:nvPr/>
          </p:nvSpPr>
          <p:spPr>
            <a:xfrm>
              <a:off x="3429000" y="342900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9000" y="362124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29000" y="3813120"/>
              <a:ext cx="5029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29000" y="4006800"/>
              <a:ext cx="5029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29000" y="419904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29000" y="4390920"/>
              <a:ext cx="5029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29000" y="458316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29000" y="477684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29000" y="4968720"/>
              <a:ext cx="5029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29000" y="516096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29000" y="535464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29000" y="554688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29000" y="5738760"/>
              <a:ext cx="5029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29000" y="593100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29000" y="612468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29000" y="6316560"/>
              <a:ext cx="5029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29000" y="650880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29000" y="670248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29000" y="6894360"/>
              <a:ext cx="5029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29000" y="7086600"/>
              <a:ext cx="502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42900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2268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1636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1004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0372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9596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8964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82960" y="3429000"/>
              <a:ext cx="180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76640" y="3429000"/>
              <a:ext cx="180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70320" y="3429000"/>
              <a:ext cx="180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64000" y="3429000"/>
              <a:ext cx="180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5624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992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4360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3728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3096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2464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1832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91056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0424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97560" y="3429000"/>
              <a:ext cx="180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491240" y="3429000"/>
              <a:ext cx="180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84920" y="3429000"/>
              <a:ext cx="180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87716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7084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26452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58200" y="3429000"/>
              <a:ext cx="144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 flipV="1">
            <a:off x="4648320" y="4341960"/>
            <a:ext cx="2895480" cy="1527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79520" y="4235400"/>
            <a:ext cx="51876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74720" y="5943600"/>
            <a:ext cx="5072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6969240"/>
            <a:ext cx="6508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158320" y="2971800"/>
            <a:ext cx="1790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ncho-1,alto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ómo dibujar en el frame buffer? Una líne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320" y="13716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dos los puntos extremos de una línea                                  identificar las posiciones a dibuj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é requisitos se desea cumpli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897520" y="1371600"/>
                <a:ext cx="210348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83" name=""/>
          <p:cNvGrpSpPr/>
          <p:nvPr/>
        </p:nvGrpSpPr>
        <p:grpSpPr>
          <a:xfrm>
            <a:off x="4343400" y="2971800"/>
            <a:ext cx="4724280" cy="3581280"/>
            <a:chOff x="4343400" y="2971800"/>
            <a:chExt cx="4724280" cy="3581280"/>
          </a:xfrm>
        </p:grpSpPr>
        <p:sp>
          <p:nvSpPr>
            <p:cNvPr id="184" name=""/>
            <p:cNvSpPr/>
            <p:nvPr/>
          </p:nvSpPr>
          <p:spPr>
            <a:xfrm>
              <a:off x="6161040" y="54212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42120" y="52340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523200" y="5234040"/>
              <a:ext cx="1825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05720" y="5234040"/>
              <a:ext cx="1807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86440" y="50450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68960" y="5045040"/>
              <a:ext cx="1828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250040" y="48560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32560" y="48560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13640" y="4856040"/>
              <a:ext cx="1825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796160" y="46688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977240" y="46688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158320" y="4479840"/>
              <a:ext cx="1825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340840" y="4479840"/>
              <a:ext cx="1807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521560" y="44798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704440" y="4290840"/>
              <a:ext cx="1825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70600" y="5986440"/>
              <a:ext cx="1807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51320" y="59864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33840" y="5986440"/>
              <a:ext cx="1828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14920" y="59864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97440" y="59864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78520" y="5986440"/>
              <a:ext cx="1825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61040" y="59864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342120" y="59864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523200" y="5986440"/>
              <a:ext cx="1825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05720" y="5986440"/>
              <a:ext cx="1807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86440" y="59864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068960" y="5986440"/>
              <a:ext cx="1828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250040" y="59864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432560" y="59864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13640" y="5986440"/>
              <a:ext cx="1825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796160" y="59864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77240" y="59864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158320" y="5986440"/>
              <a:ext cx="1825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340840" y="5986440"/>
              <a:ext cx="1807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521560" y="59864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43400" y="2971800"/>
              <a:ext cx="1825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25920" y="316080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07000" y="334800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88080" y="3537000"/>
              <a:ext cx="1825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70600" y="3726000"/>
              <a:ext cx="180720" cy="1886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51320" y="39146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433840" y="4102200"/>
              <a:ext cx="182880" cy="1886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14920" y="42908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97440" y="4479840"/>
              <a:ext cx="18108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78520" y="4668840"/>
              <a:ext cx="182520" cy="1890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33760" y="3065400"/>
              <a:ext cx="1635120" cy="169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6251400" y="4382640"/>
              <a:ext cx="2543400" cy="113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60960" y="6081840"/>
              <a:ext cx="3452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4343400" y="2971800"/>
              <a:ext cx="4724280" cy="3581280"/>
              <a:chOff x="4343400" y="2971800"/>
              <a:chExt cx="4724280" cy="3581280"/>
            </a:xfrm>
          </p:grpSpPr>
          <p:sp>
            <p:nvSpPr>
              <p:cNvPr id="233" name=""/>
              <p:cNvSpPr/>
              <p:nvPr/>
            </p:nvSpPr>
            <p:spPr>
              <a:xfrm>
                <a:off x="4343400" y="297180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343400" y="316080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343400" y="3348000"/>
                <a:ext cx="472284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343400" y="353700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343400" y="372600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343400" y="3914640"/>
                <a:ext cx="472284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343400" y="410220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343400" y="4290840"/>
                <a:ext cx="472284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343400" y="4479840"/>
                <a:ext cx="472284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343400" y="466740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43400" y="4856040"/>
                <a:ext cx="472284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43400" y="5045040"/>
                <a:ext cx="472284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343400" y="523404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343400" y="5421240"/>
                <a:ext cx="472284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343400" y="561024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343400" y="579924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343400" y="598644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343400" y="617544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343400" y="636444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343400" y="6551640"/>
                <a:ext cx="472284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34340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525920" y="2971800"/>
                <a:ext cx="180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70700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88808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07060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251320" y="2971800"/>
                <a:ext cx="180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433840" y="2971800"/>
                <a:ext cx="180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614920" y="2971800"/>
                <a:ext cx="180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79600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97852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161040" y="2971800"/>
                <a:ext cx="180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34212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52320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70572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886440" y="2971800"/>
                <a:ext cx="180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068960" y="2971800"/>
                <a:ext cx="180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250040" y="2971800"/>
                <a:ext cx="180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43112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61364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796160" y="2971800"/>
                <a:ext cx="180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97724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15832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34084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8521560" y="2971800"/>
                <a:ext cx="180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0444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885160" y="2971800"/>
                <a:ext cx="180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066240" y="2971800"/>
                <a:ext cx="1440" cy="35798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0" name=""/>
          <p:cNvSpPr/>
          <p:nvPr/>
        </p:nvSpPr>
        <p:spPr>
          <a:xfrm>
            <a:off x="1095480" y="6858000"/>
            <a:ext cx="44528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rar:   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http://www.netgraphics.sk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ómo dibujar en el frame buffer? Una líne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1320" y="14112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goritmo ingenu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 = f(x) = mx+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ara cada x en [x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s-ES" sz="22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], 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setPixel(x, round(y(x)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2286000" y="3429000"/>
            <a:ext cx="5640480" cy="2973240"/>
            <a:chOff x="2286000" y="3429000"/>
            <a:chExt cx="5640480" cy="2973240"/>
          </a:xfrm>
        </p:grpSpPr>
        <p:sp>
          <p:nvSpPr>
            <p:cNvPr id="284" name=""/>
            <p:cNvSpPr/>
            <p:nvPr/>
          </p:nvSpPr>
          <p:spPr>
            <a:xfrm>
              <a:off x="2286000" y="3429000"/>
              <a:ext cx="3505320" cy="297180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617920" y="5740560"/>
              <a:ext cx="331560" cy="33012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949480" y="5410080"/>
              <a:ext cx="331920" cy="3304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281400" y="5410080"/>
              <a:ext cx="331920" cy="3304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613320" y="5410080"/>
              <a:ext cx="331560" cy="3304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44880" y="5079960"/>
              <a:ext cx="331920" cy="33012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76800" y="5079960"/>
              <a:ext cx="331560" cy="33012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608360" y="4749840"/>
              <a:ext cx="331920" cy="33012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940280" y="4749840"/>
              <a:ext cx="330120" cy="33012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70400" y="4749840"/>
              <a:ext cx="331920" cy="33012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602320" y="4419720"/>
              <a:ext cx="331920" cy="33012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34240" y="4419720"/>
              <a:ext cx="331560" cy="33012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265800" y="4089240"/>
              <a:ext cx="331920" cy="3304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597720" y="4089240"/>
              <a:ext cx="331560" cy="3304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929280" y="4089240"/>
              <a:ext cx="331920" cy="3304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261200" y="3759120"/>
              <a:ext cx="331920" cy="33012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782800" y="3922200"/>
              <a:ext cx="4645080" cy="198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286000" y="3429000"/>
              <a:ext cx="563868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286000" y="3759120"/>
              <a:ext cx="563868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286000" y="4089240"/>
              <a:ext cx="563868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286000" y="4419720"/>
              <a:ext cx="563868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286000" y="4749840"/>
              <a:ext cx="563868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86000" y="5079960"/>
              <a:ext cx="563868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286000" y="5410080"/>
              <a:ext cx="563868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286000" y="5740560"/>
              <a:ext cx="563868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286000" y="6070680"/>
              <a:ext cx="563868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617920" y="3429000"/>
              <a:ext cx="144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949480" y="3429000"/>
              <a:ext cx="180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281400" y="3429000"/>
              <a:ext cx="144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13320" y="3429000"/>
              <a:ext cx="144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944880" y="3429000"/>
              <a:ext cx="180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76800" y="3429000"/>
              <a:ext cx="144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608360" y="3429000"/>
              <a:ext cx="180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940280" y="3429000"/>
              <a:ext cx="144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70400" y="3429000"/>
              <a:ext cx="180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602320" y="3429000"/>
              <a:ext cx="144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934240" y="3429000"/>
              <a:ext cx="144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65800" y="3429000"/>
              <a:ext cx="180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597720" y="3429000"/>
              <a:ext cx="144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929280" y="3429000"/>
              <a:ext cx="180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261200" y="3429000"/>
              <a:ext cx="144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593120" y="3429000"/>
              <a:ext cx="144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924680" y="3429000"/>
              <a:ext cx="180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86000" y="3429000"/>
              <a:ext cx="1440" cy="297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86000" y="6400800"/>
              <a:ext cx="563868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791320" y="3429000"/>
              <a:ext cx="1440" cy="297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ómo dibujar una línea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1320" y="14112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goritmo DDA (digital differential analizer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Para cualquier intervalo  en x         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δy = m δx</a:t>
            </a: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   y, de manera similar   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δx =  δy / 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ongamos que: 0 &lt;= m &lt;= 1,  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δx = 1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0">
              <a:lnSpc>
                <a:spcPct val="93000"/>
              </a:lnSpc>
              <a:spcAft>
                <a:spcPts val="850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4694400" y="3103560"/>
                <a:ext cx="718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914400" y="3657600"/>
            <a:ext cx="38862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Arial"/>
              </a:rPr>
              <a:t>Algoritmo increment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993366"/>
                </a:solidFill>
                <a:latin typeface="Arial"/>
                <a:ea typeface="DejaVu Sans"/>
              </a:rPr>
              <a:t>x = x</a:t>
            </a:r>
            <a:r>
              <a:rPr b="0" lang="es-ES" sz="2800" spc="-1" strike="noStrike" baseline="-25000">
                <a:solidFill>
                  <a:srgbClr val="993366"/>
                </a:solidFill>
                <a:latin typeface="Arial"/>
                <a:ea typeface="DejaVu San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993366"/>
                </a:solidFill>
                <a:latin typeface="Arial"/>
                <a:ea typeface="DejaVu Sans"/>
              </a:rPr>
              <a:t>y = y</a:t>
            </a:r>
            <a:r>
              <a:rPr b="0" lang="es-ES" sz="2800" spc="-1" strike="noStrike" baseline="-25000">
                <a:solidFill>
                  <a:srgbClr val="993366"/>
                </a:solidFill>
                <a:latin typeface="Arial"/>
                <a:ea typeface="DejaVu San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993366"/>
                </a:solidFill>
                <a:latin typeface="Arial"/>
                <a:ea typeface="DejaVu Sans"/>
              </a:rPr>
              <a:t>setPixel(x, round(y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993366"/>
                </a:solidFill>
                <a:latin typeface="Arial"/>
                <a:ea typeface="DejaVu Sans"/>
              </a:rPr>
              <a:t>While  x &lt; x</a:t>
            </a:r>
            <a:r>
              <a:rPr b="0" lang="es-ES" sz="2800" spc="-1" strike="noStrike" baseline="-25000">
                <a:solidFill>
                  <a:srgbClr val="993366"/>
                </a:solidFill>
                <a:latin typeface="Arial"/>
                <a:ea typeface="DejaVu Sans"/>
              </a:rPr>
              <a:t>f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0000"/>
              </a:lnSpc>
              <a:spcBef>
                <a:spcPts val="4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x = x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0000"/>
              </a:lnSpc>
              <a:spcBef>
                <a:spcPts val="4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y = y +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0000"/>
              </a:lnSpc>
              <a:spcBef>
                <a:spcPts val="4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setPixel(x, round(y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5486400" y="3429000"/>
            <a:ext cx="3900600" cy="2516040"/>
            <a:chOff x="5486400" y="3429000"/>
            <a:chExt cx="3900600" cy="2516040"/>
          </a:xfrm>
        </p:grpSpPr>
        <p:sp>
          <p:nvSpPr>
            <p:cNvPr id="335" name=""/>
            <p:cNvSpPr/>
            <p:nvPr/>
          </p:nvSpPr>
          <p:spPr>
            <a:xfrm>
              <a:off x="5486400" y="3429000"/>
              <a:ext cx="388620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86400" y="4724280"/>
              <a:ext cx="388620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786720" y="3429000"/>
              <a:ext cx="1440" cy="2514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085240" y="3429000"/>
              <a:ext cx="1440" cy="2514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9385200" y="3429000"/>
              <a:ext cx="1800" cy="2514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86400" y="3429000"/>
              <a:ext cx="1440" cy="2514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86400" y="5943600"/>
              <a:ext cx="388620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6095880" y="4341960"/>
              <a:ext cx="3276720" cy="993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95880" y="5334120"/>
              <a:ext cx="13716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7467480" y="4951080"/>
              <a:ext cx="1800" cy="384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467480" y="4952880"/>
              <a:ext cx="137160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8839080" y="4493880"/>
              <a:ext cx="1800" cy="460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086680" y="49528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91400" y="5334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476480" y="495288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848080" y="446724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2743200" y="3025800"/>
                <a:ext cx="18288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+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685800" y="6858000"/>
            <a:ext cx="27874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uesto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ar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40400" y="6400800"/>
            <a:ext cx="383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Qué problemas puede tene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dibujar una línea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goritmo de Bresenh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 solo operatoria incremental ent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 un valor de decisión entero para elegir qué pixel u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926520" y="3429000"/>
            <a:ext cx="5523840" cy="3834720"/>
            <a:chOff x="3926520" y="3429000"/>
            <a:chExt cx="5523840" cy="3834720"/>
          </a:xfrm>
        </p:grpSpPr>
        <p:sp>
          <p:nvSpPr>
            <p:cNvPr id="357" name=""/>
            <p:cNvSpPr/>
            <p:nvPr/>
          </p:nvSpPr>
          <p:spPr>
            <a:xfrm>
              <a:off x="5259240" y="3429000"/>
              <a:ext cx="1800" cy="3429000"/>
            </a:xfrm>
            <a:prstGeom prst="line">
              <a:avLst/>
            </a:prstGeom>
            <a:ln w="12600">
              <a:solidFill>
                <a:srgbClr val="3399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07160" y="3429000"/>
              <a:ext cx="1440" cy="3429000"/>
            </a:xfrm>
            <a:prstGeom prst="line">
              <a:avLst/>
            </a:prstGeom>
            <a:ln w="12600">
              <a:solidFill>
                <a:srgbClr val="3399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156520" y="3429000"/>
              <a:ext cx="1800" cy="3429000"/>
            </a:xfrm>
            <a:prstGeom prst="line">
              <a:avLst/>
            </a:prstGeom>
            <a:ln w="12600">
              <a:solidFill>
                <a:srgbClr val="3399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537080" y="5257800"/>
              <a:ext cx="4876920" cy="1440"/>
            </a:xfrm>
            <a:prstGeom prst="line">
              <a:avLst/>
            </a:prstGeom>
            <a:ln w="12600">
              <a:solidFill>
                <a:srgbClr val="3399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37080" y="4038480"/>
              <a:ext cx="4876920" cy="1800"/>
            </a:xfrm>
            <a:prstGeom prst="line">
              <a:avLst/>
            </a:prstGeom>
            <a:ln w="12600">
              <a:solidFill>
                <a:srgbClr val="3399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537080" y="6477120"/>
              <a:ext cx="4876920" cy="1440"/>
            </a:xfrm>
            <a:prstGeom prst="line">
              <a:avLst/>
            </a:prstGeom>
            <a:ln w="12600">
              <a:solidFill>
                <a:srgbClr val="3399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069520" y="678168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549840" y="6858000"/>
              <a:ext cx="51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926520" y="624852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957120" y="5029200"/>
              <a:ext cx="622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4819680" y="3930120"/>
              <a:ext cx="4495680" cy="274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164360" y="5257800"/>
              <a:ext cx="14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164360" y="5562720"/>
              <a:ext cx="14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013520" y="5562720"/>
              <a:ext cx="30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391160" y="5257800"/>
              <a:ext cx="35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s-E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391160" y="5759280"/>
              <a:ext cx="35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s-E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573440" y="4648320"/>
              <a:ext cx="4876920" cy="14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573440" y="5867280"/>
              <a:ext cx="4876920" cy="18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021360" y="3429000"/>
              <a:ext cx="1440" cy="34290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470720" y="3429000"/>
              <a:ext cx="1800" cy="34290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4795920" y="4403880"/>
                <a:ext cx="718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dibujar en el frame buffer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185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goritmo de Bresenham  (0 &lt; m &lt; 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do   que  m = 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δ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δ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8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En el paso k+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8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Restand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4795920" y="4403880"/>
                <a:ext cx="718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1828800" y="2286000"/>
                <a:ext cx="20113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=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+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1828800" y="2743200"/>
                <a:ext cx="37497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wer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+b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1924200" y="3309840"/>
                <a:ext cx="47052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pper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=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1822320" y="3767040"/>
                <a:ext cx="44262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wer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ppe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2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b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1828800" y="4800600"/>
                <a:ext cx="47512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δx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we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per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y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x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+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4343400" y="5257800"/>
                <a:ext cx="335592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y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x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+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3214800" y="6076800"/>
                <a:ext cx="48672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δy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δx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lay devices (Pantall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quitectura de los sistemas raster-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ómo dibujar en el “frame buffer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í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írc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dibujar una línea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185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goritmo de Bresenham  (|m| &lt; 1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do   que  m = 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δ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δx  = (y</a:t>
            </a:r>
            <a:r>
              <a:rPr b="0" lang="en-US" sz="1400" spc="-1" strike="noStrike">
                <a:solidFill>
                  <a:srgbClr val="0000ff"/>
                </a:solidFill>
                <a:latin typeface="DejaVu Sans"/>
                <a:ea typeface="DejaVu Sans"/>
              </a:rPr>
              <a:t>f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 -y</a:t>
            </a:r>
            <a:r>
              <a:rPr b="0" lang="en-US" sz="1400" spc="-1" strike="noStrike">
                <a:solidFill>
                  <a:srgbClr val="0000ff"/>
                </a:solidFill>
                <a:latin typeface="DejaVu Sans"/>
                <a:ea typeface="DejaVu Sans"/>
              </a:rPr>
              <a:t>i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)/(x</a:t>
            </a:r>
            <a:r>
              <a:rPr b="0" lang="en-US" sz="1400" spc="-1" strike="noStrike">
                <a:solidFill>
                  <a:srgbClr val="0000ff"/>
                </a:solidFill>
                <a:latin typeface="DejaVu Sans"/>
                <a:ea typeface="DejaVu Sans"/>
              </a:rPr>
              <a:t>f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-x</a:t>
            </a:r>
            <a:r>
              <a:rPr b="0" lang="en-US" sz="1400" spc="-1" strike="noStrike">
                <a:solidFill>
                  <a:srgbClr val="0000ff"/>
                </a:solidFill>
                <a:latin typeface="DejaVu Sans"/>
                <a:ea typeface="DejaVu Sans"/>
              </a:rPr>
              <a:t>i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8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En el paso k+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8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Restand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4795920" y="4403880"/>
                <a:ext cx="718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1828800" y="2286000"/>
                <a:ext cx="20113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=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+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1828800" y="2743200"/>
                <a:ext cx="37497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wer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+b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1828800" y="3309840"/>
                <a:ext cx="47052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pper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=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1822320" y="3767040"/>
                <a:ext cx="48070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wer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ppe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+b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2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b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3706920" y="4800600"/>
                <a:ext cx="47512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δx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we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per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y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x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+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3657600" y="5595840"/>
                <a:ext cx="335592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y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x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+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3200400" y="6400800"/>
                <a:ext cx="48672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δy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δx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dibujar una línea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goritmo de Bresenham  (m &lt; 1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o dado 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8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Y dependiendo del signo d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8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Valor inicial de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4800600" y="4440240"/>
                <a:ext cx="71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2217600" y="2624040"/>
                <a:ext cx="48690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δy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δx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4206960" y="3246480"/>
                <a:ext cx="17366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2217600" y="3995640"/>
                <a:ext cx="36957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δy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δx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486400" y="5138640"/>
                <a:ext cx="34164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o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3848040" y="6172200"/>
                <a:ext cx="156384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δ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dibujar una línea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4800600" y="4440240"/>
                <a:ext cx="71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08" name=""/>
          <p:cNvSpPr/>
          <p:nvPr/>
        </p:nvSpPr>
        <p:spPr>
          <a:xfrm>
            <a:off x="1352520" y="2482920"/>
            <a:ext cx="759924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ineBresenham(x0, y0, xf, y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4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setPixel(x0, y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4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p := 2</a:t>
            </a:r>
            <a:r>
              <a:rPr b="0" lang="es-ES" sz="2400" spc="-1" strike="noStrike">
                <a:solidFill>
                  <a:srgbClr val="993366"/>
                </a:solidFill>
                <a:latin typeface="Symbol"/>
                <a:ea typeface="Symbol"/>
              </a:rPr>
              <a:t></a:t>
            </a: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y - </a:t>
            </a:r>
            <a:r>
              <a:rPr b="0" lang="es-ES" sz="2400" spc="-1" strike="noStrike">
                <a:solidFill>
                  <a:srgbClr val="993366"/>
                </a:solidFill>
                <a:latin typeface="Symbol"/>
                <a:ea typeface="Symbol"/>
              </a:rPr>
              <a:t></a:t>
            </a: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4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x := x0; y := y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400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while x &lt; x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0000"/>
              </a:lnSpc>
              <a:spcBef>
                <a:spcPts val="34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if p&lt;0</a:t>
            </a:r>
            <a:br>
              <a:rPr sz="2400"/>
            </a:b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	</a:t>
            </a: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p := p + 2</a:t>
            </a:r>
            <a:r>
              <a:rPr b="0" lang="es-ES" sz="2400" spc="-1" strike="noStrike">
                <a:solidFill>
                  <a:srgbClr val="993366"/>
                </a:solidFill>
                <a:latin typeface="Symbol"/>
                <a:ea typeface="Symbol"/>
              </a:rPr>
              <a:t></a:t>
            </a: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y</a:t>
            </a:r>
            <a:br>
              <a:rPr sz="2400"/>
            </a:b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else</a:t>
            </a:r>
            <a:br>
              <a:rPr sz="2400"/>
            </a:b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	</a:t>
            </a: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y := y+1</a:t>
            </a:r>
            <a:br>
              <a:rPr sz="2400"/>
            </a:b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	</a:t>
            </a: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p := p + 2</a:t>
            </a:r>
            <a:r>
              <a:rPr b="0" lang="es-ES" sz="2400" spc="-1" strike="noStrike">
                <a:solidFill>
                  <a:srgbClr val="993366"/>
                </a:solidFill>
                <a:latin typeface="Symbol"/>
                <a:ea typeface="Symbol"/>
              </a:rPr>
              <a:t></a:t>
            </a: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y - 2</a:t>
            </a:r>
            <a:r>
              <a:rPr b="0" lang="es-ES" sz="2400" spc="-1" strike="noStrike">
                <a:solidFill>
                  <a:srgbClr val="993366"/>
                </a:solidFill>
                <a:latin typeface="Symbol"/>
                <a:ea typeface="Symbol"/>
              </a:rPr>
              <a:t></a:t>
            </a: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0000"/>
              </a:lnSpc>
              <a:spcBef>
                <a:spcPts val="34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x := x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0000"/>
              </a:lnSpc>
              <a:spcBef>
                <a:spcPts val="34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993366"/>
                </a:solidFill>
                <a:latin typeface="Arial"/>
                <a:ea typeface="DejaVu Sans"/>
              </a:rPr>
              <a:t>setPixel(x,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344600" y="1600200"/>
            <a:ext cx="67676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cordar que si  p &lt; 0 =&gt;   solo se incremente 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i p &gt;=0     se incrementa x e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143000" y="6858000"/>
            <a:ext cx="42530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uesto: extenderlo a los otros ca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dibujar un círculo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3400560" y="2556000"/>
                <a:ext cx="25430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yc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=y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r qué no usar la conocida fórmul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Usa operaciones “pesada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l espacio entre pixeles dibujados no unifor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3581280" y="5257800"/>
            <a:ext cx="2590920" cy="201132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3"/>
          <a:stretch/>
        </p:blipFill>
        <p:spPr>
          <a:xfrm>
            <a:off x="6858000" y="1371600"/>
            <a:ext cx="280836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dibujar un círculo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ando un espaciado angular, un círculo puede ser dibujado con puntos equidista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etría en el cálculo del círculo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se calcula una posición en un octante y se obtiene los siete puntos rest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5715000" y="2593800"/>
            <a:ext cx="3657600" cy="2664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2508120" y="2971800"/>
                <a:ext cx="160668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=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+r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=y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+r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dibujar un círculo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310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dPoint Circle algorith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uesto: mirar la implement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1828800" y="2392200"/>
            <a:ext cx="5715000" cy="40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play devices (pantallas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560" y="117900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ubo de rayos catódicos (CR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riz de pix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z de electrones produce estimulación de fósforo (pix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a resolución, colores bien represen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a de refresco: número de veces que se dibuja en la pantalla por segun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re 60 y 100 veces por segun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nos que 60 produce parpade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28760" y="4876920"/>
            <a:ext cx="3914640" cy="2438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800600" y="5029200"/>
            <a:ext cx="4800600" cy="2209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8001000" y="457200"/>
            <a:ext cx="1976400" cy="164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play devices (pantallas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58560" y="117900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ubo de rayos catódicos (CRT): shadow mas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es “phosphor color dots” en cada pixel: Uno emite luz roja, otro verde y el último azu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ene tres “guns” una para cada “color do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luz emitida por los tres fósforos genera un pequeño “spot” de color en cada pixel (nuestro ojo mezcla la luz emitid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iguraciones posibles de los fósforos: triangular o en lín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971800" y="4343400"/>
            <a:ext cx="3416400" cy="23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play devices (pantallas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58560" y="117900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talla de Cristal líquido (LCD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bujo producido pasando luz polarizada  a través de un cristal líquido que puede ser alineado para ya sea dejar pasar luz o bloquear su pa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ssive matrix LCD (más antigu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e matrix LCD: se usan transistores para controlar el voltage de  cada pix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029200" y="4114800"/>
            <a:ext cx="3952800" cy="2952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28600" y="4572000"/>
            <a:ext cx="365760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play devices (pantallas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58560" y="1179000"/>
            <a:ext cx="9070920" cy="53658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talla de cristal líquido (LCD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riz de celdas accesibles (pixe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ldas contienen moléculas de cristal líquido que se alinean con la carg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tiene parpadeo: la imagen debe ser actualizada solo si  cambia (mayor persistenci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sa de refresco: 60Hz, 120Hz o 240Hz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ás livianas que las C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nos consumo de energía que las C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ra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en.wikipedia.org/wiki/Liquid_crystal_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topreviewshop.com/lcd_refresh_rates_explained_240hz_vs_120hz_vs_60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quitectura de los sistemas raster-sc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2160" y="1371240"/>
            <a:ext cx="939780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rame buff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a de memoria usada para almacenar el dibu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ciones en el frame buffer y las correspondientes posiciones de la pantalla se referencian en coordenadas cartesia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ideo Contro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a el frame buffer para resfrescar la panta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tiene los valores de los pixeles de áreas de memoria diferentes durante el ciclo de refres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ene la “look up table” que define la tabla de colores a u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75080" y="4616280"/>
            <a:ext cx="4282920" cy="26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quitectura de los sistemas raster-sc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31640" y="1371240"/>
            <a:ext cx="939816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ores RGB (red, green, blu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o especificar un colo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quema directo: Almacenar  códigos de color directamente en el frame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jemplo: frame buffer de 3 “bit planes” =&gt; 8 colores (el bit de la izquierda corresponde al rojo,  el del medio al verde, y el bit derecho al azu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8040" y="3886200"/>
            <a:ext cx="549576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quitectura de los sistemas raster-sc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31640" y="1371240"/>
            <a:ext cx="939816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quema directo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Cómo agregar más color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gregar más “bit plane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ntajas: simp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ventajas:  requerimiento de memoria al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-bit planes … cuántos colores? Cuánta  memoria se necesita para el frame-buffer con resolución de 1024x1024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 24-bit pixel y la misma resolución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3:29:56Z</dcterms:created>
  <dc:creator/>
  <dc:description/>
  <dc:language>en-US</dc:language>
  <cp:lastModifiedBy>Nancy Hitschfeld</cp:lastModifiedBy>
  <dcterms:modified xsi:type="dcterms:W3CDTF">2012-03-29T11:14:20Z</dcterms:modified>
  <cp:revision>20</cp:revision>
  <dc:subject/>
  <dc:title/>
</cp:coreProperties>
</file>