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12D1-EB14-4CFA-8B4C-1A0BA028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590B-A641-4AA1-A228-EA4CCF45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6D3E-94EE-4EF4-9EFB-A51DE393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3D3C-9369-476E-A947-9F108179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0891-A08F-4957-9FB0-1FBE622F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0BAE-AF4E-4090-BA93-498059D7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7DA0-14A5-4F0B-BEBE-8C224DE0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F412-456A-4703-B3D2-958D16D1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BC3F-56CD-4979-BE1B-F9B629F5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BC71-E3FB-4ABC-96C4-5F9A3998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9EE5-8A92-4EBC-933D-D8B05740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5090-A904-4012-9FEB-74B6B78B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54E6-200D-416E-BF54-355FD9EE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E58C-11B5-43EB-B764-89802AD4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D8D1-C16D-4B5F-9F6D-7FCFEC37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7D75-E3EB-41FE-AE2D-D945DFBD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AC1E-1487-4480-AB02-F078EA6D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68FB-F967-4C00-BE57-4957CAEA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9C4-D2FC-47EA-AF58-12E7E744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251A-22BB-4F3F-A998-945A6F19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88E-5899-4638-9BA8-00D3DFF1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2084-3925-49A1-B698-3B50F677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1546-5FBB-49E7-8BB2-203519E9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ACD9-A0A4-4613-96B6-F56077C5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6B231-380B-48EB-B58E-9EA34AB5D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570B5-AC1B-4EAE-AAF1-542364448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opreviewshop.com/lcd_refresh_rates_explained_240hz_vs_120hz_vs_60hz" TargetMode="External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ción gráfica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fundamen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939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quema indirecto: Almacenar el color a usar en una tabla separada (look up table) y usar el número almacenado en el frame buffer como índice a la tab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5257800" cy="4572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28600" y="3200400"/>
            <a:ext cx="38862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939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quema indirecto:  En la fig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pixel puede tene run valor entre 0-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posición de la tabla tiene  24 bits para especificar unl color: Ej el índice 196 almacena  el color 0x82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e flexibilidad para cambiar el color usado para un mismo índice, o cambiar la tabla compl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ánta memoria usamos frame-buffer + t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28640" y="4191120"/>
            <a:ext cx="660096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939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quema indirecto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o de dos tablas de co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04800" y="2514600"/>
            <a:ext cx="2610000" cy="2438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257800" y="2514600"/>
            <a:ext cx="26002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943600" y="5257800"/>
            <a:ext cx="119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5140440"/>
            <a:ext cx="12970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992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processor (graphic processor, display co-proc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5257800" cy="4791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82800" y="1771560"/>
            <a:ext cx="3360600" cy="45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Liberar a la CPU de las operaciones gráf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sformar el dibujo en conjunto de pixeles y almacenarlos en el  frame buffer (scan-conversion, rasteriz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Ej: convertir una línea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conjunto de puntos discr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generar estilos de líne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s rellenas, aplicar transformaciones a los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obtener información de los dispositivos de entrada. Ej: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286000" y="5962680"/>
            <a:ext cx="190512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dibujar en el frame buffer? Una línea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852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rreglo 2D de pixe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signación individual de intensidad/color para cada pix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ixeles centrados en coordenadas ente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setPixel(x, 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429000" y="3429000"/>
            <a:ext cx="5030640" cy="3659040"/>
            <a:chOff x="3429000" y="3429000"/>
            <a:chExt cx="5030640" cy="3659040"/>
          </a:xfrm>
        </p:grpSpPr>
        <p:sp>
          <p:nvSpPr>
            <p:cNvPr id="128" name=""/>
            <p:cNvSpPr/>
            <p:nvPr/>
          </p:nvSpPr>
          <p:spPr>
            <a:xfrm>
              <a:off x="3429000" y="342900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362124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29000" y="381312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29000" y="400680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29000" y="419904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439092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29000" y="458316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29000" y="477684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29000" y="496872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29000" y="516096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535464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9000" y="554688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573876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29000" y="593100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29000" y="612468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631656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29000" y="650880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29000" y="670248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29000" y="689436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29000" y="708660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2900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2268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1636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100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0372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9596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896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8296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7664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7032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6400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562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992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4360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3728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3096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246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1832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1056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042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9756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9124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8492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7716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708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6452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5820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V="1">
            <a:off x="4648320" y="4341960"/>
            <a:ext cx="2895480" cy="152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79520" y="4235400"/>
            <a:ext cx="5187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74720" y="5943600"/>
            <a:ext cx="5072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6969240"/>
            <a:ext cx="6508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158320" y="2971800"/>
            <a:ext cx="1790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cho-1,alto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dibujar en el frame buffer? Una líne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320" y="1371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dos los puntos extremos de una línea                                  identificar las posiciones a dibuj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é requisitos se desea cumpli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897520" y="1371600"/>
                <a:ext cx="21034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3" name=""/>
          <p:cNvGrpSpPr/>
          <p:nvPr/>
        </p:nvGrpSpPr>
        <p:grpSpPr>
          <a:xfrm>
            <a:off x="4343400" y="2971800"/>
            <a:ext cx="4724280" cy="3581280"/>
            <a:chOff x="4343400" y="2971800"/>
            <a:chExt cx="4724280" cy="3581280"/>
          </a:xfrm>
        </p:grpSpPr>
        <p:sp>
          <p:nvSpPr>
            <p:cNvPr id="184" name=""/>
            <p:cNvSpPr/>
            <p:nvPr/>
          </p:nvSpPr>
          <p:spPr>
            <a:xfrm>
              <a:off x="6161040" y="54212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42120" y="52340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23200" y="52340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05720" y="5234040"/>
              <a:ext cx="1807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86440" y="50450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68960" y="5045040"/>
              <a:ext cx="1828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50040" y="48560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32560" y="48560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13640" y="48560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96160" y="46688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77240" y="46688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58320" y="44798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40840" y="4479840"/>
              <a:ext cx="1807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521560" y="44798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704440" y="42908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70600" y="5986440"/>
              <a:ext cx="1807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5132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33840" y="5986440"/>
              <a:ext cx="1828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1492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9744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78520" y="59864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6104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4212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23200" y="59864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05720" y="5986440"/>
              <a:ext cx="1807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8644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68960" y="5986440"/>
              <a:ext cx="1828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5004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3256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13640" y="59864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9616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7724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58320" y="59864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40840" y="5986440"/>
              <a:ext cx="1807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52156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43400" y="297180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25920" y="316080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07000" y="334800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88080" y="353700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70600" y="3726000"/>
              <a:ext cx="180720" cy="1886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51320" y="39146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33840" y="4102200"/>
              <a:ext cx="182880" cy="1886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14920" y="42908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97440" y="44798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78520" y="46688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33760" y="3065400"/>
              <a:ext cx="1635120" cy="169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251400" y="4382640"/>
              <a:ext cx="2543400" cy="113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60960" y="6081840"/>
              <a:ext cx="3452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343400" y="2971800"/>
              <a:ext cx="4724280" cy="3581280"/>
              <a:chOff x="4343400" y="2971800"/>
              <a:chExt cx="4724280" cy="3581280"/>
            </a:xfrm>
          </p:grpSpPr>
          <p:sp>
            <p:nvSpPr>
              <p:cNvPr id="233" name=""/>
              <p:cNvSpPr/>
              <p:nvPr/>
            </p:nvSpPr>
            <p:spPr>
              <a:xfrm>
                <a:off x="4343400" y="29718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343400" y="31608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343400" y="334800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343400" y="35370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343400" y="37260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43400" y="39146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343400" y="41022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343400" y="42908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343400" y="44798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343400" y="46674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43400" y="48560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43400" y="50450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343400" y="52340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343400" y="54212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343400" y="56102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343400" y="57992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343400" y="59864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43400" y="61754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343400" y="63644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343400" y="65516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34340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2592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0700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8808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07060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25132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43384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1492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9600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7852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16104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34212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52320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0572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88644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6896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5004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43112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61364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9616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97724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15832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34084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52156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0444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88516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06624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"/>
          <p:cNvSpPr/>
          <p:nvPr/>
        </p:nvSpPr>
        <p:spPr>
          <a:xfrm>
            <a:off x="1095480" y="6858000"/>
            <a:ext cx="4452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rar:   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ttp://www.netgraphics.sk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dibujar en el frame buffer? Una líne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320" y="1411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goritmo ingenu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= f(x) = mx+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a cada x en [x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],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setPixel(x, round(y(x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286000" y="3429000"/>
            <a:ext cx="5640480" cy="2973240"/>
            <a:chOff x="2286000" y="3429000"/>
            <a:chExt cx="5640480" cy="2973240"/>
          </a:xfrm>
        </p:grpSpPr>
        <p:sp>
          <p:nvSpPr>
            <p:cNvPr id="284" name=""/>
            <p:cNvSpPr/>
            <p:nvPr/>
          </p:nvSpPr>
          <p:spPr>
            <a:xfrm>
              <a:off x="2286000" y="3429000"/>
              <a:ext cx="3505320" cy="29718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17920" y="5740560"/>
              <a:ext cx="33156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49480" y="5410080"/>
              <a:ext cx="33192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81400" y="5410080"/>
              <a:ext cx="33192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13320" y="5410080"/>
              <a:ext cx="33156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44880" y="5079960"/>
              <a:ext cx="3319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76800" y="5079960"/>
              <a:ext cx="33156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08360" y="4749840"/>
              <a:ext cx="3319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40280" y="4749840"/>
              <a:ext cx="3301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0400" y="4749840"/>
              <a:ext cx="3319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02320" y="4419720"/>
              <a:ext cx="3319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34240" y="4419720"/>
              <a:ext cx="33156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65800" y="4089240"/>
              <a:ext cx="33192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597720" y="4089240"/>
              <a:ext cx="33156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929280" y="4089240"/>
              <a:ext cx="33192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61200" y="3759120"/>
              <a:ext cx="3319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782800" y="3922200"/>
              <a:ext cx="4645080" cy="198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86000" y="342900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86000" y="3759120"/>
              <a:ext cx="563868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86000" y="4089240"/>
              <a:ext cx="563868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86000" y="441972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86000" y="474984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5079960"/>
              <a:ext cx="563868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86000" y="5410080"/>
              <a:ext cx="563868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86000" y="574056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86000" y="607068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1792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4948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8140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1332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4488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7680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0836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4028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7040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0232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3424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6580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9772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92928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6120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9312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2468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8600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6000" y="640080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91320" y="3429000"/>
              <a:ext cx="1440" cy="297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dibujar una líne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320" y="1411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goritmo DDA (digital differential analizer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Para cualquier intervalo  en x        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y = m δx</a:t>
            </a: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   y, de manera similar  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x =  δy / 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ongamos que: 0 &lt;= m &lt;= 1, 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x = 1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694400" y="310356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914400" y="3657600"/>
            <a:ext cx="38862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Algoritmo increment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993366"/>
                </a:solidFill>
                <a:latin typeface="Arial"/>
                <a:ea typeface="DejaVu Sans"/>
              </a:rPr>
              <a:t>x = x</a:t>
            </a:r>
            <a:r>
              <a:rPr b="0" lang="es-ES" sz="2800" spc="-1" strike="noStrike" baseline="-25000">
                <a:solidFill>
                  <a:srgbClr val="993366"/>
                </a:solidFill>
                <a:latin typeface="Arial"/>
                <a:ea typeface="DejaVu San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993366"/>
                </a:solidFill>
                <a:latin typeface="Arial"/>
                <a:ea typeface="DejaVu Sans"/>
              </a:rPr>
              <a:t>y = y</a:t>
            </a:r>
            <a:r>
              <a:rPr b="0" lang="es-ES" sz="2800" spc="-1" strike="noStrike" baseline="-25000">
                <a:solidFill>
                  <a:srgbClr val="993366"/>
                </a:solidFill>
                <a:latin typeface="Arial"/>
                <a:ea typeface="DejaVu San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993366"/>
                </a:solidFill>
                <a:latin typeface="Arial"/>
                <a:ea typeface="DejaVu Sans"/>
              </a:rPr>
              <a:t>setPixel(x, round(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993366"/>
                </a:solidFill>
                <a:latin typeface="Arial"/>
                <a:ea typeface="DejaVu Sans"/>
              </a:rPr>
              <a:t>While  x &lt; x</a:t>
            </a:r>
            <a:r>
              <a:rPr b="0" lang="es-ES" sz="2800" spc="-1" strike="noStrike" baseline="-25000">
                <a:solidFill>
                  <a:srgbClr val="993366"/>
                </a:solidFill>
                <a:latin typeface="Arial"/>
                <a:ea typeface="DejaVu Sans"/>
              </a:rPr>
              <a:t>f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x = 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y = y +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setPixel(x, round(y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486400" y="3429000"/>
            <a:ext cx="3900600" cy="2516040"/>
            <a:chOff x="5486400" y="3429000"/>
            <a:chExt cx="3900600" cy="2516040"/>
          </a:xfrm>
        </p:grpSpPr>
        <p:sp>
          <p:nvSpPr>
            <p:cNvPr id="335" name=""/>
            <p:cNvSpPr/>
            <p:nvPr/>
          </p:nvSpPr>
          <p:spPr>
            <a:xfrm>
              <a:off x="5486400" y="3429000"/>
              <a:ext cx="388620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86400" y="4724280"/>
              <a:ext cx="388620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86720" y="3429000"/>
              <a:ext cx="1440" cy="251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085240" y="3429000"/>
              <a:ext cx="1440" cy="251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385200" y="3429000"/>
              <a:ext cx="1800" cy="251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86400" y="3429000"/>
              <a:ext cx="1440" cy="251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86400" y="5943600"/>
              <a:ext cx="388620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6095880" y="4341960"/>
              <a:ext cx="3276720" cy="99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95880" y="5334120"/>
              <a:ext cx="13716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7467480" y="4951080"/>
              <a:ext cx="1800" cy="384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67480" y="4952880"/>
              <a:ext cx="13716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8839080" y="4493880"/>
              <a:ext cx="1800" cy="460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86680" y="4952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91400" y="5334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476480" y="495288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848080" y="446724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743200" y="3025800"/>
                <a:ext cx="18288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685800" y="6858000"/>
            <a:ext cx="2787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uesto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ar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40400" y="6400800"/>
            <a:ext cx="383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Qué problemas puede ten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a línea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 de Bresenh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 solo operatoria incremental en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 un valor de decisión entero para elegir qué pixel u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926520" y="3429000"/>
            <a:ext cx="5523840" cy="3834720"/>
            <a:chOff x="3926520" y="3429000"/>
            <a:chExt cx="5523840" cy="3834720"/>
          </a:xfrm>
        </p:grpSpPr>
        <p:sp>
          <p:nvSpPr>
            <p:cNvPr id="357" name=""/>
            <p:cNvSpPr/>
            <p:nvPr/>
          </p:nvSpPr>
          <p:spPr>
            <a:xfrm>
              <a:off x="5259240" y="3429000"/>
              <a:ext cx="1800" cy="342900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7160" y="3429000"/>
              <a:ext cx="1440" cy="342900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156520" y="3429000"/>
              <a:ext cx="1800" cy="342900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37080" y="5257800"/>
              <a:ext cx="4876920" cy="144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37080" y="4038480"/>
              <a:ext cx="4876920" cy="180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37080" y="6477120"/>
              <a:ext cx="4876920" cy="144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069520" y="678168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549840" y="6858000"/>
              <a:ext cx="51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26520" y="624852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57120" y="5029200"/>
              <a:ext cx="622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4819680" y="3930120"/>
              <a:ext cx="4495680" cy="274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64360" y="5257800"/>
              <a:ext cx="1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64360" y="5562720"/>
              <a:ext cx="14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13520" y="5562720"/>
              <a:ext cx="30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91160" y="525780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91160" y="575928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73440" y="4648320"/>
              <a:ext cx="4876920" cy="14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73440" y="5867280"/>
              <a:ext cx="4876920" cy="18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21360" y="3429000"/>
              <a:ext cx="1440" cy="3429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70720" y="3429000"/>
              <a:ext cx="1800" cy="3429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4795920" y="440388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en el frame buffer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 de Bresenham  (0 &lt; m &lt;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   que  m =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En el paso k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Restan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795920" y="440388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828800" y="2286000"/>
                <a:ext cx="2011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=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828800" y="2743200"/>
                <a:ext cx="37497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b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924200" y="3309840"/>
                <a:ext cx="4705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=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1822320" y="3767040"/>
                <a:ext cx="4426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b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1828800" y="4800600"/>
                <a:ext cx="47512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we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pe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y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x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343400" y="5257800"/>
                <a:ext cx="33559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y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x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214800" y="6076800"/>
                <a:ext cx="4867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y devices (Pantall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dibujar en el “frame buffer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í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r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a línea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 de Bresenham  (|m| &lt; 1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   que  m =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x  = (y</a:t>
            </a:r>
            <a:r>
              <a:rPr b="0" lang="en-US" sz="1400" spc="-1" strike="noStrike">
                <a:solidFill>
                  <a:srgbClr val="0000ff"/>
                </a:solidFill>
                <a:latin typeface="DejaVu Sans"/>
                <a:ea typeface="DejaVu Sans"/>
              </a:rPr>
              <a:t>f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 -y</a:t>
            </a:r>
            <a:r>
              <a:rPr b="0" lang="en-US" sz="1400" spc="-1" strike="noStrike">
                <a:solidFill>
                  <a:srgbClr val="0000ff"/>
                </a:solidFill>
                <a:latin typeface="DejaVu Sans"/>
                <a:ea typeface="DejaVu Sans"/>
              </a:rPr>
              <a:t>i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)/(x</a:t>
            </a:r>
            <a:r>
              <a:rPr b="0" lang="en-US" sz="1400" spc="-1" strike="noStrike">
                <a:solidFill>
                  <a:srgbClr val="0000ff"/>
                </a:solidFill>
                <a:latin typeface="DejaVu Sans"/>
                <a:ea typeface="DejaVu Sans"/>
              </a:rPr>
              <a:t>f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-x</a:t>
            </a:r>
            <a:r>
              <a:rPr b="0" lang="en-US" sz="1400" spc="-1" strike="noStrike">
                <a:solidFill>
                  <a:srgbClr val="0000ff"/>
                </a:solidFill>
                <a:latin typeface="DejaVu Sans"/>
                <a:ea typeface="DejaVu Sans"/>
              </a:rPr>
              <a:t>i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En el paso k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Restan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4795920" y="440388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828800" y="2286000"/>
                <a:ext cx="2011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=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828800" y="2743200"/>
                <a:ext cx="37497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b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828800" y="3309840"/>
                <a:ext cx="4705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=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822320" y="3767040"/>
                <a:ext cx="48070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b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b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3706920" y="4800600"/>
                <a:ext cx="47512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we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pe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y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x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657600" y="5595840"/>
                <a:ext cx="33559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y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x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200400" y="6400800"/>
                <a:ext cx="4867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a línea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 de Bresenham  (m &lt; 1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o dado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Y dependiendo del signo 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Valor inicial d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4800600" y="444024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2217600" y="2624040"/>
                <a:ext cx="48690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4206960" y="3246480"/>
                <a:ext cx="1736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217600" y="3995640"/>
                <a:ext cx="36957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486400" y="5138640"/>
                <a:ext cx="34164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o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848040" y="6172200"/>
                <a:ext cx="15638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a línea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4800600" y="444024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1352520" y="2482920"/>
            <a:ext cx="759924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neBresenham(x0, y0, xf, y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setPixel(x0, y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p := 2</a:t>
            </a:r>
            <a:r>
              <a:rPr b="0" lang="es-ES" sz="2400" spc="-1" strike="noStrike">
                <a:solidFill>
                  <a:srgbClr val="993366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y - </a:t>
            </a:r>
            <a:r>
              <a:rPr b="0" lang="es-ES" sz="2400" spc="-1" strike="noStrike">
                <a:solidFill>
                  <a:srgbClr val="993366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x := x0; y := y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while x &lt; x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34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if p&lt;0</a:t>
            </a:r>
            <a:br>
              <a:rPr sz="2400"/>
            </a:b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	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p := p + 2</a:t>
            </a:r>
            <a:r>
              <a:rPr b="0" lang="es-ES" sz="2400" spc="-1" strike="noStrike">
                <a:solidFill>
                  <a:srgbClr val="993366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y</a:t>
            </a:r>
            <a:br>
              <a:rPr sz="2400"/>
            </a:b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else</a:t>
            </a:r>
            <a:br>
              <a:rPr sz="2400"/>
            </a:b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	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y := y+1</a:t>
            </a:r>
            <a:br>
              <a:rPr sz="2400"/>
            </a:b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	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p := p + 2</a:t>
            </a:r>
            <a:r>
              <a:rPr b="0" lang="es-ES" sz="2400" spc="-1" strike="noStrike">
                <a:solidFill>
                  <a:srgbClr val="993366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y - 2</a:t>
            </a:r>
            <a:r>
              <a:rPr b="0" lang="es-ES" sz="2400" spc="-1" strike="noStrike">
                <a:solidFill>
                  <a:srgbClr val="993366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34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x := x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34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setPixel(x,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344600" y="1600200"/>
            <a:ext cx="676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cordar que si  p &lt; 0 =&gt;   solo se incremente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i p &gt;=0     se incrementa x e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43000" y="6858000"/>
            <a:ext cx="42530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uesto: extenderlo a los otros ca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 círcul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3400560" y="2556000"/>
                <a:ext cx="25430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c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=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qué no usar la conocida fórmul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Usa operaciones “pesada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l espacio entre pixeles dibujados no unifor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3581280" y="5257800"/>
            <a:ext cx="2590920" cy="20113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6858000" y="1371600"/>
            <a:ext cx="28083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 círcul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ndo un espaciado angular, un círculo puede ser dibujado con puntos equidist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etría en el cálculo del círculo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e calcula una posición en un octante y se obtiene los siete puntos res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5715000" y="2593800"/>
            <a:ext cx="3657600" cy="2664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2508120" y="2971800"/>
                <a:ext cx="16066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=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+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=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+r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 círcul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10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dPoint Circle 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uesto: mirar la implemen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1828800" y="2392200"/>
            <a:ext cx="5715000" cy="40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play devices (pantalla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17900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bo de rayos catódicos (CR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z de pix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 de electrones produce estimulación de fósforo (pix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a resolución, colores bien represen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de refresco: número de veces que se dibuja en la pantalla por segu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re 60 y 100 veces por segun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os que 60 produce parpa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28760" y="4876920"/>
            <a:ext cx="3914640" cy="2438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800600" y="5029200"/>
            <a:ext cx="4800600" cy="2209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001000" y="457200"/>
            <a:ext cx="197640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play devices (pantalla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8560" y="117900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bo de rayos catódicos (CRT): shadow ma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s “phosphor color dots” en cada pixel: Uno emite luz roja, otro verde y el último az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ene tres “guns” una para cada “color do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luz emitida por los tres fósforos genera un pequeño “spot” de color en cada pixel (nuestro ojo mezcla la luz emitid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guraciones posibles de los fósforos: triangular o en lín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971800" y="4343400"/>
            <a:ext cx="34164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play devices (pantalla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8560" y="117900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talla de Cristal líquido (LCD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bujo producido pasando luz polarizada  a través de un cristal líquido que puede ser alineado para ya sea dejar pasar luz o bloquear su pa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sive matrix LCD (más antigu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e matrix LCD: se usan transistores para controlar el voltage de  cada pix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3952800" cy="2952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28600" y="4572000"/>
            <a:ext cx="36576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play devices (pantalla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58560" y="1179000"/>
            <a:ext cx="907092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talla de cristal líquido (LCD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riz de celdas accesibles (pixe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ldas contienen moléculas de cristal líquido que se alinean con la car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tiene parpadeo: la imagen debe ser actualizada solo si  cambia (mayor persistenci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a de refresco: 60Hz, 120Hz o 240Hz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ás livianas que las C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os consumo de energía que las C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r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en.wikipedia.org/wiki/Liquid_crystal_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topreviewshop.com/lcd_refresh_rates_explained_240hz_vs_120hz_vs_60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2160" y="1371240"/>
            <a:ext cx="939780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rame buff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a de memoria usada para almacenar el dibu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ciones en el frame buffer y las correspondientes posiciones de la pantalla se referencian en coordenadas cartesi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ideo Contro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a el frame buffer para resfrescar la pant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iene los valores de los pixeles de áreas de memoria diferentes durante el ciclo de refre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ene la “look up table” que define la tabla de colores a u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75080" y="4616280"/>
            <a:ext cx="428292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1640" y="1371240"/>
            <a:ext cx="939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es RGB (red, green, blu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o especificar un col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quema directo: Almacenar  códigos de color directamente en el frame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: frame buffer de 3 “bit planes” =&gt; 8 colores (el bit de la izquierda corresponde al rojo,  el del medio al verde, y el bit derecho al az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8040" y="3886200"/>
            <a:ext cx="54957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1640" y="1371240"/>
            <a:ext cx="939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quema direct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Cómo agregar más color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gregar más “bit plane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ntajas: simp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ventajas:  requerimiento de memoria al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-bit planes … cuántos colores? Cuánta  memoria se necesita para el frame-buffer con resolución de 1024x1024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 24-bit pixel y la misma resolu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3:29:56Z</dcterms:created>
  <dc:creator/>
  <dc:description/>
  <dc:language>en-US</dc:language>
  <cp:lastModifiedBy>Nancy Hitschfeld</cp:lastModifiedBy>
  <dcterms:modified xsi:type="dcterms:W3CDTF">2012-03-29T11:14:20Z</dcterms:modified>
  <cp:revision>20</cp:revision>
  <dc:subject/>
  <dc:title/>
</cp:coreProperties>
</file>