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490-862D-4460-A0CF-4C982B66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765-52C9-422E-99B0-5E387856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DCF-70B7-4336-85FC-28B0931F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54D-395E-4F82-A093-420A22F6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340-7533-4B00-8A59-F0198378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4F36-A4D4-4CE3-93DA-5E7089A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F4F-3359-42F5-91F3-E9AA597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C39-13BA-4FFF-9C88-0DD398C8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585-5C14-4E34-906E-880EF28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3D3E-4080-4A58-81E0-DE8877E9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3006-D2A4-4019-86D8-5DAD920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BB9-82A8-4AE0-9E76-E4550BF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ADC5-B658-4916-8CD1-13AF759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D21-F7B6-4DB7-B4F6-C6B7AAD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13B4-24AC-4BAB-8B85-5263DD18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C7C-A115-4494-ACB4-5D79B46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5A68-1F23-430D-B7E8-20A6DFD3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E6E-30A1-4D02-9A81-6606F2E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B26-ABE1-4C6C-94AD-4E16B7E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436-8E0B-4755-AE71-5C4FF3A0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3AA-0788-4FC9-BF99-DF445EF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52B-1B26-4F2D-87EA-95E6807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6F3-1599-4503-883D-DD39B91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9AF-3E60-407E-AA52-D1BC036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36E72-4957-4FE8-A964-6F86FABB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D3025-29EB-4A1D-B1AC-920BE8EA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previewshop.com/lcd_refresh_rates_explained_240hz_vs_120hz_vs_60hz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ción gráf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Almacenar el color a usar en una tabla separada (look up table) y usar el número almacenado en el frame buffer como índice a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En la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ixel puede tene run valor entr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osición de la tabla tiene  24 bits para especificar unl color: Ej el índice 196 almacena  el color 0x8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e flexibilidad para cambiar el color usado para un mismo índice, o cambiar la tabl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nta memoria usamos frame-buffer +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28640" y="4191120"/>
            <a:ext cx="6600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o de dos tablas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04800" y="2514600"/>
            <a:ext cx="261000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6002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5257800"/>
            <a:ext cx="119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40440"/>
            <a:ext cx="129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rocessor (graphic processor, display co-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5257800" cy="479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2800" y="1771560"/>
            <a:ext cx="3360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berar a la CPU de las operaciones grá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sformar el dibujo en conjunto de pixeles y almacenarlos en el  frame buffer (scan-conversion, raster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j: convertir una lín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junto de punto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generar estilos de lín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s rellenas, aplicar transformaciones a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btener información de los dispositivos de entrada. Ej: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59626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52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reglo 2D de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gnación individual de intensidad/color para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ixeles centrados en coordenadas ent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29000" y="3429000"/>
            <a:ext cx="5030640" cy="3659040"/>
            <a:chOff x="3429000" y="3429000"/>
            <a:chExt cx="5030640" cy="3659040"/>
          </a:xfrm>
        </p:grpSpPr>
        <p:sp>
          <p:nvSpPr>
            <p:cNvPr id="128" name=""/>
            <p:cNvSpPr/>
            <p:nvPr/>
          </p:nvSpPr>
          <p:spPr>
            <a:xfrm>
              <a:off x="3429000" y="3429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6212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8131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400680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1990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43909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5831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47768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9687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1609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53546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55468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7387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31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61246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63165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65088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67024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68943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70866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226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00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37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5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89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9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66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03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00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56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99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83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05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4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75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12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849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771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08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45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4648320" y="4341960"/>
            <a:ext cx="289548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79520" y="4235400"/>
            <a:ext cx="518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4720" y="5943600"/>
            <a:ext cx="5072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696924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8320" y="2971800"/>
            <a:ext cx="1790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cho-1,alto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dos los puntos extremos de una línea                                  identificar las posiciones a dibuj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requisitos se desea cumpli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97520" y="1371600"/>
                <a:ext cx="2103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343400" y="2971800"/>
            <a:ext cx="4724280" cy="3581280"/>
            <a:chOff x="4343400" y="2971800"/>
            <a:chExt cx="4724280" cy="3581280"/>
          </a:xfrm>
        </p:grpSpPr>
        <p:sp>
          <p:nvSpPr>
            <p:cNvPr id="184" name=""/>
            <p:cNvSpPr/>
            <p:nvPr/>
          </p:nvSpPr>
          <p:spPr>
            <a:xfrm>
              <a:off x="6161040" y="54212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2120" y="5234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5234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52340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6440" y="5045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68960" y="50450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004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3256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3640" y="4856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16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724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8320" y="4479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0840" y="44798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2156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4440" y="4290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060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3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384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7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85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1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21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320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86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896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0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2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364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72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084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1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29718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920" y="31608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7000" y="33480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8080" y="35370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0600" y="3726000"/>
              <a:ext cx="18072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1320" y="39146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4102200"/>
              <a:ext cx="18288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4920" y="4290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744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78520" y="4668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760" y="3065400"/>
              <a:ext cx="163512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51400" y="4382640"/>
              <a:ext cx="2543400" cy="11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0960" y="6081840"/>
              <a:ext cx="345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43400" y="2971800"/>
              <a:ext cx="4724280" cy="3581280"/>
              <a:chOff x="4343400" y="2971800"/>
              <a:chExt cx="4724280" cy="358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343400" y="2971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3160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334800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43400" y="3537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43400" y="3726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3400" y="39146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41022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4290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3400" y="4479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43400" y="46674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3400" y="4856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5045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400" y="52340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43400" y="54212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3400" y="5610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3400" y="5799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3400" y="5986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6175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3400" y="6364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65516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434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5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7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808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06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513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38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14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6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785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61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42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32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64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689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0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31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136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96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77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83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408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15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44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85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66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095480" y="6858000"/>
            <a:ext cx="4452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 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ttp://www.netgraphics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ingenu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f(x) = mx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cada x en [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round(y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3429000"/>
            <a:ext cx="5640480" cy="2973240"/>
            <a:chOff x="2286000" y="3429000"/>
            <a:chExt cx="5640480" cy="2973240"/>
          </a:xfrm>
        </p:grpSpPr>
        <p:sp>
          <p:nvSpPr>
            <p:cNvPr id="284" name=""/>
            <p:cNvSpPr/>
            <p:nvPr/>
          </p:nvSpPr>
          <p:spPr>
            <a:xfrm>
              <a:off x="2286000" y="3429000"/>
              <a:ext cx="3505320" cy="2971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17920" y="57405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948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140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3320" y="541008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4880" y="507996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76800" y="50799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836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0280" y="4749840"/>
              <a:ext cx="3301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040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2320" y="44197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441972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80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97720" y="408924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928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1200" y="37591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2800" y="3922200"/>
              <a:ext cx="4645080" cy="19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4290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0" y="375912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08924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0" y="441972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74984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507996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541008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574056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607068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179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494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3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48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768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836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028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704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2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424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58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977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92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612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31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64008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429000"/>
              <a:ext cx="144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DDA (digital differential analiz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cualquier intervalo  en x      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 = m δx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   y, de manera similar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 δy /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ngamos que: 0 &lt;= m &lt;= 1,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4400" y="310356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14400" y="3657600"/>
            <a:ext cx="3886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Algoritmo incre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x =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y = y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While  x &lt;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f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= y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3429000"/>
            <a:ext cx="3900600" cy="2516040"/>
            <a:chOff x="5486400" y="3429000"/>
            <a:chExt cx="3900600" cy="2516040"/>
          </a:xfrm>
        </p:grpSpPr>
        <p:sp>
          <p:nvSpPr>
            <p:cNvPr id="335" name=""/>
            <p:cNvSpPr/>
            <p:nvPr/>
          </p:nvSpPr>
          <p:spPr>
            <a:xfrm>
              <a:off x="5486400" y="34290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724280"/>
              <a:ext cx="38862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672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8524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85200" y="3429000"/>
              <a:ext cx="180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59436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095880" y="4341960"/>
              <a:ext cx="327672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334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467480" y="495108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952880"/>
              <a:ext cx="13716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839080" y="449388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8668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1400" y="533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76480" y="4952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8080" y="4467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743200" y="30258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5800" y="6858000"/>
            <a:ext cx="2787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40400" y="6400800"/>
            <a:ext cx="38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Qué problemas puede ten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olo operatoria incremental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 un valor de decisión entero para elegir qué pixel u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26520" y="3429000"/>
            <a:ext cx="5523840" cy="3834720"/>
            <a:chOff x="3926520" y="3429000"/>
            <a:chExt cx="5523840" cy="3834720"/>
          </a:xfrm>
        </p:grpSpPr>
        <p:sp>
          <p:nvSpPr>
            <p:cNvPr id="357" name=""/>
            <p:cNvSpPr/>
            <p:nvPr/>
          </p:nvSpPr>
          <p:spPr>
            <a:xfrm>
              <a:off x="525924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7160" y="3429000"/>
              <a:ext cx="144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52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7080" y="525780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7080" y="4038480"/>
              <a:ext cx="4876920" cy="1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7080" y="647712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9520" y="6781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49840" y="685800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26520" y="62485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7120" y="50292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19680" y="3930120"/>
              <a:ext cx="4495680" cy="274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4360" y="52578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4360" y="5562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3520" y="55627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5257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5759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3440" y="4648320"/>
              <a:ext cx="487692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3440" y="5867280"/>
              <a:ext cx="487692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3429000"/>
              <a:ext cx="144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0720" y="3429000"/>
              <a:ext cx="180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en el frame bu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0 &lt; m &lt;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242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822320" y="3767040"/>
                <a:ext cx="442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82880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343400" y="525780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14800" y="6076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dibujar en el “frame buff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|m|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 = (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-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/(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-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8288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22320" y="3767040"/>
                <a:ext cx="480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692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57600" y="559584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200400" y="6400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m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da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Y dependiendo del sign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Valor inicial 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17600" y="2624040"/>
                <a:ext cx="4869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206960" y="3246480"/>
                <a:ext cx="1736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17600" y="3995640"/>
                <a:ext cx="369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86400" y="5138640"/>
                <a:ext cx="3416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48040" y="6172200"/>
                <a:ext cx="1563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352520" y="2482920"/>
            <a:ext cx="75992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neBresenham(x0, y0, xf, y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0, y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0; y :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while x &lt; x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if p&lt;0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else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:= y+1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1600200"/>
            <a:ext cx="676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ordar que si  p &lt; 0 =&gt;   solo se increment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 p &gt;=0     se incrementa x 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6858000"/>
            <a:ext cx="4253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o: extenderlo a los otros c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00560" y="2556000"/>
                <a:ext cx="2543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no usar la conocida fó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 operaciones “pesad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espacio entre pixeles dibujados no unif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581280" y="52578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2808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ndo un espaciado angular, un círculo puede ser dibujado con puntos equidis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ría en el cálculo del círcu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 calcula una posición en un octante y se obtiene los siete puntos re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15000" y="2593800"/>
            <a:ext cx="365760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508120" y="2971800"/>
                <a:ext cx="1606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=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mirar la 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28800" y="2392200"/>
            <a:ext cx="57150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z de pi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 de electrones produce estimulación de fósforo (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resolución, colores bien re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refresco: número de veces que se dibuja en la pantalla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60 y 100 vece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que 60 produce parpa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760" y="4876920"/>
            <a:ext cx="391464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48006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01000" y="457200"/>
            <a:ext cx="19764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: shadow m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s “phosphor color dots” en cada pixel: Uno emite luz roja, otro verde y el último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e tres “guns” una para cada “color do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luz emitida por los tres fósforos genera un pequeño “spot” de color en cada pixel (nuestro ojo mezcla la luz emit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ones posibles de los fósforos: triangular o en l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34164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o producido pasando luz polarizada  a través de un cristal líquido que puede ser alineado para ya sea dejar pasar luz o bloquear su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matrix LCD (más antigu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matrix LCD: se usan transistores para controlar el voltage de 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9528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z de celdas accesibles (pix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das contienen moléculas de cristal líquido que se alinean con la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ene parpadeo: la imagen debe ser actualizada solo si  cambia (mayor persiste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a de refresco: 60Hz, 120Hz o 240Hz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livianas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consumo de energía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en.wikipedia.org/wiki/Liquid_crystal_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opreviewshop.com/lcd_refresh_rates_explained_240hz_vs_120hz_vs_60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2160" y="1371240"/>
            <a:ext cx="9397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 de memoria usada para almacenar el dib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ciones en el frame buffer y las correspondientes posiciones de la pantalla se referencian en coordenadas cart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a el frame buffer para resfrescar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ene los valores de los pixeles de áreas de memoria diferentes durante el ciclo de refr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 “look up table” que define la tabla de colores a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75080" y="4616280"/>
            <a:ext cx="4282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s RGB (red, green, 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o especificar un col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directo: Almacenar  códigos de color directamente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frame buffer de 3 “bit planes” =&gt; 8 colores (el bit de la izquierda corresponde al rojo,  el del medio al verde, y el bit derecho al 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8040" y="3886200"/>
            <a:ext cx="54957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irec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agregar más color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regar más “bit pla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si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ventajas:  requerimiento de memoria a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-bit planes … cuántos colores? Cuánta  memoria se necesita para el frame-buffer con resolución de 1024x1024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24-bit pixel y la misma resolu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29:56Z</dcterms:created>
  <dc:creator/>
  <dc:description/>
  <dc:language>en-US</dc:language>
  <cp:lastModifiedBy>Nancy Hitschfeld</cp:lastModifiedBy>
  <dcterms:modified xsi:type="dcterms:W3CDTF">2012-03-29T11:14:20Z</dcterms:modified>
  <cp:revision>20</cp:revision>
  <dc:subject/>
  <dc:title/>
</cp:coreProperties>
</file>