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2E6-8C12-414C-98D2-24BB6ED6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063-9906-4548-9B46-EA5C6090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E82-90BB-46AE-B764-3C3DD7A0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5FB-25C6-4781-A4E9-9A271D4B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6ED0-E3B1-4F39-8F9C-12137156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846D-32DF-494B-885A-C90ED6F4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E2DB-D0C0-4810-A7CD-3A66AD13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3726-EE50-42FA-B550-7555CB8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724E-688D-4208-AD2C-1B1328B4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3990-D28A-4806-892D-8A7CDAF6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FD76-107B-498E-9718-BACB0C4A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8C3-0586-4E60-8B4E-D8D89DA1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ECC2-48BD-4AAA-A027-2C456403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F1DE-3659-4D63-AF12-0D173763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23A-9056-488C-9F36-FB0F68FF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5072-5DE1-4082-95EC-DC77277A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89A8-3DD1-44BB-BB74-1A86DE6C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C8DE-BABE-4011-A18A-5BC02E18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C37C-660C-4C0D-ADCD-C767687E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51CD-EA27-4CFF-B48F-EF5D2125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D9A3-4002-4F8C-B9DA-1BA53DCD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B644-8AC6-4B4D-9BA1-C3C5C888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4F1-B023-45EF-A061-78D60A70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7E2F-C38E-49F8-8A63-914C630C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586D-8B16-4279-AD9C-E9C1D5A3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7335-AAA5-4038-99E8-03F76D5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4888-3F88-4907-9900-9DB1E569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23FC-84BB-493A-878A-3E766006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519C-2D35-4CD0-9A69-29417279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37D4-32B4-4BF5-BF3E-D313CA00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A8C-8F6C-4F19-A08B-5FDE638B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E12-4A66-4B78-A63B-D5CF1906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171-FF35-4C82-8616-DA0ADC20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817-F67D-4EAB-93FE-5D40F308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A68-F4F6-4787-88D7-65AE0A4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CE1-8BE6-4F34-8E1E-52B4E0D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3D7EA-57B5-4891-8AB6-02D586A8E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BE844-D6FB-4097-A983-402E0B446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7AABD-A55C-4A8D-999E-36ED7E96C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ón: (2,4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s ecuaciones se pueden escribir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sugiere es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95920" y="1523880"/>
            <a:ext cx="253368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657600" y="4086360"/>
            <a:ext cx="320040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42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iere un método iterativ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necesitamos? Valores iniciales                         para cal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ncemos 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ce converger a la solución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54720" y="3409920"/>
                <a:ext cx="1646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74320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86000" y="3867120"/>
                <a:ext cx="1631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862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400800" y="54864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14800" y="2465280"/>
            <a:ext cx="5715000" cy="4849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1341360"/>
            <a:ext cx="93121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e proceso se conoce como: Método de iteración de Jacob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 sirve para resolver todos los  sistemas line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n el ejemplo: 19 itera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ismo sistema de ecuaciones reorden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escribimos estas ecuaciones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971800" y="5038560"/>
            <a:ext cx="297180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í, el método iterativo de Jacobi que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partimos con el mismo punt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punto (1.5,3.375, 5) está más alejado de la solución que el punto inicial de l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430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este ejemplo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étodo diverg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47880" y="2523960"/>
            <a:ext cx="473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demos algunas veces acelerar la convergenci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asado en el método de Jacobi, la idea es que cada vez que tenemos un nuevo valor, usamos ese para  obtener el valor de la siguiente ec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 aplicamos al ejemplo anter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nuevo punto está más cerca de la solución que el punto obtenido con Jaco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3743280"/>
            <a:ext cx="261936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6191280"/>
            <a:ext cx="240984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133800" y="6172200"/>
            <a:ext cx="303840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400800" y="6172200"/>
            <a:ext cx="33148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 se necesitaron 10 itera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19400" y="2847960"/>
            <a:ext cx="5324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saber cuando converge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ción: Se dice que una matriz A de NxN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agonal estrictamente domina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orema (Método iterativo de Jacobi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gamos que A es una matriz diagonal estrictamente dominante. Entonces el sistema de ecuaciones lineales AX = B tiene solución única X=P. Además, el proceso iterativo de Jacobi produce una sucesión de vectores que converge a P cualquiera sea el vector de part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: Puede encontrarse en textos análisis numérico avan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ta: Esta es una condición suficiente pero no necesar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38600" y="2743200"/>
                <a:ext cx="3657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072200" y="27432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6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se deduc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emos la ecuación de diferencias de La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supongamos que conocemos los valores de u(x,y) en el conto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14600"/>
                <a:ext cx="4381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790640" y="4187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4800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548640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74800" y="60166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327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ción numérica de EDPs requiere resolver sistemas de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ces pueden ser grandes y sparse (5 o 6 elementos distintos de cero por f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métodos ex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cuación escrita de manera adecuada para iterar 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adicional necesitam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86200" y="2324160"/>
                <a:ext cx="1828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24680" y="547056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14600" y="3657600"/>
                <a:ext cx="45482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5089680"/>
                <a:ext cx="3657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u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er de valores iniciales en los puntos interiores de la malla (gri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r por ejemplo la constante K definida como la media de los 2n + 2m -4 valores  de cont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que consiste cada iteración?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cer un barrido de todos los puntos interiores de la malla con la fórmula recursiva hasta que          se “reduzca” a cero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    |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, siendo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na tolerancia prefija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e puede aumentar la velocidad de la convergencia a cer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i: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usando método de sobrerelajación sucesiva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84668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2960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14400" y="2486160"/>
            <a:ext cx="84200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Laplace- cond. Dirichl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919840"/>
            <a:ext cx="729756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 y valor inicial puntos  interiores =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76240" y="1143000"/>
            <a:ext cx="8267760" cy="3086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60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iterativos 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 Condiciones de Neu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8680" y="2828880"/>
            <a:ext cx="79153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Laplace- Cond. Mix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280" y="1606680"/>
            <a:ext cx="907092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664240"/>
            <a:ext cx="7213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, valor inicial puntos  interiores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valor inicial para y = 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 0, interpolación line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86400" y="4251240"/>
            <a:ext cx="3875040" cy="3063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8372520" cy="327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998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Poi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76400" y="2743200"/>
            <a:ext cx="829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Helmhol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52400" y="2971800"/>
            <a:ext cx="8620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271160"/>
            <a:ext cx="907092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xactos (Ejemplo: Gau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elve el sistema en forma “exacta”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l usar  punto flotante siempre hay err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Hay métodos (y software) especiales para manejar matrices sparse de manera eficiente. A pesar de esto requieren harto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ite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 menos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Guardan solo valores distintos de cero de l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de una solución inicial del sistema para comen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Criterio de detención es complicado de manejar para asegurar precisión en la solución aproximanda obte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capítulo 3, Mathews-Fink, apuntes MC Riva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resolver sistemas line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Gauss (exa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sobrerelajación sucesiva (aplicado a la ecuación de La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Gaus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matriz ampliada de AX=B es la sigui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 se resuelve usando operaciones elementales sobre sus fila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(las variabl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sirven para marcar el sitio de los coeficientes y pueden ser omitidas hasta el final de los cálcul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76480" y="2743200"/>
            <a:ext cx="47815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2520" y="1359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lementales con las filas, pivotes y multipl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24040" y="2019240"/>
            <a:ext cx="69627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613320" cy="1731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ampli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prim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segund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480060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67200" y="4572000"/>
            <a:ext cx="4933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510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terc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ado: sistema triangular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suelve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45744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5715000"/>
                <a:ext cx="1828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computacional del método de Gau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73320"/>
            <a:ext cx="907092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una matriz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x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(N³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te es el orden del número de operaciones divisiones, multiplicaciones y restas que realiza el algorit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contarla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problemas trae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lento para grillas no muy grandes y usa harto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un problema de Dirichlet requiere la resolución de un sistema de (n-2)(m-2) ec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a grilla de R es de 10x10 cuadrados, cuántas ecuaciones e incógnitas son? Si R es de 100x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qué orden es el número de operaciones que realiza el algoritmo de Gau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o se demora sobre un computador que tiene 2GHz (suponiendo que tiene la memoria suficiente)?  2GHz significa 2*10⁹ tics por segundo. Supongamos que 1 operación de punto flotante necesita 4 tics =&gt; 500 megaflops por segundo (operaciones de punto flot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/>
  <dcterms:modified xsi:type="dcterms:W3CDTF">2012-03-22T14:07:58Z</dcterms:modified>
  <cp:revision>65</cp:revision>
  <dc:subject/>
  <dc:title/>
</cp:coreProperties>
</file>