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AB4-318E-43BD-867D-FD2B9767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CBD-0E1A-49C1-8FC8-CEE4D8B2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AA8-4228-4FE2-805D-21F145E5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2AD-D44D-43FF-BD3E-87E5DEF7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03AF-53D8-4037-8D5F-49CD6E4B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70E1-A279-4075-992B-AD405B23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750E-D2DC-417D-BA13-E3403B73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2E4E-03FC-495A-898F-0D3A889C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B295-DB7D-4360-8135-8BCA570C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E27E-3BDB-4E6E-8BB7-27500D8D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09A6-C6DD-421B-95CF-96214165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B50-B49D-43EA-9D2A-6EECDBB1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AC08-46C9-496A-A758-C1934E76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5504-BA24-42D6-8EA5-F839DCC0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3089-F7CD-4EEC-AF76-1DC3AE86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7742-90CD-4F19-AE60-1E5B3E0D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629C-03B8-4439-9615-929D3D4A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46475-9C0A-4978-911E-76A12F44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7FEF-1E1F-4E16-8C0F-1CD4B688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D4E1-689C-4777-952C-EE3C4895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6D87-4A64-438D-B3B2-B17B6DE5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0479-D232-4EBA-9F94-8CBF2780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963-CA5F-4F1E-B5C6-FC35047F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3773-A4A2-42FF-8412-A39402BB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2328-31B8-4CD8-B1A3-5AA9E57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7887-13B5-4D1F-953D-FE20450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0EAB-30CD-418B-BACE-76884FA7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BC96-3E0F-45C8-8371-EF34DE5F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AF0E-7A60-46CD-9896-A10D5398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BAEB-DA60-4785-8439-EF4B0CAE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369-92FA-4F9B-81D2-6343136C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AF9-9B65-4299-A5EC-4F3FC0EE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379-2A1E-490D-8A0C-58E2A64B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53D-DC6F-47FD-9BA0-482BDA1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938-AF6F-42CE-9DB6-0183FAFC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C4B-7E33-449A-92D7-8572E7B6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2750E-0214-42C9-8069-7A253C9A5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D6C74-E381-40BE-8AC8-4FFB8F7AB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B41CB-0AD4-415F-84DC-21484ED91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ón: (2,4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s ecuaciones se pueden escribir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sugiere es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695920" y="1523880"/>
            <a:ext cx="253368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657600" y="4086360"/>
            <a:ext cx="320040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842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giere un método iterativ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necesitamos? Valores iniciales                         para cal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ncemos c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ce converger a la solución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54720" y="3409920"/>
                <a:ext cx="1646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74320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286000" y="3867120"/>
                <a:ext cx="1631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862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400800" y="54864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14800" y="2465280"/>
            <a:ext cx="5715000" cy="4849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8600" y="1341360"/>
            <a:ext cx="93121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e proceso se conoce como: Método de iteración de Jacob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 sirve para resolver todos los  sistemas line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n el ejemplo: 19 itera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ismo sistema de ecuaciones reordena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escribimos estas ecuaciones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971800" y="5038560"/>
            <a:ext cx="297180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í, el método iterativo de Jacobi qued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partimos con el mismo punto in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punto (1.5,3.375, 5) está más alejado de la solución que el punto inicial de la s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430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36576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este ejemplo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método diverg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47880" y="2523960"/>
            <a:ext cx="473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demos algunas veces acelerar la convergencia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asado en el método de Jacobi, la idea es que cada vez que tenemos un nuevo valor, usamos ese para  obtener el valor de la siguiente ec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 aplicamos al ejemplo anter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nuevo punto está más cerca de la solución que el punto obtenido con Jaco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57600" y="3743280"/>
            <a:ext cx="2619360" cy="1514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6191280"/>
            <a:ext cx="2409840" cy="66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133800" y="6172200"/>
            <a:ext cx="3038400" cy="58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400800" y="6172200"/>
            <a:ext cx="331488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 se necesitaron 10 itera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19400" y="2847960"/>
            <a:ext cx="5324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saber cuando converge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ción: Se dice que una matriz A de NxN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iagonal estrictamente dominan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orema (Método iterativo de Jacobi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gamos que A es una matriz diagonal estrictamente dominante. Entonces el sistema de ecuaciones lineales AX = B tiene solución única X=P. Además, el proceso iterativo de Jacobi produce una sucesión de vectores que converge a P cualquiera sea el vector de part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: Puede encontrarse en textos análisis numérico avan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ta: Esta es una condición suficiente pero no necesari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38600" y="2743200"/>
                <a:ext cx="3657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072200" y="27432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6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se deduce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emos la ecuación de diferencias de La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supongamos que conocemos los valores de u(x,y) en el conto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14600"/>
                <a:ext cx="4381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790640" y="4187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828800" y="4800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548640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74800" y="60166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327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ción numérica de EDPs requiere resolver sistemas de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ces pueden ser grandes y sparse (5 o 6 elementos distintos de cero por f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métodos exis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cuación escrita de manera adecuada para iterar 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información adicional necesitam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86200" y="2324160"/>
                <a:ext cx="18288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24680" y="547056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14600" y="3657600"/>
                <a:ext cx="45482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00200" y="5089680"/>
                <a:ext cx="3657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u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er de valores iniciales en los puntos interiores de la malla (gri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r por ejemplo la constante K definida como la media de los 2n + 2m -4 valores  de conto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que consiste cada iteración?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acer un barrido de todos los puntos interiores de la malla con la fórmula recursiva hasta que          se “reduzca” a cero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    |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, siendo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una tolerancia prefija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e puede aumentar la velocidad de la convergencia a cer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i: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usando método de sobrerelajación sucesiva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84668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2960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914400" y="2486160"/>
            <a:ext cx="84200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Laplace- cond. Dirichl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919840"/>
            <a:ext cx="729756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 y valor inicial puntos  interiores =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76240" y="1143000"/>
            <a:ext cx="8267760" cy="3086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606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iterativos 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 Condiciones de Neu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8680" y="2828880"/>
            <a:ext cx="79153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Laplace- Cond. Mixt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280" y="1606680"/>
            <a:ext cx="907092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664240"/>
            <a:ext cx="72136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, valor inicial puntos  interiores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valor inicial para y = 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 0, interpolación line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86400" y="4251240"/>
            <a:ext cx="3875040" cy="3063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8372520" cy="3276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998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Poi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76400" y="2743200"/>
            <a:ext cx="8296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Helmhol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52400" y="2971800"/>
            <a:ext cx="8620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271160"/>
            <a:ext cx="9070920" cy="5224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exactos (Ejemplo: Gaus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elve el sistema en forma “exacta”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al usar  punto flotante siempre hay err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Hay métodos (y software) especiales para manejar matrices sparse de manera eficiente. A pesar de esto requieren harto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ite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 menos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Guardan solo valores distintos de cero de l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de una solución inicial del sistema para comen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Criterio de detención es complicado de manejar para asegurar precisión en la solución aproximanda obte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(capítulo 3, Mathews-Fink, apuntes MC Riva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para resolver sistemas line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Gauss (exa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Jaco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sobrerelajación sucesiva (aplicado a la ecuación de La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Gaus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a matriz ampliada de AX=B es la sigui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 se resuelve usando operaciones elementales sobre sus fila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(las variabl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sirven para marcar el sitio de los coeficientes y pueden ser omitidas hasta el final de los cálcul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76480" y="2743200"/>
            <a:ext cx="478152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42520" y="1359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elementales con las filas, pivotes y multipl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724040" y="2019240"/>
            <a:ext cx="69627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613320" cy="1731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ampli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prim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segund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480060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67200" y="4572000"/>
            <a:ext cx="4933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510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terc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ado: sistema triangular sup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suelve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345744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5715000"/>
                <a:ext cx="1828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computacional del método de Gau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73320"/>
            <a:ext cx="907092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una matriz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x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(N³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te es el orden del número de operaciones divisiones, multiplicaciones y restas que realiza el algorit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contarla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problemas trae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lento para grillas no muy grandes y usa harto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: un problema de Dirichlet requiere la resolución de un sistema de (n-2)(m-2) ec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a grilla de R es de 10x10 cuadrados, cuántas ecuaciones e incógnitas son? Si R es de 100x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qué orden es el número de operaciones que realiza el algoritmo de Gau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o se demora sobre un computador que tiene 2GHz (suponiendo que tiene la memoria suficiente)?  2GHz significa 2*10⁹ tics por segundo. Supongamos que 1 operación de punto flotante necesita 4 tics =&gt; 500 megaflops por segundo (operaciones de punto flota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/>
  <dcterms:modified xsi:type="dcterms:W3CDTF">2012-03-22T14:07:58Z</dcterms:modified>
  <cp:revision>65</cp:revision>
  <dc:subject/>
  <dc:title/>
</cp:coreProperties>
</file>