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BA2-153B-4FE5-BEE3-2508BB10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3C1-C18A-467E-A2E9-1793F6AF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9B5-93F0-4770-82CA-06F660D2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55D-1836-468A-A7FC-075ACB7B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6C6F-B199-47C3-A1DF-D721212E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B6FD-1C57-46F1-9AC8-12FA7F68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570A-892D-4798-93ED-52402AFB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2CC7-EF38-48C1-AD09-9112B2E6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E849-CB14-40D8-97EC-42ADA616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DD33-557B-44FF-A3EF-CC8CCC80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B49F-3590-476F-BE93-887C03BC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0ED-FA07-4586-99C5-BFF081EE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ECEF-7AEC-4DA0-B64D-0624D542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2A60-9C07-41B2-808D-A4610AA3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A94B-2912-43EE-939C-554B7022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F65A-8FFA-4134-AC32-BDF55E3A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87BE-BB1A-49FC-B9D3-4E81D30F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57497-B773-4936-928A-F86529E7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8D58A-5A71-41BE-A36F-44C2D185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BEBC7-F499-4637-A225-1A285978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4EF95-E071-4BC9-84AD-81ADC7F0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B9A0D-9F1E-4EC5-B7E7-AC3BE7B8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1E8-A458-4291-ACBE-0BD3C469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A9DF3-8DAB-4232-B53E-B9A751E9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18B47-DE95-4135-914C-0E222BA4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83355-0C37-4BF9-B057-91CA24C3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816EC-E85E-425A-A51B-9D5430E2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EEE3A-5A12-4E8E-A34A-4D4D0163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0F46-8C26-45C5-B367-763F614D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F8DDC-E81C-44D8-9A75-B7530613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87DF-9064-4101-A8DB-5604DF0B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968-37E1-4570-A83A-1E09C72C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DFF-B8FA-4CB9-9C51-219999B5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F0E-12FC-42F5-9EBD-3127D3B2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658-27B9-41FB-A43B-C8EE2778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CBC-1BB4-461C-A503-E774ADDB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0077D-D3E3-4CED-9B32-E123BEBB7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ED4C4-8964-4573-833E-EC64DE1A5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F4721-807B-44A1-8AC0-DADA8E8D1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77800" y="2562120"/>
            <a:ext cx="88916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para ecuaciones diferenciales parciales elíp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rte I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103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ón: (2,4,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s ecuaciones se pueden escribir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Qué sugiere es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695920" y="1523880"/>
            <a:ext cx="2533680" cy="1447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657600" y="4086360"/>
            <a:ext cx="320040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84250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giere un método iterativ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Qué necesitamos? Valores iniciales                         para cal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encemos c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ce converger a la solución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354720" y="3409920"/>
                <a:ext cx="1646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743200" cy="190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286000" y="3867120"/>
                <a:ext cx="1631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886200" y="4800600"/>
                <a:ext cx="3691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400800" y="548640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étodos iterativos: Jacob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114800" y="2465280"/>
            <a:ext cx="5715000" cy="4849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28600" y="1341360"/>
            <a:ext cx="93121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e proceso se conoce como: Método de iteración de Jacob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No sirve para resolver todos los  sistemas line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n el ejemplo: 19 iteracio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 mismo sistema de ecuaciones reordena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escribimos estas ecuaciones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971800" y="5038560"/>
            <a:ext cx="297180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í, el método iterativo de Jacobi qued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partimos con el mismo punto in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punto (1.5,3.375, 5) está más alejado de la solución que el punto inicial de la s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2971800" cy="182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43000" y="4800600"/>
                <a:ext cx="3691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,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29400" y="36576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Jacobi: Ejemplo de div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este ejemplo,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l método diverg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747880" y="2523960"/>
            <a:ext cx="4734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de Gauss-Sei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demos algunas veces acelerar la convergencia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asado en el método de Jacobi, la idea es que cada vez que tenemos un nuevo valor, usamos ese para  obtener el valor de la siguiente ecu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 aplicamos al ejemplo anter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l nuevo punto está más cerca de la solución que el punto obtenido con Jaco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657600" y="3743280"/>
            <a:ext cx="2619360" cy="1514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57200" y="6191280"/>
            <a:ext cx="2409840" cy="666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3133800" y="6172200"/>
            <a:ext cx="3038400" cy="581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400800" y="6172200"/>
            <a:ext cx="331488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 iterativo Gauss-Sei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Y se necesitaron 10 iteracion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19400" y="2847960"/>
            <a:ext cx="53244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saber cuando convergen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ción: Se dice que una matriz A de NxN es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iagonal estrictamente dominan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nd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orema (Método iterativo de Jacobi)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ongamos que A es una matriz diagonal estrictamente dominante. Entonces el sistema de ecuaciones lineales AX = B tiene solución única X=P. Además, el proceso iterativo de Jacobi produce una sucesión de vectores que converge a P cualquiera sea el vector de part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: Puede encontrarse en textos análisis numérico avan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ta: Esta es una condición suficiente pero no necesari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838600" y="2743200"/>
                <a:ext cx="3657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j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072200" y="2743200"/>
                <a:ext cx="7164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6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sobrerelajación suces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320" y="1371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ómo se deduce?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emos la ecuación de diferencias de La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supongamos que conocemos los valores de u(x,y) en el contorn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14600"/>
                <a:ext cx="4381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790640" y="4187880"/>
                <a:ext cx="666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zquierd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828800" y="4800600"/>
                <a:ext cx="5367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aj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28800" y="5486400"/>
                <a:ext cx="6610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,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rech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774800" y="6016680"/>
                <a:ext cx="5540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rib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numéricos para sistemas line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9920" y="1327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ción numérica de EDPs requiere resolver sistemas de ecuaciones lin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ces pueden ser grandes y sparse (5 o 6 elementos distintos de cero por fi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métodos exis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sobrerelajación sucesi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cuación escrita de manera adecuada para iterar 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información adicional necesitam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86200" y="2324160"/>
                <a:ext cx="18288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924680" y="547056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14600" y="3657600"/>
                <a:ext cx="45482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00200" y="5089680"/>
                <a:ext cx="36576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sobrerelajación sucesu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ner de valores iniciales en los puntos interiores de la malla (gril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Usar por ejemplo la constante K definida como la media de los 2n + 2m -4 valores  de conto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que consiste cada iteración?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acer un barrido de todos los puntos interiores de la malla con la fórmula recursiva hasta que          se “reduzca” a cero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    |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Ԑ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, siendo </a:t>
            </a: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Ԑ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una tolerancia prefija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Se puede aumentar la velocidad de la convergencia a cer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Si: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usando método de sobrerelajación sucesiva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846680" y="4168800"/>
                <a:ext cx="411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229600" y="4168800"/>
                <a:ext cx="411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sobrerelajación sucesi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e relajación suces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914400" y="2486160"/>
            <a:ext cx="842004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Laplace- cond. Dirichl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0) = 20       0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4) = 180     0 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0,y) = 80       0 &lt; y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4,y) =0           0 &lt;y &lt; 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5919840"/>
            <a:ext cx="729756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vidimos el cuadrado en 64 cuadr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amos h = 0.5 y valor inicial puntos  interiores = 7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 i=2,...,8 y j = 2,...,8.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ω = 1.44646, n=9, m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ado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76240" y="1143000"/>
            <a:ext cx="8267760" cy="3086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486400" y="43434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14400" y="4800600"/>
            <a:ext cx="44989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btenido despues de 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o de promedio en esqui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112760" y="5605560"/>
                <a:ext cx="3667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606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iterativos .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e relajación sucesiva: Condiciones de Neu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28680" y="2828880"/>
            <a:ext cx="791532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 Laplace- Cond. Mixt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0280" y="1606680"/>
            <a:ext cx="9070920" cy="36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x,4) = 180       0 &lt; x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(x,0) = 0          0  &lt; x &lt; 4  (Neuman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0,y) = 80         0 &lt; y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u(4,y) =0           0 &lt;y &lt; 4  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5664240"/>
            <a:ext cx="72136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vidimos el cuadrado en 64 cuadrad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amos h = 0.5, valor inicial puntos  interiores 7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a i=2,...,8 y j = 2,...,8.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ω = 1.44646, n=9, m=9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valor inicial para y = 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 0, interpolación line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486400" y="4251240"/>
            <a:ext cx="3875040" cy="3063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8372520" cy="3276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14400" y="4800600"/>
            <a:ext cx="44989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btenido despues de 2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o de promedio en esquin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112760" y="5605560"/>
                <a:ext cx="36673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998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 más gener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iterativo aplicado a ecuación de Poi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076400" y="2743200"/>
            <a:ext cx="8296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 más gener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iterativo aplicado a ecuación de Helmhol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52400" y="2971800"/>
            <a:ext cx="8620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numéricos para sistemas linea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520" y="1271160"/>
            <a:ext cx="9070920" cy="5224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 exactos (Ejemplo: Gaus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elve el sistema en forma “exacta”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al usar  punto flotante siempre hay err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Hay métodos (y software) especiales para manejar matrices sparse de manera eficiente. A pesar de esto requieren harto espacio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 ite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Requieren  menos espacio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Guardan solo valores distintos de cero de la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Requieren de una solución inicial del sistema para comen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65000" indent="-42588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314004"/>
                </a:solidFill>
                <a:latin typeface="Arial"/>
              </a:rPr>
              <a:t>Criterio de detención es complicado de manejar para asegurar precisión en la solución aproximanda obten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(capítulo 3, Mathews-Fink, apuntes MC Rivar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s para resolver sistemas line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de Gauss (exac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iterativo de Jaco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iterativo de Gauss-Se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todo de sobrerelajación sucesiva (aplicado a la ecuación de Lapl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de Gaus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a matriz ampliada de AX=B es la siguien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 se resuelve usando operaciones elementales sobre sus filas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(las variabl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sirven para marcar el sitio de los coeficientes y pueden ser omitidas hasta el final de los cálcul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76480" y="2743200"/>
            <a:ext cx="4781520" cy="13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42520" y="1359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ciones elementales con las filas, pivotes y multipl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600200" y="4572000"/>
            <a:ext cx="73152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724040" y="2019240"/>
            <a:ext cx="696276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613320" cy="17319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riz ampli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657600" y="3886200"/>
            <a:ext cx="3657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primer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segund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4800600" cy="1600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67200" y="4572000"/>
            <a:ext cx="4933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s directos: método de Gau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6510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tercera columna elimin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ado: sistema triangular sup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resuelve de abajo hacia arri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971800" y="2514600"/>
            <a:ext cx="345744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14600" y="5715000"/>
                <a:ext cx="1828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o computacional del método de Gau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73320"/>
            <a:ext cx="907092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una matriz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x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s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O(N³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te es el orden del número de operaciones divisiones, multiplicaciones y restas que realiza el algorit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uesto: contarla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é problemas trae est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lento para grillas no muy grandes y usa harto espa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: un problema de Dirichlet requiere la resolución de un sistema de (n-2)(m-2) ecu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a grilla de R es de 10x10 cuadrados, cuántas ecuaciones e incógnitas son? Si R es de 100x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qué orden es el número de operaciones que realiza el algoritmo de Gau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to se demora sobre un computador que tiene 2GHz (suponiendo que tiene la memoria suficiente)?  2GHz significa 2*10⁹ tics por segundo. Supongamos que 1 operación de punto flotante necesita 4 tics =&gt; 500 megaflops por segundo (operaciones de punto flotan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49Z</dcterms:created>
  <dc:creator/>
  <dc:description/>
  <dc:language>en-US</dc:language>
  <cp:lastModifiedBy/>
  <dcterms:modified xsi:type="dcterms:W3CDTF">2012-03-22T14:07:58Z</dcterms:modified>
  <cp:revision>65</cp:revision>
  <dc:subject/>
  <dc:title/>
</cp:coreProperties>
</file>