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8F04-444F-4DAF-B97D-D06A733F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DA44-628D-4548-BA4F-D5CFE0B9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7D70-5950-49CF-8DEC-056E08DC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F5AA-A919-4C9D-8371-8462D846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7926-F61C-492A-9F1D-BE3BC2C3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9FBB-9C26-4D6B-8DC1-029A22C3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8623-29A1-4684-A08A-62796C23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22AE-214F-4720-AC3B-24EA4DDF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AF25-EC7F-4C26-8FD5-68857AB3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3891-D73E-4624-B7FF-8C9259FE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F7E5-D648-4BC6-994B-988BB3BC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32CE-0446-4B58-909F-9423E0FD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D94C-024D-4B65-B282-2FBD7FAA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7028-A19C-4CCB-AA57-F7830180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33C4-6F9B-4873-B7D5-07B9187F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C0C8-C508-439F-9BDF-051DA14F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23AA-0CD2-44F3-8B36-8F1AD647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9E8E5-B8DB-49F3-BA36-CCAD3AF9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8813D-3DE4-4555-976B-CCD737EF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D48A7-5117-43A1-BA77-228D7C4E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451EE-D791-485C-A47E-09AA956B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16987-66CB-4F21-B2A4-23207659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09C9-53D4-4D8F-AC05-F9BA8F07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7C588-E9E2-4FAE-AE10-FEFF58B0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21126-DE34-4F1F-93CB-159D417A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BFBA4-B33C-4062-A602-2807CD60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EE7D0-958E-4D06-ACE5-15B5E502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3329C-410B-4EDB-A80A-C64F3A30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2C435-1948-476C-A3D0-AD68B17E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D8869-A0BE-4C16-9711-5A02566A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3241-2B03-45AA-9DFD-41BDEA09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E25E-CCEB-4443-A046-550B3534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B6CE-2135-4FCF-99FB-B1FCD43E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E0B-E5BE-48C2-BFF5-BA2BA44C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4C6B-BDF8-4B72-A6E2-D3AED6C4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41A0-6751-473E-9A7B-E3EA3E5E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643D4-FACE-4814-B9F3-8DE3476F4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65E65-372F-46C4-8D21-A9220D2DA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706DD-8C40-45A3-BC50-D2EA9E102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34000" y="3630600"/>
                <a:ext cx="7128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719600" y="3576600"/>
                <a:ext cx="7164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77800" y="2562120"/>
            <a:ext cx="889164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 de diferencias finitas para ecuaciones diferenciales parciales elíp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arte 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09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r aproximaciones de deri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mite del cuociente incremen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ximación buena solo para h peque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Detalles en  sección 6.1, Mathews-Fin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743200" y="3263760"/>
                <a:ext cx="2949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r>
                          <m:t xml:space="preserve"> </m:t>
                        </m:r>
                      </m:e>
                      <m:lim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714760" y="4800600"/>
                <a:ext cx="3686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  (..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órmula de diferencias centra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eore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órmula centrada de orden O(h²). Supongamos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que                                     ento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más, existe un número                           tal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06560" y="2917800"/>
                <a:ext cx="12794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C³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657600" y="2908440"/>
                <a:ext cx="22860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h,x,x+h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43200" y="3657600"/>
                <a:ext cx="28954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800600" y="4489560"/>
                <a:ext cx="18288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=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14600" y="5094360"/>
                <a:ext cx="42512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u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f,h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514600" y="5943600"/>
                <a:ext cx="3200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u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f,h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²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 (..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9920" y="1272960"/>
            <a:ext cx="9070920" cy="5338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Demostració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mos fórmula de Taylor de orden 2 de f alrededor de x par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x-h) y f(x+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amos y obten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o                   es continua, usamos el teorema del valor interme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057400" y="2514600"/>
                <a:ext cx="61279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+h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h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³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089080" y="3521160"/>
                <a:ext cx="61405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h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³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052720" y="4892760"/>
                <a:ext cx="66340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+h</m:t>
                        </m:r>
                      </m:e>
                    </m:d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f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h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</m:e>
                                </m:d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f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</m:e>
                                </m:d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³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86000" y="5715000"/>
                <a:ext cx="1096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017880" y="6446880"/>
                <a:ext cx="3160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=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 (..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29920" y="1371240"/>
            <a:ext cx="9550440" cy="81342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ordenando términos obtenem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rimer término es la fórmula centrada y el segundo el error de truncami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tinuación usaremos la siguiente not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371600" y="1955880"/>
                <a:ext cx="4900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828800" y="3886200"/>
                <a:ext cx="44989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200400" y="5943600"/>
                <a:ext cx="21034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240600" y="5818320"/>
            <a:ext cx="2903400" cy="8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órmulas de derivación númeric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órmulas de diferencias centradas O(h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 usa para discretizar el Laplac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286000" y="2322360"/>
                <a:ext cx="1808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286000" y="3200400"/>
                <a:ext cx="2492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286000" y="4151160"/>
                <a:ext cx="30369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286000" y="5257800"/>
                <a:ext cx="3838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 f''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6560" y="1600200"/>
            <a:ext cx="8677440" cy="4149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828800" y="6400800"/>
            <a:ext cx="4414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cción 6.2- Libro de Mathews-F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 f''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6400800"/>
            <a:ext cx="4414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cción 6.2- Libro de Mathews-F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8077320" cy="31528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143000" y="5029200"/>
            <a:ext cx="5568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rimer término corresponde al valor de f'' busc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743200" y="5522760"/>
                <a:ext cx="2492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uación de diferencias para el Laplacian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320" y="1411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emplaz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tenemos la fórmula para la aproximación de la ec. de Lapla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14400" y="1938240"/>
                <a:ext cx="32004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478480" y="1938240"/>
                <a:ext cx="3208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4572000" y="2084400"/>
            <a:ext cx="333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14400" y="4343400"/>
                <a:ext cx="61754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operador de diferenci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4724280" cy="3114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181560" y="1828800"/>
            <a:ext cx="3419640" cy="2676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85800" y="5257800"/>
            <a:ext cx="4735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ización del rectáng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4975200"/>
            <a:ext cx="34606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quema de ecu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diferencias para 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placia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 de diferencias finitas (2D)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os a segui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etizar región con grilla regular de paso h en direcciones x e 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cribir ecuaciones de diferencias para cada punto de la gri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obtiene un sistema lineal de ecuaciones  A</a:t>
            </a:r>
            <a:r>
              <a:rPr b="0" lang="en-US" sz="2600" spc="-1" strike="noStrike">
                <a:solidFill>
                  <a:srgbClr val="000000"/>
                </a:solidFill>
                <a:latin typeface="DejaVu Sans"/>
                <a:ea typeface="DejaVu Sans"/>
              </a:rPr>
              <a:t>ũ=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El sistema se resuelve numéricamen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8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Método directo, por ej: Gau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8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Método itera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29920" y="1828440"/>
            <a:ext cx="907092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uaciones en derivadas par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uaciones en derivadas parciales elíp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uación de La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oximación de operadores diferen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órmula de diferencias centradas para f' u f'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ción de sistema de ecu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lace con condiciones de dirich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lace con condiciones de Neumann (mix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ción del sistema de ecu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ajas/Limitaciones del método de diferencias fini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adapta bien a geometrías rectangulares o que son uniones de rectángu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 intuitivo, fácil de explicar y ente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permite modelar bien geometrías complejas ni condiciones de borde sobre bordes cur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r otros más generales pero a la vez más complej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 métodos de elementos finitos o volúmenes fini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612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l sistema line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ciones de borde Dirichle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ongamos que tenemos un problema de Dirichlet, es decir conocemos los valores en la frontera de u(x,y) en la frontera de la región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828800" y="3071880"/>
                <a:ext cx="6667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zquierd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828800" y="3657600"/>
                <a:ext cx="5367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ajo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828800" y="4645080"/>
                <a:ext cx="5540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m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rrib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828800" y="4187880"/>
                <a:ext cx="66103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,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rech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con grilla 5x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2560" y="12207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iquetamos los puntos interiores como se muestra a continu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6591240" cy="2743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253120" y="1600200"/>
            <a:ext cx="3205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grilla 5x5 (...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solución aproximada de la ecuación de Laplace en el rectángulo                                   donde u(x,y) denota la temperatura en un punto (x,y), los valores de fronter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x,0) = 20       0 &lt; x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x,4) = 180     0  &lt; x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0,y) = 80       0 &lt; y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4,y) =0           0 &lt;y &lt; 4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400800" y="2185920"/>
                <a:ext cx="36576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: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4,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con grilla 5x5 (...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3429000" cy="2971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990960" y="1828800"/>
            <a:ext cx="5838840" cy="25146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1828800" y="5486400"/>
            <a:ext cx="5533920" cy="1314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336680" y="5011560"/>
            <a:ext cx="4871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 ejemplo, con Método de Gauss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sponde a cuando se especifican valores de la derivada direccional de u(x,y) en la dirección perpendicular al contorno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 supongamos 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el contexto de los problemas de temperatura, significa contorno aislado, no hay flujo de calor a través de é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                                                   , la condición de contorno de la derivada para x = a 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715000" y="2889360"/>
                <a:ext cx="1828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86000" y="4929120"/>
                <a:ext cx="36860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: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a,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03480" y="6054840"/>
                <a:ext cx="356868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 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ecuación de diferencias de Laplace p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de el valor                        es desconocido pues está fuera del dominio R. Sin embargo, podemos usar la fórmula de la derivación numéric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 obtenemos la fórmula que relaciona              con sus valores adyacent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828800" y="2286000"/>
                <a:ext cx="5303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+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7589880" y="1663560"/>
                <a:ext cx="1279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784680" y="2743200"/>
                <a:ext cx="787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+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143000" y="4114800"/>
                <a:ext cx="3657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629400" y="4270320"/>
                <a:ext cx="21034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+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858000" y="5029200"/>
                <a:ext cx="549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600200" y="6172200"/>
                <a:ext cx="4537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 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 condiciones de Neumann para los puntos de los demás lados se obtiene de manera similar. Los cuatro casos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143000" y="3313080"/>
            <a:ext cx="769932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 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971720" y="1828800"/>
            <a:ext cx="62578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 con condiciones de borde mix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9070920" cy="3651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solución aproximada de la ecuación de Laplace en el rectángulo                                   donde u(x,y) denota la temperatura en un punto (x,y), los valores de fronter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x,4) = 180       0 &lt; x &lt; 4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,0) = 0          0  &lt; x &lt; 4  (Neuman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0,y) = 80         0 &lt; y &lt; 4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4,y) =0           0 &lt;y &lt; 4  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172200" y="2286000"/>
                <a:ext cx="36576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: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4,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uaciones en derivadas par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ucran una función desconocida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dos o más variables independ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álida sobre un dominio geométrico =&gt; discret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ciones de borde e in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94476b"/>
                </a:solidFill>
                <a:latin typeface="Arial"/>
              </a:rPr>
              <a:t>(Sección 10.3, capítulo 10, Mathews-Fink,  apuntes de MC. Riva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734000" y="3630600"/>
                <a:ext cx="7128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719600" y="3576600"/>
                <a:ext cx="7164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illa de 5x5 (12 incógnitas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719440" y="1862280"/>
            <a:ext cx="479088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illa de 5x5 (12 incógnitas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8058240" cy="3733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3286080" y="5715000"/>
            <a:ext cx="5857920" cy="13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de diferencias finit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as que se modelan usando la ecuación de Lapl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iciones de borde Dirichlet, Neumann y mix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ción del sistema de ecu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idado con la numeración de los puntos para lograr un sistema pentadiagonal  (solución más eficien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ificación de EDP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ásica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828800" y="1646280"/>
                <a:ext cx="46641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B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C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,y,u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888840" y="2627280"/>
            <a:ext cx="932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600200" y="2689200"/>
                <a:ext cx="22669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y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4151160" y="2657520"/>
            <a:ext cx="54374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con las condiciones de borde para u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inio rectang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514600" y="3448080"/>
                <a:ext cx="36576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,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,y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,</m:t>
                                </m:r>
                              </m:sub>
                            </m:sSub>
                            <m:r>
                              <m:t xml:space="preserve">y</m:t>
                            </m:r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968400" y="4170240"/>
            <a:ext cx="6616800" cy="19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s EDPs pueden ser clasificadas en tres grup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DP elípt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i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DP paraból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DP hiperból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: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657600" y="4800600"/>
                <a:ext cx="137160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AC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657600" y="5257800"/>
                <a:ext cx="1371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A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657600" y="5715000"/>
                <a:ext cx="1371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AC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Ps Elíptic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as de estado estacionario (no son función del tiemp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cuación de Laplace                         en 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cuación de Poisson                              en  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Condiciones de bo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Dirichlet                        en    Ƭ</a:t>
            </a:r>
            <a:r>
              <a:rPr b="0" lang="en-US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Neumann                        en   Ƭ</a:t>
            </a:r>
            <a:r>
              <a:rPr b="0" lang="en-US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41760" y="3200400"/>
                <a:ext cx="2087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54360" y="2473200"/>
                <a:ext cx="1505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611520" y="4681440"/>
                <a:ext cx="731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=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749760" y="5157720"/>
                <a:ext cx="8222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2971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094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Ecuación de Lapla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855960" y="1619280"/>
                <a:ext cx="1505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tenemos                                  con            en   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deseamos encontrar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resolverla?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éric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conceptos debemos utiliz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040520" y="1828800"/>
                <a:ext cx="731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=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629400" y="2446200"/>
            <a:ext cx="309708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: Ecuación de Laplac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92901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ución aproximad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765828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la resolvemos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aremos diferencias finit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écnica  numé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cretizar el domi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roximar los operadores diferenciales por operadores de difer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aplacia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600200" y="3995640"/>
                <a:ext cx="32004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630440" y="6068880"/>
            <a:ext cx="7056360" cy="789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715000" y="3657600"/>
            <a:ext cx="38862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7:01:49Z</dcterms:created>
  <dc:creator/>
  <dc:description/>
  <dc:language>en-US</dc:language>
  <cp:lastModifiedBy>Nancy Hitschfeld</cp:lastModifiedBy>
  <dcterms:modified xsi:type="dcterms:W3CDTF">2012-03-20T00:49:17Z</dcterms:modified>
  <cp:revision>44</cp:revision>
  <dc:subject/>
  <dc:title/>
</cp:coreProperties>
</file>