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FC8-B1F8-4FFC-B3BA-F2801EA4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1A0-6FB0-4CB2-B1C6-5109EABF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9C0-DF6B-4D56-870A-2B119D7C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745-40BF-42E2-A344-61DBF3AF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71B0-B347-45AC-BFF2-446746DF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1213-28F0-4688-B2AF-4D973948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0D8B-E764-48BF-9DFE-C11D9A72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5F6C-43AC-42E8-9814-8BB381E6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3062-46DD-46ED-93D6-13F55CAF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7D00-5E69-496B-9C1B-6C628ABD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6B92-2F86-4DB1-AE4C-B244BE2A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22D-0AB4-40D2-B5D7-8C09F26A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877E-60AB-4A15-8E90-2C5B2F3E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A26C-1D91-492E-9B5F-FF762B69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1B07-543D-45FA-B629-8B246334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98A8-23F5-4D26-9D09-B5229371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DFAE-A898-4232-92C3-0E5FB478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A3710-EAF6-4718-AC0B-9E3445A5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DFE52-7E92-45DE-8E0E-436A554B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389C6-C533-419A-B39C-F4A8407C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74730-D489-45B0-BAA3-4A6C2726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DA9F0-1AE0-42A0-ABAE-55476497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DF8-59AA-4650-9266-712EBB6F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24744-5E31-432A-8B8C-403DA2C3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73236-2A92-4CC3-B877-94DF1AF9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84157-1443-4231-BF86-B7B72994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CEA2D-E3E7-4597-B533-E317A7CF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52C92-FBC5-4214-AA64-CF87BA45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E4C5-D7E4-4295-853C-43C9BDC4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4CBFF-37A4-4C9D-8560-168BBE1E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CD2-31B8-499A-AD12-FD4F430F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9F8-C66B-4675-9CAD-47F22A8E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9F61-A8E6-43C3-A2B2-84DB8F03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52F-D3E4-4E46-84FD-A83519EC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C5C-92B2-4988-950A-91542D8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8DD-CFFC-4927-BBB1-9F439145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69066-E058-44E8-8C94-0B54FEC03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7D48E-C43E-4826-85E6-6EA9CF094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613F8-60FB-44A0-8ECB-7CFD19387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77800" y="2562120"/>
            <a:ext cx="88916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para ecuaciones diferenciales parciales elíp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r aproximaciones de 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mite del cuociente incremen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imación buena solo para h peque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Detalles en  sección 6.1, Mathews-Fin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743200" y="3263760"/>
                <a:ext cx="2949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 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14760" y="4800600"/>
                <a:ext cx="3686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órmula de diferencias centr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ore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órmula centrada de orden O(h²). Supongamo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que                                     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más, existe un número                           ta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06560" y="2917800"/>
                <a:ext cx="12794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C³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2908440"/>
                <a:ext cx="2286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,x,x+h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43200" y="3657600"/>
                <a:ext cx="2895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800600" y="4489560"/>
                <a:ext cx="1828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=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094360"/>
                <a:ext cx="42512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,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514600" y="5943600"/>
                <a:ext cx="3200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,h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²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9920" y="1272960"/>
            <a:ext cx="9070920" cy="5338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mostració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mos fórmula de Taylor de orden 2 de f alrededor de x pa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x-h) y f(x+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mos y obten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o                   es continua, usamos el teorema del valor interme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057400" y="2514600"/>
                <a:ext cx="61279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+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89080" y="3521160"/>
                <a:ext cx="61405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52720" y="4892760"/>
                <a:ext cx="6634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+h</m:t>
                        </m:r>
                      </m:e>
                    </m:d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f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86000" y="5715000"/>
                <a:ext cx="1096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017880" y="6446880"/>
                <a:ext cx="3160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29920" y="1371240"/>
            <a:ext cx="9550440" cy="81342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ordenando términos obtenem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imer término es la fórmula centrada y el segundo el error de trunca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tinuación usaremos la siguiente no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371600" y="1955880"/>
                <a:ext cx="4900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828800" y="3886200"/>
                <a:ext cx="4498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00400" y="5943600"/>
                <a:ext cx="2103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240600" y="5818320"/>
            <a:ext cx="290340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órmulas de derivación núme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órmulas de diferencias centradas O(h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 usa para discretizar el Laplac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286000" y="2322360"/>
                <a:ext cx="1808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286000" y="320040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286000" y="4151160"/>
                <a:ext cx="3036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286000" y="5257800"/>
                <a:ext cx="383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 f''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6560" y="1600200"/>
            <a:ext cx="8677440" cy="4149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828800" y="6400800"/>
            <a:ext cx="4414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ción 6.2- Libro de Mathews-F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 f''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6400800"/>
            <a:ext cx="4414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ción 6.2- Libro de Mathews-F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8077320" cy="3152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143000" y="5029200"/>
            <a:ext cx="5568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imer término corresponde al valor de f'' busc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43200" y="552276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uación de diferencias para el Laplacian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mplaz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enemos la fórmula para la aproximación de la ec. de Lapla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14400" y="1938240"/>
                <a:ext cx="3200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78480" y="1938240"/>
                <a:ext cx="3208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4572000" y="2084400"/>
            <a:ext cx="333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14400" y="4343400"/>
                <a:ext cx="61754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operador de diferenci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4724280" cy="311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181560" y="1828800"/>
            <a:ext cx="3419640" cy="2676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" y="5257800"/>
            <a:ext cx="4735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ización del rectáng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4975200"/>
            <a:ext cx="34606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quema de ec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diferencias para 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placi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(2D)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os a segui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r región con grilla regular de paso h en direcciones x e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cribir ecuaciones de diferencias para cada punto de la gri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obtiene un sistema lineal de ecuaciones  A</a:t>
            </a:r>
            <a:r>
              <a:rPr b="0" lang="en-US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ũ=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El sistema se resuelve numéricam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8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Método directo, por ej: Gau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8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Método itera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9920" y="1828440"/>
            <a:ext cx="907092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ones en derivadas par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ones en derivadas parciales elíp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ón de La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oximación de operadores difer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órmula de diferencias centradas para f' u f'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ción de sistema de ecu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con condiciones de dirich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con condiciones de Neumann (mix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ción del sistema de ecu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ajas/Limitaciones del método de diferencias fini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adapta bien a geometrías rectangulares o que son uniones de rectáng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intuitivo, fácil de explicar y ent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ermite modelar bien geometrías complejas ni condiciones de borde sobre bordes cur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r otros más generales pero a la vez más complej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métodos de elementos finitos o volúmenes fini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l sistema line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ciones de borde Dirichle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ongamos que tenemos un problema de Dirichlet, es decir conocemos los valores en la frontera de u(x,y) en la frontera de la región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828800" y="3071880"/>
                <a:ext cx="666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zquierd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828800" y="3657600"/>
                <a:ext cx="5367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aj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828800" y="4645080"/>
                <a:ext cx="5540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rib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828800" y="4187880"/>
                <a:ext cx="6610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,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rech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con grilla 5x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2560" y="12207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iquetamos los puntos interiores como se muestra a continu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6591240" cy="2743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253120" y="1600200"/>
            <a:ext cx="3205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grilla 5x5 (..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0) = 20       0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4) = 180     0 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0,y) = 80       0 &lt; y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4,y) =0           0 &lt;y &lt; 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400800" y="2185920"/>
                <a:ext cx="36576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,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con grilla 5x5 (..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990960" y="1828800"/>
            <a:ext cx="5838840" cy="2514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828800" y="5486400"/>
            <a:ext cx="5533920" cy="1314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336680" y="5011560"/>
            <a:ext cx="4871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 ejemplo, con Método de Gauss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sponde a cuando se especifican valores de la derivada direccional de u(x,y) en la dirección perpendicular al contorno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supongamos 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el contexto de los problemas de temperatura, significa contorno aislado, no hay flujo de calor a través de é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                                                   , la condición de contorno de la derivada para x = a 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715000" y="2889360"/>
                <a:ext cx="1828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0" y="4929120"/>
                <a:ext cx="36860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a,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03480" y="6054840"/>
                <a:ext cx="35686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ecuación de diferencias de Laplace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de el valor                        es desconocido pues está fuera del dominio R. Sin embargo, podemos usar la fórmula de la derivación numéric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obtenemos la fórmula que relaciona              con sus valores adyacen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828800" y="2286000"/>
                <a:ext cx="530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589880" y="1663560"/>
                <a:ext cx="127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784680" y="2743200"/>
                <a:ext cx="787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143000" y="4114800"/>
                <a:ext cx="3657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4270320"/>
                <a:ext cx="21034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858000" y="5029200"/>
                <a:ext cx="54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600200" y="6172200"/>
                <a:ext cx="453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condiciones de Neumann para los puntos de los demás lados se obtiene de manera similar. Los cuatro casos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143000" y="3313080"/>
            <a:ext cx="769932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971720" y="1828800"/>
            <a:ext cx="62578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 con condiciones de borde mix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9070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4) = 180       0 &lt; x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,0) = 0          0  &lt; x &lt; 4  (Neuman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0,y) = 80         0 &lt; y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4,y) =0           0 &lt;y &lt; 4  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172200" y="2286000"/>
                <a:ext cx="36576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,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uaciones en derivadas par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ucran una función desconocida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os o más variables indepen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lida sobre un dominio geométrico =&gt; discret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de borde e in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4476b"/>
                </a:solidFill>
                <a:latin typeface="Arial"/>
              </a:rPr>
              <a:t>(Sección 10.3, capítulo 10, Mathews-Fink,  apuntes de MC. Riva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illa de 5x5 (12 incógnita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719440" y="1862280"/>
            <a:ext cx="479088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illa de 5x5 (12 incógnita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8058240" cy="3733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286080" y="5715000"/>
            <a:ext cx="585792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de diferencias finit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as que se modelan usando la ecuación de Lap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ciones de borde Dirichlet, Neumann y mix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ción del 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idado con la numeración de los puntos para lograr un sistema pentadiagonal  (solución más efici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ificación de EDP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ásica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828800" y="1646280"/>
                <a:ext cx="46641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B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C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,u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88840" y="2627280"/>
            <a:ext cx="932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00200" y="2689200"/>
                <a:ext cx="22669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151160" y="2657520"/>
            <a:ext cx="54374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con las condiciones de borde para u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io rectang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14600" y="3448080"/>
                <a:ext cx="3657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,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968400" y="4170240"/>
            <a:ext cx="661680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s EDPs pueden ser clasificadas en tres gru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elípt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i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paraból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hiperból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: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657600" y="4800600"/>
                <a:ext cx="137160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657600" y="5257800"/>
                <a:ext cx="1371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657600" y="5715000"/>
                <a:ext cx="1371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as de estado estacionario (no son función del tiemp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uación de Laplace                         en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uación de Poisson                              en 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Condiciones de b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Dirichlet                        en    Ƭ</a:t>
            </a:r>
            <a:r>
              <a:rPr b="0" lang="en-US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Neumann                        en   Ƭ</a:t>
            </a:r>
            <a:r>
              <a:rPr b="0" lang="en-US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41760" y="3200400"/>
                <a:ext cx="2087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54360" y="2473200"/>
                <a:ext cx="1505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611520" y="4681440"/>
                <a:ext cx="731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=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749760" y="5157720"/>
                <a:ext cx="8222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Ecuación de Lapl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55960" y="1619280"/>
                <a:ext cx="1505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tenemos                                  con            en  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deseamos encontrar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resolverla?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ér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conceptos debemos utiliz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040520" y="1828800"/>
                <a:ext cx="731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=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629400" y="2446200"/>
            <a:ext cx="309708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 Ecuación de Lapla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92901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ción aproximad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765828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la resolvemos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remos diferencias finit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écnica  numé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cretizar el domi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roximar los operadores diferenciales por operadores de di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aplacia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3995640"/>
                <a:ext cx="3200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630440" y="6068880"/>
            <a:ext cx="7056360" cy="789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15000" y="36576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49Z</dcterms:created>
  <dc:creator/>
  <dc:description/>
  <dc:language>en-US</dc:language>
  <cp:lastModifiedBy>Nancy Hitschfeld</cp:lastModifiedBy>
  <dcterms:modified xsi:type="dcterms:W3CDTF">2012-03-20T00:49:17Z</dcterms:modified>
  <cp:revision>44</cp:revision>
  <dc:subject/>
  <dc:title/>
</cp:coreProperties>
</file>