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D0A-926B-4F1A-9829-7B23637C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FF9-32E1-4334-A00D-35ACC16A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5E5-F780-4D19-B652-093A378D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159-0A10-4E21-B21D-587395D6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5EC1-BC4E-461A-BE46-47A59636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D682-1302-4F9E-831A-94AE5861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74FF-8360-4D13-A161-0A6EC2A7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081B-0D08-4203-AF87-A2FEA642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473E-086E-4607-9745-66AC01A9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54F-CA3F-4EC5-BFCD-71B6B376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971E-E919-46D7-A711-436FF8A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29C-486E-404F-B183-6B304285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65F1-20D8-4467-B4BC-2BFEB2EA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5C1A-B16C-4885-A8A9-51B161A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9A6E-6752-4965-A930-E00D30A7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D94F-6A61-48C1-8FF2-6D39F133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3C78-7827-4CFD-A652-6164656C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F57F8-EFB9-4E35-A248-DBA36C47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6558-AECE-48A3-88A0-C8B8D42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1444-2D06-45E7-A68E-C6977494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2A96-C7A2-4A19-BA3F-08B92466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AA53D-D520-40BF-B16A-D03D4539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590-27ED-4951-B3F9-2FDF6868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03EF-080B-4B7F-A70E-29388905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EAFA-2907-43B1-A67B-CF0BEFCC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89BE-0744-4465-85E1-95FC2B1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ACBB-4817-4B6F-89F7-1A9475D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F50D-CE6B-478A-A647-BF9B64AF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015B-5418-4F24-AF34-E0AFCB3F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7941-EA73-4506-933A-060528CA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6B0-8313-48F1-81BB-939B4A66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FB9-2148-4953-9E25-F139595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595-5511-41BD-B818-4976A80E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04A-4B8C-42C2-8836-CA3F4BE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C9B-3EA4-4412-B691-EE467B43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D8B-035D-406A-8DED-D798860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B0D19-C11D-46ED-9CC0-BE23233CF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9D5E9-730E-4639-8F1E-8B6268CBD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9E6C0-DD4A-42AE-B5BA-45B1347CC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r aproximaciones de 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cuociente increme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ción buena solo para h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Detalles en  sección 6.1, Mathews-Fin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43200" y="3263760"/>
                <a:ext cx="294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 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14760" y="4800600"/>
                <a:ext cx="368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órmula de diferencias centr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ore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rmula centrada de orden O(h²). Supongamo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que                                     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ás, existe un número                          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06560" y="2917800"/>
                <a:ext cx="1279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C³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2908440"/>
                <a:ext cx="2286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,x,x+h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43200" y="3657600"/>
                <a:ext cx="2895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800600" y="4489560"/>
                <a:ext cx="1828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=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094360"/>
                <a:ext cx="42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14600" y="5943600"/>
                <a:ext cx="3200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²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9920" y="1272960"/>
            <a:ext cx="9070920" cy="533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mostració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mos fórmula de Taylor de orden 2 de f alrededor de x pa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-h) y f(x+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mos y obten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                  es continua, usamos el teorema del valor interme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57400" y="2514600"/>
                <a:ext cx="6127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89080" y="3521160"/>
                <a:ext cx="6140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2720" y="4892760"/>
                <a:ext cx="663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5715000"/>
                <a:ext cx="109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17880" y="6446880"/>
                <a:ext cx="3160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9920" y="1371240"/>
            <a:ext cx="9550440" cy="81342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ordenando términos obtenem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imer término es la fórmula centrada y el segundo el error de trunca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inuación usaremos la siguiente no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1955880"/>
                <a:ext cx="4900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28800" y="3886200"/>
                <a:ext cx="4498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5943600"/>
                <a:ext cx="2103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240600" y="5818320"/>
            <a:ext cx="290340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órmulas de derivación núme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órmulas de diferencias centradas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 usa para discretizar el Lapla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86000" y="2322360"/>
                <a:ext cx="1808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86000" y="32004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86000" y="4151160"/>
                <a:ext cx="3036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86000" y="5257800"/>
                <a:ext cx="383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6560" y="1600200"/>
            <a:ext cx="8677440" cy="414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8077320" cy="3152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3000" y="5029200"/>
            <a:ext cx="5568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imer término corresponde al valor de f'' bus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552276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ón de diferencias para el Laplacian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mplaz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mos la fórmula para la aproximación de la ec. de Lapla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14400" y="19382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78480" y="1938240"/>
                <a:ext cx="3208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572000" y="2084400"/>
            <a:ext cx="333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4343400"/>
                <a:ext cx="61754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operador de diferenci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4724280" cy="311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181560" y="1828800"/>
            <a:ext cx="3419640" cy="267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5257800"/>
            <a:ext cx="4735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zación del rect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4975200"/>
            <a:ext cx="3460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e ec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diferencias para 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plac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(2D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os a segu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región con grilla regular de paso h en direcciones x e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ribir ecuaciones de diferencias para cada punto de la gr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obtiene un sistema lineal de ecuaciones  A</a:t>
            </a:r>
            <a:r>
              <a:rPr b="0" lang="en-U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ũ=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El sistema se resuelve numéric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directo, por ej: Gau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iter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 elíp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ón de La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ximación de operadores difer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órmula de diferencias centradas para f' u f'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ción de sistema de ecu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dirich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Neumann (mix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ción del sistema de ec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ajas/Limitaciones del método de diferencias fini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adapta bien a geometrías rectangulares o que son uniones de rectáng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intuitivo, fácil de explicar y ent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ermite modelar bien geometrías complejas ni condiciones de borde sobre bordes cur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otros más generales pero a la vez más compl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métodos de elementos finitos o volúmenes fin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l sistema line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de borde Dirichle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ongamos que tenemos un problema de Dirichlet, es decir conocemos los valores en la frontera de u(x,y) en la frontera de la región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28800" y="3071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3657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28800" y="46450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828800" y="418788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2560" y="12207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iquetamos los puntos interiores como se muestra a continu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659124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3120" y="1600200"/>
            <a:ext cx="3205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400800" y="218592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0960" y="1828800"/>
            <a:ext cx="5838840" cy="2514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828800" y="5486400"/>
            <a:ext cx="5533920" cy="131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336680" y="5011560"/>
            <a:ext cx="4871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ejemplo, con Método de Gauss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sponde a cuando se especifican valores de la derivada direccional de u(x,y) en la dirección perpendicular al contorno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supongamos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el contexto de los problemas de temperatura, significa contorno aislado, no hay flujo de calor a través de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                                                   , la condición de contorno de la derivada para x = a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715000" y="2889360"/>
                <a:ext cx="1828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0" y="4929120"/>
                <a:ext cx="36860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a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03480" y="6054840"/>
                <a:ext cx="35686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cuación de diferencias de Laplac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el valor                        es desconocido pues está fuera del dominio R. Sin embargo, podemos usar la fórmula de la derivación numéric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obtenemos la fórmula que relaciona              con sus valores adyacen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828800" y="2286000"/>
                <a:ext cx="530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589880" y="1663560"/>
                <a:ext cx="127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84680" y="2743200"/>
                <a:ext cx="787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43000" y="4114800"/>
                <a:ext cx="365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4270320"/>
                <a:ext cx="21034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858000" y="5029200"/>
                <a:ext cx="5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00200" y="6172200"/>
                <a:ext cx="453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ndiciones de Neumann para los puntos de los demás lados se obtiene de manera similar. Los cuatro casos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143000" y="3313080"/>
            <a:ext cx="769932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971720" y="1828800"/>
            <a:ext cx="62578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 con condiciones de borde mix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9070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172200" y="228600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ucran una función desconocida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os o más variables indepe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ida sobre un dominio geométrico =&gt; discre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de borde e in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(Sección 10.3, capítulo 10, Mathews-Fink,  apuntes de MC. Riva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19440" y="1862280"/>
            <a:ext cx="479088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8058240" cy="3733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86080" y="5715000"/>
            <a:ext cx="585792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diferencias finit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que se modelan usando la ecuación de La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ciones de borde Dirichlet, Neumann y mix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idado con la numeración de los puntos para lograr un sistema pentadiagonal  (solución más efici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ción de EDP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ásica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28800" y="1646280"/>
                <a:ext cx="4664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B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C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,u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88840" y="2627280"/>
            <a:ext cx="932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00200" y="2689200"/>
                <a:ext cx="2266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151160" y="2657520"/>
            <a:ext cx="54374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con las condiciones de borde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io rectang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3448080"/>
                <a:ext cx="3657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,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968400" y="4170240"/>
            <a:ext cx="661680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s EDPs pueden ser clasificadas en tres gru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elíp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i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para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hiper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657600" y="4800600"/>
                <a:ext cx="13716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57600" y="52578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57150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de estado estacionario (no son función del tiemp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Laplace                         e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Poisson                              en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Condiciones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Dirichlet                        en 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Neumann                        en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41760" y="3200400"/>
                <a:ext cx="2087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54360" y="247320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11520" y="468144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49760" y="5157720"/>
                <a:ext cx="822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55960" y="161928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tenemos                                  con            en 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deseamos encontrar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resolverla?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ér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conceptos debemos utiliz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040520" y="182880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29400" y="2446200"/>
            <a:ext cx="309708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9290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ción aproxima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765828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la resolvemos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remos diferencias finit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écnica  numé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cretizar 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roximar los operadores diferenciales por operadores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placi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39956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30440" y="6068880"/>
            <a:ext cx="7056360" cy="78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>Nancy Hitschfeld</cp:lastModifiedBy>
  <dcterms:modified xsi:type="dcterms:W3CDTF">2012-03-20T00:49:17Z</dcterms:modified>
  <cp:revision>44</cp:revision>
  <dc:subject/>
  <dc:title/>
</cp:coreProperties>
</file>