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DFCE-75A1-4CC1-844D-A0DFE3F90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97C1-93D4-44CA-B109-5F872B8B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820C-589A-4C41-84E7-C8F9A44EF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43C1-79AB-4B3F-99F4-2B96997B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5746-4689-42B9-A6D5-646E355B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596F-DBEC-479D-8127-958AF2A0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8D8A-05F5-40B1-AB4D-D7D2EF35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CA63-D520-452D-842C-11259B41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3AF7-992C-4F1D-9275-59EA597E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C264-B831-4652-BE4C-5F4D3C79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84FA-A958-4553-A16F-B37FC768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BB63-D97A-44FD-A6BD-21FC7487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0314-F4CC-4EA5-995A-475E405F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ABE2-0C6C-4EEF-974C-37E7DD99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8E13-90A7-45C0-BC7D-2DB15C3A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EB31-8145-4793-A0EC-8CAE4A26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DDEA-4E43-4E63-868F-5D7B63C9E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C2403-5B8E-4A56-B9BA-B3D017597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91B69-5E74-4CEF-AC60-F21AE20D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C6B55-794A-4D8E-AA45-1F773347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E7FAB-BF21-45A9-A0F7-15A7314A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DACB3-57FA-4639-AD1F-E6AF7EEA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FFD0-F922-4F9B-A492-F5573E04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CA097-B0AF-4B10-8E12-4C904FE5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F2BBC-0F53-459F-9A0C-B43F6177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DDEBD-0698-4736-BE55-0BB78971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7ECCB-C4FF-4B8D-8D4E-27D9DD5F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A3C99-D211-4E2A-94C3-11DF198A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405D2-B113-4ABB-BB51-40E686182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6CC76-BA01-4832-ABEC-08D3A760E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FD6A-A77A-4353-BC18-61F39D6A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EA78-3FB7-4573-9226-82312698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8E78-2CAD-45E6-936A-97403E13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000C-74A9-42C0-9B0B-2B1F895F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7368-5A3A-40F4-84B8-E7F3B40B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D3FF-0EAA-43DC-9624-830FAB37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0952C-3F47-4B75-AD60-A7F77921A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96296-4E40-4C01-9FB9-051823FA4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9315E-435A-4B4B-9FCB-A08996B3F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734000" y="3630600"/>
                <a:ext cx="71280" cy="1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719600" y="3576600"/>
                <a:ext cx="71640" cy="1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577800" y="2562120"/>
            <a:ext cx="889164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 de diferencias finitas para ecuaciones diferenciales parciales elíp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Parte 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se deduce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094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r aproximaciones de deriv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ímite del cuociente incremen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oximación buena solo para h peque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Detalles en  sección 6.1, Mathews-Fin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743200" y="3263760"/>
                <a:ext cx="29494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r>
                          <m:t xml:space="preserve"> </m:t>
                        </m:r>
                      </m:e>
                      <m:lim>
                        <m:r>
                          <m:t xml:space="preserve">h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+h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714760" y="4800600"/>
                <a:ext cx="36860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+h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se deduce?  (..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órmula de diferencias centrad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eore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órmula centrada de orden O(h²). Supongamos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que                                     ento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 más, existe un número                           tal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n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006560" y="2917800"/>
                <a:ext cx="127944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C³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,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657600" y="2908440"/>
                <a:ext cx="228600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h,x,x+h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,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743200" y="3657600"/>
                <a:ext cx="28954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+h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4800600" y="4489560"/>
                <a:ext cx="18288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=c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,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514600" y="5094360"/>
                <a:ext cx="42512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+h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u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f,h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514600" y="5943600"/>
                <a:ext cx="3200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u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f,h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²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se deduce? (..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29920" y="1272960"/>
            <a:ext cx="9070920" cy="5338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Demostración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mos fórmula de Taylor de orden 2 de f alrededor de x par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x-h) y f(x+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amos y obtene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o                   es continua, usamos el teorema del valor intermed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057400" y="2514600"/>
                <a:ext cx="612792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+h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+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h+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h³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089080" y="3521160"/>
                <a:ext cx="614052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h+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h³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052720" y="4892760"/>
                <a:ext cx="66340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+h</m:t>
                        </m:r>
                      </m:e>
                    </m:d>
                    <m:r>
                      <m:t xml:space="preserve">−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f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h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3</m:t>
                                    </m:r>
                                  </m:e>
                                </m:d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+f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3</m:t>
                                    </m:r>
                                  </m:e>
                                </m:d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h³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286000" y="5715000"/>
                <a:ext cx="1096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017880" y="6446880"/>
                <a:ext cx="31608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=f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se deduce? (..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29920" y="1371240"/>
            <a:ext cx="9550440" cy="81342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 ordenando términos obtenem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rimer término es la fórmula centrada y el segundo el error de truncami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ntinuación usaremos la siguiente not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371600" y="1955880"/>
                <a:ext cx="49006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+h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828800" y="3886200"/>
                <a:ext cx="44989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+h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+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200400" y="5943600"/>
                <a:ext cx="21034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240600" y="5818320"/>
            <a:ext cx="2903400" cy="81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órmulas de derivación númeric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órmulas de diferencias centradas O(h²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 usa para discretizar el Laplac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286000" y="2322360"/>
                <a:ext cx="18082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286000" y="3200400"/>
                <a:ext cx="24922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f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286000" y="4151160"/>
                <a:ext cx="30369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286000" y="5257800"/>
                <a:ext cx="38386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f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⁴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se deduce f''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66560" y="1600200"/>
            <a:ext cx="8677440" cy="41497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828800" y="6400800"/>
            <a:ext cx="44146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cción 6.2- Libro de Mathews-F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se deduce f''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6400800"/>
            <a:ext cx="44146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cción 6.2- Libro de Mathews-F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066680" y="1600200"/>
            <a:ext cx="8077320" cy="31528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143000" y="5029200"/>
            <a:ext cx="55688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rimer término corresponde al valor de f'' busca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743200" y="5522760"/>
                <a:ext cx="24922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f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cuación de diferencias para el Laplacian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1320" y="14112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emplaz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tenemos la fórmula para la aproximación de la ec. de Laplac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914400" y="1938240"/>
                <a:ext cx="32004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²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478480" y="1938240"/>
                <a:ext cx="32083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y²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4572000" y="2084400"/>
            <a:ext cx="333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914400" y="4343400"/>
                <a:ext cx="617544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²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y²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operador de diferenci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4724280" cy="3114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6181560" y="1828800"/>
            <a:ext cx="3419640" cy="26766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685800" y="5257800"/>
            <a:ext cx="47354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tización del rectáng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172200" y="4975200"/>
            <a:ext cx="346068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quema de ecu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diferencias para 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placia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 de diferencias finitas (2D)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sos a segui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retizar región con grilla regular de paso h en direcciones x e 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cribir ecuaciones de diferencias para cada punto de la gril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 obtiene un sistema lineal de ecuaciones  A</a:t>
            </a:r>
            <a:r>
              <a:rPr b="0" lang="en-US" sz="2600" spc="-1" strike="noStrike">
                <a:solidFill>
                  <a:srgbClr val="000000"/>
                </a:solidFill>
                <a:latin typeface="DejaVu Sans"/>
                <a:ea typeface="DejaVu Sans"/>
              </a:rPr>
              <a:t>ũ=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El sistema se resuelve numéricamen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8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Método directo, por ej: Gau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8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Método itera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29920" y="1828440"/>
            <a:ext cx="907092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uaciones en derivadas par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uaciones en derivadas parciales elíp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uación de La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oximación de operadores diferen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órmula de diferencias centradas para f' u f'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ción de sistema de ecua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place con condiciones de dirich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place con condiciones de Neumann (mixt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ución del sistema de ecu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ajas/Limitaciones del método de diferencias finit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 adapta bien a geometrías rectangulares o que son uniones de rectángul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 intuitivo, fácil de explicar y enten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permite modelar bien geometrías complejas ni condiciones de borde sobre bordes cur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ar otros más generales pero a la vez más complej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jemplo: métodos de elementos finitos o volúmenes fini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000" y="612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trucción del sistema line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diciones de borde Dirichlet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29920" y="18288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ongamos que tenemos un problema de Dirichlet, es decir conocemos los valores en la frontera de u(x,y) en la frontera de la región 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828800" y="3071880"/>
                <a:ext cx="66675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zquierd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828800" y="3657600"/>
                <a:ext cx="53672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,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ajo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828800" y="4645080"/>
                <a:ext cx="55404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,m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rrib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828800" y="4187880"/>
                <a:ext cx="66103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,j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rech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jemplo con grilla 5x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12560" y="12207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tiquetamos los puntos interiores como se muestra a continu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85800" y="4572000"/>
            <a:ext cx="6591240" cy="27432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5253120" y="1600200"/>
            <a:ext cx="320508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jemplo grilla 5x5 (...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29920" y="17305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r la solución aproximada de la ecuación de Laplace en el rectángulo                                   donde u(x,y) denota la temperatura en un punto (x,y), los valores de frontera s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(x,0) = 20       0 &lt; x &lt;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(x,4) = 180     0  &lt; x &lt;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(0,y) = 80       0 &lt; y &lt;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(4,y) =0           0 &lt;y &lt; 4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400800" y="2185920"/>
                <a:ext cx="36576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=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,y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:0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4,0</m:t>
                        </m:r>
                        <m:r>
                          <m:t xml:space="preserve">≤</m:t>
                        </m:r>
                        <m:r>
                          <m:t xml:space="preserve">y</m:t>
                        </m:r>
                        <m:r>
                          <m:t xml:space="preserve">≤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jemplo con grilla 5x5 (...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3429000" cy="29718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3990960" y="1828800"/>
            <a:ext cx="5838840" cy="25146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1828800" y="5486400"/>
            <a:ext cx="5533920" cy="13143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336680" y="5011560"/>
            <a:ext cx="487188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r ejemplo, con Método de Gauss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trucción de sistema lineal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ondiciones de borde de Neumann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responde a cuando se especifican valores de la derivada direccional de u(x,y) en la dirección perpendicular al contorno 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jemplo: supongamos 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el contexto de los problemas de temperatura, significa contorno aislado, no hay flujo de calor a través de é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                                                    , la condición de contorno de la derivada para x = a 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5715000" y="2889360"/>
                <a:ext cx="18288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,y</m:t>
                            </m:r>
                          </m:e>
                        </m:d>
                      </m:num>
                      <m:den>
                        <m:r>
                          <m:t xml:space="preserve">∂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286000" y="4929120"/>
                <a:ext cx="36860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=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,y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:0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a,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y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103480" y="6054840"/>
                <a:ext cx="356868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trucción de sistema lineal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ondiciones de borde de Neumann) ..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29920" y="17305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 ecuación de diferencias de Laplace pa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nde el valor                        es desconocido pues está fuera del dominio R. Sin embargo, podemos usar la fórmula de la derivación numérica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 obtenemos la fórmula que relaciona              con sus valores adyacent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828800" y="2286000"/>
                <a:ext cx="5303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+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j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7589880" y="1663560"/>
                <a:ext cx="1279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784680" y="2743200"/>
                <a:ext cx="7873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+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143000" y="4114800"/>
                <a:ext cx="36576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</m:t>
                        </m:r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6629400" y="4270320"/>
                <a:ext cx="21034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+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6858000" y="5029200"/>
                <a:ext cx="549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600200" y="6172200"/>
                <a:ext cx="4537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j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trucción de sistema lineal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ondiciones de borde de Neumann) ..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29920" y="17305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s condiciones de Neumann para los puntos de los demás lados se obtiene de manera similar. Los cuatro casos s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143000" y="3313080"/>
            <a:ext cx="7699320" cy="24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trucción de sistema lineal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ondiciones de borde de Neumann) ..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971720" y="1828800"/>
            <a:ext cx="625788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 con condiciones de borde mixt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9070920" cy="3651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r la solución aproximada de la ecuación de Laplace en el rectángulo                                   donde u(x,y) denota la temperatura en un punto (x,y), los valores de frontera s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(x,4) = 180       0 &lt; x &lt; 4   (Dirichle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x,0) = 0          0  &lt; x &lt; 4  (Neuman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(0,y) = 80         0 &lt; y &lt; 4   (Dirichle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(4,y) =0           0 &lt;y &lt; 4     (Dirichle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6172200" y="2286000"/>
                <a:ext cx="36576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=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,y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:0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4,0</m:t>
                        </m:r>
                        <m:r>
                          <m:t xml:space="preserve">≤</m:t>
                        </m:r>
                        <m:r>
                          <m:t xml:space="preserve">y</m:t>
                        </m:r>
                        <m:r>
                          <m:t xml:space="preserve">≤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cuaciones en derivadas parc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3280" y="176832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ucran una función desconocida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dos o más variables independ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álida sobre un dominio geométrico =&gt; discretiz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ciones de borde e ini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94476b"/>
                </a:solidFill>
                <a:latin typeface="Arial"/>
              </a:rPr>
              <a:t>(Sección 10.3, capítulo 10, Mathews-Fink,  apuntes de MC. Riva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734000" y="3630600"/>
                <a:ext cx="71280" cy="1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719600" y="3576600"/>
                <a:ext cx="71640" cy="1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illa de 5x5 (12 incógnitas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2719440" y="1862280"/>
            <a:ext cx="479088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illa de 5x5 (12 incógnitas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8058240" cy="37339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3286080" y="5715000"/>
            <a:ext cx="5857920" cy="13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de diferencias finita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lemas que se modelan usando la ecuación de Lapl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diciones de borde Dirichlet, Neumann y mix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trucción del sistema de ecu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idado con la numeración de los puntos para lograr un sistema pentadiagonal  (solución más eficien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asificación de EDP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ásicas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828800" y="1646280"/>
                <a:ext cx="466416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+B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²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+C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²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y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,y,u,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888840" y="2627280"/>
            <a:ext cx="9320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600200" y="2689200"/>
                <a:ext cx="226692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y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4151160" y="2657520"/>
            <a:ext cx="54374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 con las condiciones de borde para u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minio rectang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514600" y="3448080"/>
                <a:ext cx="36576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,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b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,y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b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e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,</m:t>
                                </m:r>
                              </m:sub>
                            </m:sSub>
                            <m:r>
                              <m:t xml:space="preserve">y</m:t>
                            </m:r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b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b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968400" y="4170240"/>
            <a:ext cx="6616800" cy="19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s EDPs pueden ser clasificadas en tres grup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DP elípt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i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DP paraból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DP hiperból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: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657600" y="4800600"/>
                <a:ext cx="137160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AC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657600" y="5257800"/>
                <a:ext cx="13716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A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657600" y="5715000"/>
                <a:ext cx="13716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AC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DPs Elíptic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lemas de estado estacionario (no son función del tiemp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cuación de Laplace                         en </a:t>
            </a: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Ω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cuación de Poisson                              en  </a:t>
            </a: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Condiciones de bo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Dirichlet                        en    Ƭ</a:t>
            </a:r>
            <a:r>
              <a:rPr b="0" lang="en-US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Neumann                        en   Ƭ</a:t>
            </a:r>
            <a:r>
              <a:rPr b="0" lang="en-US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683240" y="3605040"/>
                <a:ext cx="71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541760" y="3200400"/>
                <a:ext cx="20876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²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²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y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554360" y="2473200"/>
                <a:ext cx="15051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²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²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y²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611520" y="4681440"/>
                <a:ext cx="7318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=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749760" y="5157720"/>
                <a:ext cx="8222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n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683240" y="3605040"/>
                <a:ext cx="71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683240" y="3605040"/>
                <a:ext cx="71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683240" y="3605040"/>
                <a:ext cx="71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629400" y="4114800"/>
            <a:ext cx="29718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094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Ecuación de Lapla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855960" y="1619280"/>
                <a:ext cx="15051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²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²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y²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tenemos                                  con            en   </a:t>
            </a: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deseamos encontrar?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mo resolverla?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éric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é conceptos debemos utiliz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7040520" y="1828800"/>
                <a:ext cx="7318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=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629400" y="2446200"/>
            <a:ext cx="3097080" cy="18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jemplo: Ecuación de Laplac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39640" y="2133720"/>
            <a:ext cx="929016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ución aproximad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143000" y="1828800"/>
            <a:ext cx="7658280" cy="51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o la resolvemos?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aremos diferencias finit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écnica  numé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scretizar el domin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proximar los operadores diferenciales por operadores de difer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aplacian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600200" y="3995640"/>
                <a:ext cx="32004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²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630440" y="6068880"/>
            <a:ext cx="7056360" cy="789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715000" y="3657600"/>
            <a:ext cx="38862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7:01:49Z</dcterms:created>
  <dc:creator/>
  <dc:description/>
  <dc:language>en-US</dc:language>
  <cp:lastModifiedBy>Nancy Hitschfeld</cp:lastModifiedBy>
  <dcterms:modified xsi:type="dcterms:W3CDTF">2012-03-20T00:49:17Z</dcterms:modified>
  <cp:revision>44</cp:revision>
  <dc:subject/>
  <dc:title/>
</cp:coreProperties>
</file>