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6.png" ContentType="image/pn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1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16395-45C7-4BB6-8D12-D64D4F83C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972E2-7C41-4AA8-990C-0F5B53F35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7E477-F9A3-41ED-88AA-857F7403A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92A03-201E-4D81-A7B9-5059A2E6F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B55B3-F9F9-4650-870D-C69862126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6E298-3DD4-4746-85FD-C66A947F2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5B409-0E44-4582-A507-0DA374E90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9B373-BF9A-460E-805D-E89D1D166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27B01-A6BA-4D7F-9D8A-68324D5EB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3A740-B6E4-4754-A4F4-C881A015D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88528-DD26-4A14-B8AA-56163144A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9A612-0FF0-4582-95F1-2C03E4AE0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ADADC-0D74-4278-9A90-33B14410C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2B10D-ABC4-43AE-B1C5-6B97AE1BC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85933-A59A-4E1C-AC2D-139E9F4EF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1B539-9084-4D1D-B50C-6BCB8A4DC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E2259-FC47-40E9-A4F0-138AA778D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40A68E-089D-4DEE-BC2F-3E989921A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FA7EDF-B47C-414A-B128-C5DB87AE3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729DC5-46C1-4930-9312-14B2661F0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FE0F5A-5EB5-438E-A7C4-525E53AC5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657F87-949A-4237-96FF-04FCA64DC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9B03C-64DA-437D-BDF6-7E6CEC296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AB5C8A-DF39-4DF6-A64D-4CC1494A0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BF59DD-E4B6-41C4-B2C2-B1EBAC06C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5DD60D-4323-44E4-B986-9EAC9C44A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AE7731-F583-45CC-B48B-E4FF17CCC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0787C6-DB44-4F84-8252-06490AF2A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FF3414-F4B2-4DE6-B4F1-FC5D384C7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3F7B2B-652F-43D6-84B8-0E0259E9B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59FD2-0055-4D0A-80EC-2EA33B262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28C02-3729-462E-ADA5-9A04041EC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92B58-8D62-489B-83BE-F3E2AD6DA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8C766-C619-4D58-8A6B-68504254D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193CD-C9A4-49EE-8D11-9AFDE25C1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7A137-294A-4A01-909F-DA17350AC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7A6CD5-263A-4A7A-A3D3-0E7B1C2159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4F5DD6-C28E-493F-A36B-3298C2C8A7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617A81-D984-4887-A9D5-CE86D47F1F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2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2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2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2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29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29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4734000" y="3630600"/>
                <a:ext cx="71280" cy="16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4719600" y="3576600"/>
                <a:ext cx="71640" cy="16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25" name=""/>
          <p:cNvSpPr/>
          <p:nvPr/>
        </p:nvSpPr>
        <p:spPr>
          <a:xfrm>
            <a:off x="577800" y="2562120"/>
            <a:ext cx="8891640" cy="24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16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étodo de diferencias finitas para ecuaciones diferenciales parciales elíptic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Parte I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ómo se deduce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5094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ar aproximaciones de derivad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28440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ímite del cuociente incrementa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73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28440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roximación buena solo para h pequeñ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(Detalles en  sección 6.1, Mathews-Fink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2743200" y="3263760"/>
                <a:ext cx="294948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'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  <m:r>
                          <m:t xml:space="preserve"> </m:t>
                        </m:r>
                      </m:e>
                      <m:lim>
                        <m:r>
                          <m:t xml:space="preserve">h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f>
                      <m:num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x+h</m:t>
                            </m:r>
                          </m:e>
                        </m:d>
                        <m:r>
                          <m:t xml:space="preserve">−</m:t>
                        </m:r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</m:num>
                      <m:den>
                        <m:r>
                          <m:t xml:space="preserve">h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2714760" y="4800600"/>
                <a:ext cx="368604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'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≈</m:t>
                    </m:r>
                    <m:f>
                      <m:num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+h</m:t>
                            </m:r>
                          </m:e>
                        </m:d>
                        <m:r>
                          <m:t xml:space="preserve">−</m:t>
                        </m:r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num>
                      <m:den>
                        <m:r>
                          <m:t xml:space="preserve">h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r>
                          <m:t xml:space="preserve">h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9070920" cy="117144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ómo se deduce?  (...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Fórmula de diferencias centrad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Teorema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órmula centrada de orden O(h²). Supongamos 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 que                                     ento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 más, existe un número                           tal 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end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1006560" y="2917800"/>
                <a:ext cx="1279440" cy="28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∈</m:t>
                    </m:r>
                    <m:r>
                      <m:rPr>
                        <m:lit/>
                        <m:nor/>
                      </m:rPr>
                      <m:t xml:space="preserve">C³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a,b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3657600" y="2908440"/>
                <a:ext cx="2286000" cy="29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h,x,x+h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a,b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2743200" y="3657600"/>
                <a:ext cx="289548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'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≈</m:t>
                    </m:r>
                    <m:f>
                      <m:num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x+h</m:t>
                            </m:r>
                          </m:e>
                        </m:d>
                        <m:r>
                          <m:t xml:space="preserve">−</m:t>
                        </m:r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h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h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4800600" y="4489560"/>
                <a:ext cx="1828800" cy="31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=c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a,b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2514600" y="5094360"/>
                <a:ext cx="425124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'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≈</m:t>
                    </m:r>
                    <m:f>
                      <m:num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x+h</m:t>
                            </m:r>
                          </m:e>
                        </m:d>
                        <m:r>
                          <m:t xml:space="preserve">−</m:t>
                        </m:r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h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h</m:t>
                        </m:r>
                      </m:den>
                    </m:f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+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runc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f,h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2514600" y="5943600"/>
                <a:ext cx="3200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runc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f,h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h²f</m:t>
                            </m:r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3</m:t>
                                </m:r>
                              </m:e>
                            </m:d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=O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h²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ómo se deduce? (...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29920" y="1272960"/>
            <a:ext cx="9070920" cy="53384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Demostración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amos fórmula de Taylor de orden 2 de f alrededor de x para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(x-h) y f(x+h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tamos y obtenem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o                   es continua, usamos el teorema del valor intermedi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2057400" y="2514600"/>
                <a:ext cx="6127920" cy="82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x+h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=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+f'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h+</m:t>
                    </m:r>
                    <m:f>
                      <m:num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2</m:t>
                                </m:r>
                              </m:e>
                            </m:d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h²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!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3</m:t>
                                </m:r>
                              </m:e>
                            </m:d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h³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!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2089080" y="3521160"/>
                <a:ext cx="6140520" cy="82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h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=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f'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h+</m:t>
                    </m:r>
                    <m:f>
                      <m:num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2</m:t>
                                </m:r>
                              </m:e>
                            </m:d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h²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!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3</m:t>
                                </m:r>
                              </m:e>
                            </m:d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h³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!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2052720" y="4892760"/>
                <a:ext cx="6634080" cy="82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x+h</m:t>
                        </m:r>
                      </m:e>
                    </m:d>
                    <m:r>
                      <m:t xml:space="preserve">−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h</m:t>
                        </m:r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f</m:t>
                    </m:r>
                    <m:r>
                      <m:t xml:space="preserve">'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h+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f</m:t>
                                </m:r>
                              </m:e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3</m:t>
                                    </m:r>
                                  </m:e>
                                </m:d>
                              </m:sup>
                            </m:s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</m:d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+f</m:t>
                                </m:r>
                              </m:e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3</m:t>
                                    </m:r>
                                  </m:e>
                                </m:d>
                              </m:sup>
                            </m:s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h³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!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2286000" y="5715000"/>
                <a:ext cx="10969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f</m:t>
                        </m:r>
                      </m:e>
                      <m: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</m:e>
                        </m:d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3017880" y="6446880"/>
                <a:ext cx="316080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3</m:t>
                                </m:r>
                              </m:e>
                            </m:d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+f</m:t>
                            </m:r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3</m:t>
                                </m:r>
                              </m:e>
                            </m:d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=f</m:t>
                        </m:r>
                      </m:e>
                      <m: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</m:e>
                        </m:d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c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ómo se deduce? (...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29920" y="1371240"/>
            <a:ext cx="9550440" cy="813420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Y ordenando términos obtenemo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Primer término es la fórmula centrada y el segundo el error de truncamient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continuación usaremos la siguiente notació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1371600" y="1955880"/>
                <a:ext cx="4900680" cy="78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'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x+h</m:t>
                            </m:r>
                          </m:e>
                        </m:d>
                        <m:r>
                          <m:t xml:space="preserve">−</m:t>
                        </m:r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h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h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3</m:t>
                                </m:r>
                              </m:e>
                            </m:d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h²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!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1828800" y="3886200"/>
                <a:ext cx="4498920" cy="74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'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x+h</m:t>
                            </m:r>
                          </m:e>
                        </m:d>
                        <m:r>
                          <m:t xml:space="preserve">−</m:t>
                        </m:r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h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h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+O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h²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3200400" y="5943600"/>
                <a:ext cx="210348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'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d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j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h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6240600" y="5818320"/>
            <a:ext cx="2903400" cy="81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órmulas de derivación númerica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órmulas de diferencias centradas O(h²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 usa para discretizar el Laplacia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2286000" y="2322360"/>
                <a:ext cx="180828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'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h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2286000" y="3200400"/>
                <a:ext cx="249228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f</m:t>
                        </m:r>
                      </m:e>
                      <m: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</m:e>
                        </m:d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+f</m:t>
                            </m:r>
                          </m:e>
                          <m:sub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h²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2286000" y="4151160"/>
                <a:ext cx="303696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f</m:t>
                        </m:r>
                      </m:e>
                      <m: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</m:e>
                        </m:d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h³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2286000" y="5257800"/>
                <a:ext cx="383868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f</m:t>
                        </m:r>
                      </m:e>
                      <m: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4</m:t>
                            </m:r>
                          </m:e>
                        </m:d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4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6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4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+f</m:t>
                            </m:r>
                          </m:e>
                          <m:sub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h⁴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ómo se deduce f''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466560" y="1600200"/>
            <a:ext cx="8677440" cy="414972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1828800" y="6400800"/>
            <a:ext cx="441468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26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Sección 6.2- Libro de Mathews-Fin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ómo se deduce f''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828800" y="6400800"/>
            <a:ext cx="441468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26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Sección 6.2- Libro de Mathews-Fin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2"/>
          <a:stretch/>
        </p:blipFill>
        <p:spPr>
          <a:xfrm>
            <a:off x="1066680" y="1600200"/>
            <a:ext cx="8077320" cy="315288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1143000" y="5029200"/>
            <a:ext cx="55688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 primer término corresponde al valor de f'' buscad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5" name=""/>
              <p:cNvSpPr txBox="1"/>
              <p:nvPr/>
            </p:nvSpPr>
            <p:spPr>
              <a:xfrm>
                <a:off x="2743200" y="5522760"/>
                <a:ext cx="249228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f</m:t>
                        </m:r>
                      </m:e>
                      <m: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</m:e>
                        </m:d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+f</m:t>
                            </m:r>
                          </m:e>
                          <m:sub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h²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cuación de diferencias para el Laplaciano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01320" y="141120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emplazan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tenemos la fórmula para la aproximación de la ec. de Laplac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914400" y="1938240"/>
                <a:ext cx="3200400" cy="80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²</m:t>
                        </m:r>
                        <m:r>
                          <m:t xml:space="preserve">u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rPr>
                            <m:lit/>
                            <m:nor/>
                          </m:rPr>
                          <m:t xml:space="preserve">x²</m:t>
                        </m:r>
                      </m:den>
                    </m:f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j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+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j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h²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5478480" y="1938240"/>
                <a:ext cx="3208320" cy="80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²</m:t>
                        </m:r>
                        <m:r>
                          <m:t xml:space="preserve">u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rPr>
                            <m:lit/>
                            <m:nor/>
                          </m:rPr>
                          <m:t xml:space="preserve">y²</m:t>
                        </m:r>
                      </m:den>
                    </m:f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+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+</m:t>
                            </m:r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h²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10" name=""/>
          <p:cNvSpPr/>
          <p:nvPr/>
        </p:nvSpPr>
        <p:spPr>
          <a:xfrm>
            <a:off x="4572000" y="2084400"/>
            <a:ext cx="333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914400" y="4343400"/>
                <a:ext cx="6175440" cy="80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²</m:t>
                        </m:r>
                        <m:r>
                          <m:t xml:space="preserve">u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rPr>
                            <m:lit/>
                            <m:nor/>
                          </m:rPr>
                          <m:t xml:space="preserve">x²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²</m:t>
                        </m:r>
                        <m:r>
                          <m:t xml:space="preserve">u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rPr>
                            <m:lit/>
                            <m:nor/>
                          </m:rPr>
                          <m:t xml:space="preserve">y²</m:t>
                        </m:r>
                      </m:den>
                    </m:f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j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+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j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4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+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+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+</m:t>
                            </m:r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h²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presentación operador de diferencia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762120" y="1600200"/>
            <a:ext cx="4724280" cy="311472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3"/>
          <a:stretch/>
        </p:blipFill>
        <p:spPr>
          <a:xfrm>
            <a:off x="6181560" y="1828800"/>
            <a:ext cx="3419640" cy="267660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685800" y="5257800"/>
            <a:ext cx="47354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9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retización del rectángu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172200" y="4975200"/>
            <a:ext cx="3460680" cy="11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0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squema de ecuaci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 diferencias para 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aplacian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étodo de diferencias finitas (2D):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asos a seguir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scretizar región con grilla regular de paso h en direcciones x e 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scribir ecuaciones de diferencias para cada punto de la grill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 obtiene un sistema lineal de ecuaciones  A</a:t>
            </a:r>
            <a:r>
              <a:rPr b="0" lang="en-US" sz="2600" spc="-1" strike="noStrike">
                <a:solidFill>
                  <a:srgbClr val="000000"/>
                </a:solidFill>
                <a:latin typeface="DejaVu Sans"/>
                <a:ea typeface="DejaVu Sans"/>
              </a:rPr>
              <a:t>ũ=b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8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DejaVu Sans"/>
                <a:ea typeface="DejaVu Sans"/>
              </a:rPr>
              <a:t>El sistema se resuelve numéricament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2590920" indent="-430200">
              <a:lnSpc>
                <a:spcPct val="98000"/>
              </a:lnSpc>
              <a:spcAft>
                <a:spcPts val="850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DejaVu Sans"/>
                <a:ea typeface="DejaVu Sans"/>
              </a:rPr>
              <a:t>Método directo, por ej: Gau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2590920" indent="-430200">
              <a:lnSpc>
                <a:spcPct val="98000"/>
              </a:lnSpc>
              <a:spcAft>
                <a:spcPts val="850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DejaVu Sans"/>
                <a:ea typeface="DejaVu Sans"/>
              </a:rPr>
              <a:t>Método iterativ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ntenido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29920" y="1828440"/>
            <a:ext cx="9070920" cy="5351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uaciones en derivadas parci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uaciones en derivadas parciales elíptic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uación de Lapl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roximación de operadores diferenci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órmula de diferencias centradas para f' u f''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trucción de sistema de ecuacion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28440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place con condiciones de dirichl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28440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place con condiciones de Neumann (mixta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olución del sistema de ecuac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entajas/Limitaciones del método de diferencias finita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 adapta bien a geometrías rectangulares o que son uniones de rectángul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s intuitivo, fácil de explicar y entend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 permite modelar bien geometrías complejas ni condiciones de borde sobre bordes curv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ar otros más generales pero a la vez más complej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jemplo: métodos de elementos finitos o volúmenes finit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68000" y="6120"/>
            <a:ext cx="907092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nstrucción del sistema lineal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diciones de borde Dirichlet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29920" y="182880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upongamos que tenemos un problema de Dirichlet, es decir conocemos los valores en la frontera de u(x,y) en la frontera de la región 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3" name=""/>
              <p:cNvSpPr txBox="1"/>
              <p:nvPr/>
            </p:nvSpPr>
            <p:spPr>
              <a:xfrm>
                <a:off x="1828800" y="3071880"/>
                <a:ext cx="666756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,</m:t>
                            </m:r>
                          </m:sub>
                        </m:sSub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d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=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para</m:t>
                    </m:r>
                    <m:r>
                      <m:t xml:space="preserve"> </m:t>
                    </m:r>
                    <m:r>
                      <m:t xml:space="preserve">2</m:t>
                    </m:r>
                    <m:r>
                      <m:t xml:space="preserve">≤</m:t>
                    </m:r>
                    <m:r>
                      <m:t xml:space="preserve">j</m:t>
                    </m:r>
                    <m:r>
                      <m:t xml:space="preserve">≤</m:t>
                    </m:r>
                    <m:r>
                      <m:t xml:space="preserve">m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la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izquierda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1828800" y="3657600"/>
                <a:ext cx="536724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,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=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,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para</m:t>
                    </m:r>
                    <m:r>
                      <m:t xml:space="preserve"> </m:t>
                    </m:r>
                    <m:r>
                      <m:t xml:space="preserve">2</m:t>
                    </m:r>
                    <m:r>
                      <m:t xml:space="preserve">≤</m:t>
                    </m:r>
                    <m:r>
                      <m:t xml:space="preserve">i</m:t>
                    </m:r>
                    <m:r>
                      <m:t xml:space="preserve">≤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abajo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5" name=""/>
              <p:cNvSpPr txBox="1"/>
              <p:nvPr/>
            </p:nvSpPr>
            <p:spPr>
              <a:xfrm>
                <a:off x="1828800" y="4645080"/>
                <a:ext cx="55404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,y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e>
                    </m:d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=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,m</m:t>
                        </m:r>
                      </m:sub>
                    </m:sSub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para</m:t>
                    </m:r>
                    <m:r>
                      <m:t xml:space="preserve"> </m:t>
                    </m:r>
                    <m:r>
                      <m:t xml:space="preserve">2</m:t>
                    </m:r>
                    <m:r>
                      <m:t xml:space="preserve">≤</m:t>
                    </m:r>
                    <m:r>
                      <m:t xml:space="preserve">i</m:t>
                    </m:r>
                    <m:r>
                      <m:t xml:space="preserve">≤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arriba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" name=""/>
              <p:cNvSpPr txBox="1"/>
              <p:nvPr/>
            </p:nvSpPr>
            <p:spPr>
              <a:xfrm>
                <a:off x="1828800" y="4187880"/>
                <a:ext cx="661032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,y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d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=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,j</m:t>
                        </m:r>
                      </m:sub>
                    </m:sSub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para</m:t>
                    </m:r>
                    <m:r>
                      <m:t xml:space="preserve"> </m:t>
                    </m:r>
                    <m:r>
                      <m:t xml:space="preserve">2</m:t>
                    </m:r>
                    <m:r>
                      <m:t xml:space="preserve">≤</m:t>
                    </m:r>
                    <m:r>
                      <m:t xml:space="preserve">j</m:t>
                    </m:r>
                    <m:r>
                      <m:t xml:space="preserve">≤</m:t>
                    </m:r>
                    <m:r>
                      <m:t xml:space="preserve">m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la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erecha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jemplo con grilla 5x5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12560" y="12207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tiquetamos los puntos interiores como se muestra a continuación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85800" y="4572000"/>
            <a:ext cx="6591240" cy="274320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3"/>
          <a:stretch/>
        </p:blipFill>
        <p:spPr>
          <a:xfrm>
            <a:off x="5253120" y="1600200"/>
            <a:ext cx="3205080" cy="2828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jemplo grilla 5x5 (...)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29920" y="173052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lema: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terminar la solución aproximada de la ecuación de Laplace en el rectángulo                                   donde u(x,y) denota la temperatura en un punto (x,y), los valores de frontera son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(x,0) = 20       0 &lt; x &lt; 4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(x,4) = 180     0  &lt; x &lt; 4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(0,y) = 80       0 &lt; y &lt; 4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(4,y) =0           0 &lt;y &lt; 4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6400800" y="2185920"/>
                <a:ext cx="3657600" cy="32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=</m:t>
                    </m:r>
                    <m:d>
                      <m:dPr>
                        <m:begChr m:val="{"/>
                        <m:endChr m:val="}"/>
                      </m:dP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x,y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:0</m:t>
                        </m:r>
                        <m:r>
                          <m:t xml:space="preserve">≤</m:t>
                        </m:r>
                        <m:r>
                          <m:t xml:space="preserve">x</m:t>
                        </m:r>
                        <m:r>
                          <m:t xml:space="preserve">≤</m:t>
                        </m:r>
                        <m:r>
                          <m:rPr>
                            <m:lit/>
                            <m:nor/>
                          </m:rPr>
                          <m:t xml:space="preserve">4,0</m:t>
                        </m:r>
                        <m:r>
                          <m:t xml:space="preserve">≤</m:t>
                        </m:r>
                        <m:r>
                          <m:t xml:space="preserve">y</m:t>
                        </m:r>
                        <m:r>
                          <m:t xml:space="preserve">≤</m:t>
                        </m:r>
                        <m:r>
                          <m:t xml:space="preserve">4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jemplo con grilla 5x5 (...)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228600" y="1371600"/>
            <a:ext cx="3429000" cy="297180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3990960" y="1828800"/>
            <a:ext cx="5838840" cy="251460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4"/>
          <a:stretch/>
        </p:blipFill>
        <p:spPr>
          <a:xfrm>
            <a:off x="1828800" y="5486400"/>
            <a:ext cx="5533920" cy="131436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1336680" y="5011560"/>
            <a:ext cx="4871880" cy="4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4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r ejemplo, con Método de Gauss ..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nstrucción de sistema lineal</a:t>
            </a:r>
            <a:br>
              <a:rPr sz="44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Condiciones de borde de Neumann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rresponde a cuando se especifican valores de la derivada direccional de u(x,y) en la dirección perpendicular al contorno 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jemplo: supongamos qu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 el contexto de los problemas de temperatura, significa contorno aislado, no hay flujo de calor a través de é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ara                                                    , la condición de contorno de la derivada para x = a e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1" name=""/>
              <p:cNvSpPr txBox="1"/>
              <p:nvPr/>
            </p:nvSpPr>
            <p:spPr>
              <a:xfrm>
                <a:off x="5715000" y="2889360"/>
                <a:ext cx="1828800" cy="76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u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x,y</m:t>
                            </m:r>
                          </m:e>
                        </m:d>
                      </m:num>
                      <m:den>
                        <m:r>
                          <m:t xml:space="preserve">∂</m:t>
                        </m:r>
                        <m:r>
                          <m:t xml:space="preserve">n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" name=""/>
              <p:cNvSpPr txBox="1"/>
              <p:nvPr/>
            </p:nvSpPr>
            <p:spPr>
              <a:xfrm>
                <a:off x="2286000" y="4929120"/>
                <a:ext cx="3686040" cy="32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=</m:t>
                    </m:r>
                    <m:d>
                      <m:dPr>
                        <m:begChr m:val="{"/>
                        <m:endChr m:val="}"/>
                      </m:dP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x,y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:0</m:t>
                        </m:r>
                        <m:r>
                          <m:t xml:space="preserve">≤</m:t>
                        </m:r>
                        <m:r>
                          <m:t xml:space="preserve">x</m:t>
                        </m:r>
                        <m:r>
                          <m:t xml:space="preserve">≤</m:t>
                        </m:r>
                        <m:r>
                          <m:rPr>
                            <m:lit/>
                            <m:nor/>
                          </m:rPr>
                          <m:t xml:space="preserve">a,</m:t>
                        </m:r>
                        <m:r>
                          <m:t xml:space="preserve">0</m:t>
                        </m:r>
                        <m:r>
                          <m:t xml:space="preserve">≤</m:t>
                        </m:r>
                        <m:r>
                          <m:t xml:space="preserve">y</m:t>
                        </m:r>
                        <m:r>
                          <m:t xml:space="preserve">≤</m:t>
                        </m:r>
                        <m:r>
                          <m:t xml:space="preserve">b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3" name=""/>
              <p:cNvSpPr txBox="1"/>
              <p:nvPr/>
            </p:nvSpPr>
            <p:spPr>
              <a:xfrm>
                <a:off x="2103480" y="6054840"/>
                <a:ext cx="3568680" cy="80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u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,y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</m:den>
                    </m:f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=u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,y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nstrucción de sistema lineal</a:t>
            </a:r>
            <a:br>
              <a:rPr sz="44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Condiciones de borde de Neumann) ..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29920" y="173052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a ecuación de diferencias de Laplace par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onde el valor                        es desconocido pues está fuera del dominio R. Sin embargo, podemos usar la fórmula de la derivación numérica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Y obtenemos la fórmula que relaciona              con sus valores adyacent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6" name=""/>
              <p:cNvSpPr txBox="1"/>
              <p:nvPr/>
            </p:nvSpPr>
            <p:spPr>
              <a:xfrm>
                <a:off x="1828800" y="2286000"/>
                <a:ext cx="53038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+</m:t>
                        </m:r>
                        <m:r>
                          <m:rPr>
                            <m:lit/>
                            <m:nor/>
                          </m:rPr>
                          <m:t xml:space="preserve">1j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+u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j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4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j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+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j+</m:t>
                        </m:r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+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j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7589880" y="1663560"/>
                <a:ext cx="127944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,y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3784680" y="2743200"/>
                <a:ext cx="78732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+</m:t>
                        </m:r>
                        <m:r>
                          <m:rPr>
                            <m:lit/>
                            <m:nor/>
                          </m:rPr>
                          <m:t xml:space="preserve">1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1143000" y="4114800"/>
                <a:ext cx="3657600" cy="81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j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j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h</m:t>
                        </m:r>
                      </m:den>
                    </m:f>
                    <m:r>
                      <m:t xml:space="preserve">≈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,y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" name=""/>
              <p:cNvSpPr txBox="1"/>
              <p:nvPr/>
            </p:nvSpPr>
            <p:spPr>
              <a:xfrm>
                <a:off x="6629400" y="4270320"/>
                <a:ext cx="210348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+</m:t>
                        </m:r>
                        <m:r>
                          <m:rPr>
                            <m:lit/>
                            <m:nor/>
                          </m:rPr>
                          <m:t xml:space="preserve">1j</m:t>
                        </m:r>
                      </m:sub>
                    </m:sSub>
                    <m:r>
                      <m:t xml:space="preserve">≈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" name=""/>
              <p:cNvSpPr txBox="1"/>
              <p:nvPr/>
            </p:nvSpPr>
            <p:spPr>
              <a:xfrm>
                <a:off x="6858000" y="5029200"/>
                <a:ext cx="54936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" name=""/>
              <p:cNvSpPr txBox="1"/>
              <p:nvPr/>
            </p:nvSpPr>
            <p:spPr>
              <a:xfrm>
                <a:off x="1600200" y="6172200"/>
                <a:ext cx="45370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j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4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j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+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j+</m:t>
                        </m:r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+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j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nstrucción de sistema lineal</a:t>
            </a:r>
            <a:br>
              <a:rPr sz="44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Condiciones de borde de Neumann) ..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29920" y="173052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as condiciones de Neumann para los puntos de los demás lados se obtiene de manera similar. Los cuatro casos son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2"/>
          <a:stretch/>
        </p:blipFill>
        <p:spPr>
          <a:xfrm>
            <a:off x="1143000" y="3313080"/>
            <a:ext cx="7699320" cy="2401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nstrucción de sistema lineal</a:t>
            </a:r>
            <a:br>
              <a:rPr sz="44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Condiciones de borde de Neumann) ..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1971720" y="1828800"/>
            <a:ext cx="6257880" cy="500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jemplo con condiciones de borde mixta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228240" y="1828800"/>
            <a:ext cx="9070920" cy="3651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lema: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terminar la solución aproximada de la ecuación de Laplace en el rectángulo                                   donde u(x,y) denota la temperatura en un punto (x,y), los valores de frontera son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28440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(x,4) = 180       0 &lt; x &lt; 4   (Dirichlet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28440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x,0) = 0          0  &lt; x &lt; 4  (Neumann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28440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(0,y) = 80         0 &lt; y &lt; 4   (Dirichlet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28440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(4,y) =0           0 &lt;y &lt; 4     (Dirichlet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0" name=""/>
              <p:cNvSpPr txBox="1"/>
              <p:nvPr/>
            </p:nvSpPr>
            <p:spPr>
              <a:xfrm>
                <a:off x="6172200" y="2286000"/>
                <a:ext cx="3657600" cy="32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=</m:t>
                    </m:r>
                    <m:d>
                      <m:dPr>
                        <m:begChr m:val="{"/>
                        <m:endChr m:val="}"/>
                      </m:dP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x,y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:0</m:t>
                        </m:r>
                        <m:r>
                          <m:t xml:space="preserve">≤</m:t>
                        </m:r>
                        <m:r>
                          <m:t xml:space="preserve">x</m:t>
                        </m:r>
                        <m:r>
                          <m:t xml:space="preserve">≤</m:t>
                        </m:r>
                        <m:r>
                          <m:rPr>
                            <m:lit/>
                            <m:nor/>
                          </m:rPr>
                          <m:t xml:space="preserve">4,0</m:t>
                        </m:r>
                        <m:r>
                          <m:t xml:space="preserve">≤</m:t>
                        </m:r>
                        <m:r>
                          <m:t xml:space="preserve">y</m:t>
                        </m:r>
                        <m:r>
                          <m:t xml:space="preserve">≤</m:t>
                        </m:r>
                        <m:r>
                          <m:t xml:space="preserve">4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503280" y="345960"/>
            <a:ext cx="9070920" cy="11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16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cuaciones en derivadas parcia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03280" y="1768320"/>
            <a:ext cx="9070920" cy="489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4840" bIns="0" anchor="t">
            <a:no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volucran una función desconocida </a:t>
            </a:r>
            <a:r>
              <a:rPr b="0" i="1" lang="en-US" sz="2800" spc="-1" strike="noStrike">
                <a:solidFill>
                  <a:srgbClr val="0000ff"/>
                </a:solidFill>
                <a:latin typeface="Arial"/>
              </a:rPr>
              <a:t>u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 dos o más variables independie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álida sobre un dominio geométrico =&gt; discretizació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iciones de borde e inici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94476b"/>
                </a:solidFill>
                <a:latin typeface="Arial"/>
              </a:rPr>
              <a:t>(Sección 10.3, capítulo 10, Mathews-Fink,  apuntes de MC. Rivar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4734000" y="3630600"/>
                <a:ext cx="71280" cy="16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4719600" y="3576600"/>
                <a:ext cx="71640" cy="16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Grilla de 5x5 (12 incógnitas)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2"/>
          <a:stretch/>
        </p:blipFill>
        <p:spPr>
          <a:xfrm>
            <a:off x="2719440" y="1862280"/>
            <a:ext cx="4790880" cy="3895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Grilla de 5x5 (12 incógnitas)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2"/>
          <a:stretch/>
        </p:blipFill>
        <p:spPr>
          <a:xfrm>
            <a:off x="1371600" y="1371600"/>
            <a:ext cx="8058240" cy="373392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3"/>
          <a:stretch/>
        </p:blipFill>
        <p:spPr>
          <a:xfrm>
            <a:off x="3286080" y="5715000"/>
            <a:ext cx="5857920" cy="1362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esumen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étodo de diferencias finita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blemas que se modelan usando la ecuación de Lapla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diciones de borde Dirichlet, Neumann y mixt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strucción del sistema de ecuacion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uidado con la numeración de los puntos para lograr un sistema pentadiagonal  (solución más eficient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asificación de EDP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ásicas 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1828800" y="1646280"/>
                <a:ext cx="4664160" cy="69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²</m:t>
                        </m:r>
                        <m:r>
                          <m:t xml:space="preserve">u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rPr>
                            <m:lit/>
                            <m:nor/>
                          </m:rPr>
                          <m:t xml:space="preserve">x²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+B</m:t>
                    </m:r>
                    <m:f>
                      <m:num>
                        <m:r>
                          <m:t xml:space="preserve">∂</m:t>
                        </m:r>
                        <m:r>
                          <m:rPr>
                            <m:lit/>
                            <m:nor/>
                          </m:rPr>
                          <m:t xml:space="preserve">²u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rPr>
                            <m:lit/>
                            <m:nor/>
                          </m:rPr>
                          <m:t xml:space="preserve">xy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+C</m:t>
                    </m:r>
                    <m:f>
                      <m:num>
                        <m:r>
                          <m:t xml:space="preserve">∂</m:t>
                        </m:r>
                        <m:r>
                          <m:rPr>
                            <m:lit/>
                            <m:nor/>
                          </m:rPr>
                          <m:t xml:space="preserve">²u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rPr>
                            <m:lit/>
                            <m:nor/>
                          </m:rPr>
                          <m:t xml:space="preserve">y²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=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x,y,u,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u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u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y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34" name=""/>
          <p:cNvSpPr/>
          <p:nvPr/>
        </p:nvSpPr>
        <p:spPr>
          <a:xfrm>
            <a:off x="888840" y="2627280"/>
            <a:ext cx="93204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4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ar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1600200" y="2689200"/>
                <a:ext cx="2266920" cy="32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x</m:t>
                    </m:r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,y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y</m:t>
                    </m:r>
                    <m:r>
                      <m:t xml:space="preserve">≤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6" name=""/>
          <p:cNvSpPr/>
          <p:nvPr/>
        </p:nvSpPr>
        <p:spPr>
          <a:xfrm>
            <a:off x="4151160" y="2657520"/>
            <a:ext cx="543744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4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y con las condiciones de borde para u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ominio rectangul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2514600" y="3448080"/>
                <a:ext cx="365760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u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x,y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=b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u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x,y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e>
                        </m:d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=b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</m:e>
                      <m:e>
                        <m:r>
                          <m:t xml:space="preserve">u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0,</m:t>
                                </m:r>
                              </m:sub>
                            </m:sSub>
                            <m:r>
                              <m:t xml:space="preserve">y</m:t>
                            </m:r>
                          </m:e>
                        </m:d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=b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y</m:t>
                            </m:r>
                          </m:e>
                        </m:d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u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,y</m:t>
                            </m:r>
                          </m:e>
                        </m:d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=b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y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38" name=""/>
          <p:cNvSpPr/>
          <p:nvPr/>
        </p:nvSpPr>
        <p:spPr>
          <a:xfrm>
            <a:off x="968400" y="4170240"/>
            <a:ext cx="6616800" cy="19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4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stas EDPs pueden ser clasificadas en tres grupo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EDP elíptic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si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EDP parabólic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EDP hiperbólic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i: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3657600" y="4800600"/>
                <a:ext cx="1371600" cy="27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²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4AC</m:t>
                    </m:r>
                    <m:r>
                      <m:t xml:space="preserve">&l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3657600" y="5257800"/>
                <a:ext cx="137160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²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4AC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3657600" y="5715000"/>
                <a:ext cx="137160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²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4AC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DPs Elíptica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blemas de estado estacionario (no son función del tiempo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Ecuación de Laplace                         en </a:t>
            </a:r>
            <a:r>
              <a:rPr b="0" lang="en-US" sz="2400" spc="-1" strike="noStrike">
                <a:solidFill>
                  <a:srgbClr val="000000"/>
                </a:solidFill>
                <a:latin typeface="DejaVu Sans"/>
                <a:ea typeface="DejaVu Sans"/>
              </a:rPr>
              <a:t>Ω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Ecuación de Poisson                              en  </a:t>
            </a:r>
            <a:r>
              <a:rPr b="0" lang="en-US" sz="2400" spc="-1" strike="noStrike">
                <a:solidFill>
                  <a:srgbClr val="000000"/>
                </a:solidFill>
                <a:latin typeface="DejaVu Sans"/>
                <a:ea typeface="DejaVu Sans"/>
              </a:rPr>
              <a:t>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8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8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jaVu Sans"/>
                <a:ea typeface="DejaVu Sans"/>
              </a:rPr>
              <a:t>Condiciones de bor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8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jaVu Sans"/>
                <a:ea typeface="DejaVu Sans"/>
              </a:rPr>
              <a:t>Dirichlet                        en    Ƭ</a:t>
            </a:r>
            <a:r>
              <a:rPr b="0" lang="en-US" sz="1400" spc="-1" strike="noStrike">
                <a:solidFill>
                  <a:srgbClr val="000000"/>
                </a:solidFill>
                <a:latin typeface="DejaVu Sans"/>
                <a:ea typeface="DejaVu San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DejaVu Sans"/>
                <a:ea typeface="DejaVu Sans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8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jaVu Sans"/>
                <a:ea typeface="DejaVu Sans"/>
              </a:rPr>
              <a:t>Neumann                        en   Ƭ</a:t>
            </a:r>
            <a:r>
              <a:rPr b="0" lang="en-US" sz="1400" spc="-1" strike="noStrike">
                <a:solidFill>
                  <a:srgbClr val="000000"/>
                </a:solidFill>
                <a:latin typeface="DejaVu Sans"/>
                <a:ea typeface="DejaVu Sans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4683240" y="3605040"/>
                <a:ext cx="71892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4541760" y="3200400"/>
                <a:ext cx="208764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²</m:t>
                        </m:r>
                        <m:r>
                          <m:t xml:space="preserve">u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rPr>
                            <m:lit/>
                            <m:nor/>
                          </m:rPr>
                          <m:t xml:space="preserve">x²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∂</m:t>
                        </m:r>
                        <m:r>
                          <m:rPr>
                            <m:lit/>
                            <m:nor/>
                          </m:rPr>
                          <m:t xml:space="preserve">²u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rPr>
                            <m:lit/>
                            <m:nor/>
                          </m:rPr>
                          <m:t xml:space="preserve">y²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=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x,y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4554360" y="2473200"/>
                <a:ext cx="150516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²</m:t>
                        </m:r>
                        <m:r>
                          <m:t xml:space="preserve">u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rPr>
                            <m:lit/>
                            <m:nor/>
                          </m:rPr>
                          <m:t xml:space="preserve">x²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∂</m:t>
                        </m:r>
                        <m:r>
                          <m:rPr>
                            <m:lit/>
                            <m:nor/>
                          </m:rPr>
                          <m:t xml:space="preserve">²u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rPr>
                            <m:lit/>
                            <m:nor/>
                          </m:rPr>
                          <m:t xml:space="preserve">y²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3611520" y="4681440"/>
                <a:ext cx="73188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u=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3749760" y="5157720"/>
                <a:ext cx="822240" cy="55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u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n</m:t>
                        </m:r>
                      </m:den>
                    </m:f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=f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4683240" y="3605040"/>
                <a:ext cx="71892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4683240" y="3605040"/>
                <a:ext cx="71892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4683240" y="3605040"/>
                <a:ext cx="71892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6629400" y="4114800"/>
            <a:ext cx="2971800" cy="160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10944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jemplo: Ecuación de Laplac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3855960" y="1619280"/>
                <a:ext cx="150516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²</m:t>
                        </m:r>
                        <m:r>
                          <m:t xml:space="preserve">u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rPr>
                            <m:lit/>
                            <m:nor/>
                          </m:rPr>
                          <m:t xml:space="preserve">x²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∂</m:t>
                        </m:r>
                        <m:r>
                          <m:rPr>
                            <m:lit/>
                            <m:nor/>
                          </m:rPr>
                          <m:t xml:space="preserve">²u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rPr>
                            <m:lit/>
                            <m:nor/>
                          </m:rPr>
                          <m:t xml:space="preserve">y²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 tenemos                                  con            en   </a:t>
            </a:r>
            <a:r>
              <a:rPr b="0" lang="en-US" sz="2400" spc="-1" strike="noStrike">
                <a:solidFill>
                  <a:srgbClr val="000000"/>
                </a:solidFill>
                <a:latin typeface="DejaVu Sans"/>
                <a:ea typeface="DejaVu Sans"/>
              </a:rPr>
              <a:t>Ƭ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e deseamos encontrar?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ómo resolverla?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uméricam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é conceptos debemos utiliza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7040520" y="1828800"/>
                <a:ext cx="73188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u=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6629400" y="2446200"/>
            <a:ext cx="3097080" cy="189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jemplo: Ecuación de Laplac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539640" y="2133720"/>
            <a:ext cx="929016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olución aproximada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1143000" y="1828800"/>
            <a:ext cx="7658280" cy="5191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ómo la resolvemos?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aremos diferencias finita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écnica  numéric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Discretizar el domin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Aproximar los operadores diferenciales por operadores de diferenci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Laplaciano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1600200" y="3995640"/>
                <a:ext cx="3200400" cy="80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²</m:t>
                        </m:r>
                        <m:r>
                          <m:t xml:space="preserve">u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rPr>
                            <m:lit/>
                            <m:nor/>
                          </m:rPr>
                          <m:t xml:space="preserve">x²</m:t>
                        </m:r>
                      </m:den>
                    </m:f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j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+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j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h²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1630440" y="6068880"/>
            <a:ext cx="7056360" cy="78912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3"/>
          <a:stretch/>
        </p:blipFill>
        <p:spPr>
          <a:xfrm>
            <a:off x="5715000" y="3657600"/>
            <a:ext cx="3886200" cy="20574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4T17:01:49Z</dcterms:created>
  <dc:creator/>
  <dc:description/>
  <dc:language>en-US</dc:language>
  <cp:lastModifiedBy>Nancy Hitschfeld</cp:lastModifiedBy>
  <dcterms:modified xsi:type="dcterms:W3CDTF">2012-03-20T00:49:17Z</dcterms:modified>
  <cp:revision>44</cp:revision>
  <dc:subject/>
  <dc:title/>
</cp:coreProperties>
</file>