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19A-7413-428F-AFB3-F2E92C86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5DC-E949-4ADB-88FE-AFEEC943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492-EBF3-47B9-8FF3-534DAD31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8FF-27D9-4027-A3EF-80ACDC5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8A1F-4ACB-4FD6-AEBB-1BB5CDE9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A4EE-5A4A-4D43-B60C-0C58841D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963-6662-4243-B5DE-2062B57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743-9F55-4321-8B4D-4F9E829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6D27-FBFD-4D4B-9830-72E4F4E5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9BFE-96A0-4551-B4D4-0C8B84F3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7955-4C6B-4605-A346-784A22C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79C-0973-4D99-842D-37D79CF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035F-599C-4D4F-BB3C-2A80BE8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ABDE-0B4B-4F19-AA88-8B64753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ED4-5772-48E6-87A3-EC7BA556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3D5-6C4A-4D3A-A6C2-0FBA5CDB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33DA-0AE8-4386-90F5-8177A8FD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FF8-59E7-4618-BBCF-5129479F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B60-B01B-439B-AB6B-C1A2AFD6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30B-462A-4D27-9C05-AD29E880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BB0-F2F8-43D7-8510-0B7D448E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B79-B465-44E8-8190-B63C3E3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7CA-82E7-44F3-9774-D2BE73B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F9F-A9BF-42DC-9294-4ECE249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847D9-C5D4-45F9-8BA1-C65C0F6EB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7D35-CB96-45E9-84DA-CF106D89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ractal_landscape" TargetMode="External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works.com/products/matlab/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, Discretización, Hardware y Métod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guntas fundament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superficies en 3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objetos con volum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funciones matemáticas explicit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aproximaciones/discretizaciones de funciones desconocidas? o conocid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visualizamos estos mode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ación reali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992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amiento matemático computacional de escenas 2D o 3D (computación gráfica 3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sca  rigurosidad sino impres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tenimiento (juegos, pelí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7640" y="4572000"/>
            <a:ext cx="255276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29000" y="46004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81800" y="2286000"/>
            <a:ext cx="1990800" cy="229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48320" y="4800600"/>
            <a:ext cx="2924280" cy="207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22640" y="6283440"/>
            <a:ext cx="1704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ndo frac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y visualización realista son técnicas que interactú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científica usa elementos de visualización re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realista usa elementos de visualiz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ación gráfica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matemático computacional de una escena 3D que se visualiza en pantalla/dispositivo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ación de la escena y sus objeto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ge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proy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de iliminación que permite pintar en el dispositvo raster (pantalla discretizad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goritmos para: eliminar partes de objetos que no se ven, pintar sobre un dispositivo rast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: un concepto muy útil y ampl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920" y="1143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matemático que aproxima y representa un un objeto continuo en base a un número finito de elementos básicos (puntos, polígonos, pedacitos cur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resentación/modelo computacional asociado al modelo ma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istint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Cómo elegir el mejor? (depende de los requer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76800" y="47052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05040" y="4751280"/>
            <a:ext cx="252540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ende de los requerimientos de la 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ficie: triángulos, cuadriláteros (amb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estricta en aplicaciones científicas: restricciones de ángulos (mínimo y máximo), área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relajada en entretenimientos (juegos, cine):   basta que se vea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05200" y="45054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o en tres dimensiones (sólido)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traedros, hexaedros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rámides, prismas (tod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esa el volumen (interior de los obje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aplicaciones científicas: temperatura, fluido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66424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6200" y="4800600"/>
            <a:ext cx="48402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una placa cuadrada (geometría simp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le asocia una grilla y se estructura la información en una matriz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atos: conjunto de puntos; aproximación no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uniforme de polígonos( triángulos o cuadriláteros):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permite manejar además  información de una superfici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normales, área, etc)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Aproximación continu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57280" y="48769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00680" y="5029200"/>
            <a:ext cx="44575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placa 2D con forma de 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puede asociar una grilla. Matriz? Si, con cu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de polígonos: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permite obten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información de superficie (normales, área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05720" y="433404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14400" y="4514760"/>
            <a:ext cx="187488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superficie de un terreno. Inp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de puntos equidistribuidos (satélite)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ición, altura.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Se asocia grilla y estructura de tipo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ómo visualizar la topografía del terr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Malla de polígonos: cuadrilateros y triá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426708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iscre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y métodos numé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raster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odelo es un arreglo rectangular de pix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picture element):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lemento más pequeño (con área distinta de cero) accesible para pintar en el dispositivo r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solución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úmero total de puntos en cada dirección.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Ejes alineados con la pantalla. Normalmente se especific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ncho x alto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. Ejemplo 1920x108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434340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85920" y="42670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: Pantalla r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de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ubo de rayos catódicos (C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ntallas de crista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da pixel se enciende/pinta por cort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z de electrones golpea al pixel (fósforo) y se enc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asa de refresco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iempo necesario para encender la imagen nuev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fresc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Barrido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según líneas horizontales, de arriba hacia 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05840" y="2809800"/>
            <a:ext cx="229536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me buffer/ buffer de refres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271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de memoria (arreglo) donde  se almacena la imagen (e información de ésta) asociada a la pantall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blanco y negr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bit po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a color RG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-green-blue): 24 bits/pixel, por ejemp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gráfic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ad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(uno m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dor gráfico GPU (Graphic process unit). Acelera proceso gráfico realizando muchas operaciones por hardware y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6000"/>
            <a:ext cx="90709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 y métodos numéricos: solución numérica de una ecuación diferencial orfdinaria (ED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' = dy/dt = f(t,y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0) = 0   (problema de valor ini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roblema: Encontrar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t)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tal qu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y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ase por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= (0,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No siempre existe una solución explícita (no es posible hay una fórmula que represente la solución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) entonces podemos encontrar una solución aproxi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todo de Eu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emos un número finito de pun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Cómo encontrar estos puntos en el intervalo [a,b] 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(a = 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= a +kh  para k = 0, 1, …m donde h = (b-a)/m =b/m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+1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= 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+ h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640080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retización y métodos numér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niendo qu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continuas y usando el teorema de Taylor para desarroll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dedor 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=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cada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al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l sustituir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 = 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h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Si h es suficientemente pequeño podemos despreciar el término que contien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²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y ob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aproximación de Eul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pitiendo el proceso podemos formular el paso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+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uaciones diferenciales parciales (EDP) elípticas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os problemas en física e ingeniería se modelan matemáticamente con ecuaciones diferenciale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ecuación diferencial en donde aparecen dos o más variables independiente se llam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en derivada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de Lapl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Dirich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Neu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Modela fenómenos estacionarios: potencial electrostático o distribución de 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52480" y="3782880"/>
                <a:ext cx="1305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35600" y="3878280"/>
            <a:ext cx="232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0040" y="397188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0040" y="439416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50960" y="4300560"/>
            <a:ext cx="4521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43240" y="4740120"/>
                <a:ext cx="1028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200400" y="5173560"/>
                <a:ext cx="117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ED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o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úmene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de diferencias finitas para ecuación de Laplace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o de aproxima por una g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e intui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aproximar operadores diferenciales mediante operadores de di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roxima el valor d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(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00120" y="3516480"/>
            <a:ext cx="7056360" cy="78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écnicas de visualización para ilustrar graficamente datos científicos de tal manera de facilitar  la comprensión de éstos (grandes volumenes de da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</a:t>
            </a:r>
            <a:r>
              <a:rPr b="0" lang="en-US" sz="2000" spc="-1" strike="noStrike">
                <a:solidFill>
                  <a:srgbClr val="94476b"/>
                </a:solidFill>
                <a:latin typeface="Arial"/>
              </a:rPr>
              <a:t> http://en.wikipedia.org/wiki/Scientific_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realist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écnicas para visualizar escenas generadas por el computador de modo que parezcan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Fractal_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ción numé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1000" y="1406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ción numér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es la aproximación de la solución exacta el el conjunto de puntos d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escribe una ecuación de diferencias por cada punto de la gr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agregan ecuaciones asociadas a las 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obtiene un sistema lineal de ecuacione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ũ=b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en las variables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Se resuelve por métdodos iterativos o 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exacta de la EDP es una superficie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numérica es una función discreta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ramienta a usar para obtner soluciones numé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mate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uaje técnico de alto nivel procedural, basado en ma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ciones numéricas, análisis de datos, visualización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:  mathswork.co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io de matlab: (demo y tuto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athworks.com/products/matla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capturados/medidos por instrumentos/satélit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atos meteorológicos, terrestres, astronómic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generados por simulaciones comput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iones matemáticas explíci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Visualizar una esfera x²+y²+z² = r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14520" y="4029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4029120"/>
            <a:ext cx="213372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s natura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rmación de estrellas, moléculas, 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fía y Ecologí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presentación de la topografía,  simulación del clima, contaminación atmosféric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 aplicad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seño de aviones, visualización de ciudades, diseño de semiconductor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y minerí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isualización de sitios de exploración minera, yacimientos explotad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ía y medicina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oyo a la cirugía, estudio de estructuras bi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un terreno para x,y en un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la solución de una EDP en un domin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6120" y="2952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971800" y="4610160"/>
            <a:ext cx="2257560" cy="201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48240" y="269568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48440" y="4800600"/>
            <a:ext cx="232416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iene en común  la visualización de los problemas anteriores?  Es fácil? En qué se diferenci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(2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r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r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19600" y="1828800"/>
            <a:ext cx="4210200" cy="20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479124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886360" y="469584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 de datos de Volumen: ejemplo temperatura en un obje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10440" y="320040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876400" cy="212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831960" y="3060720"/>
            <a:ext cx="282564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4:09:29Z</dcterms:created>
  <dc:creator/>
  <dc:description/>
  <dc:language>en-US</dc:language>
  <cp:lastModifiedBy/>
  <dcterms:modified xsi:type="dcterms:W3CDTF">2012-03-13T15:19:14Z</dcterms:modified>
  <cp:revision>34</cp:revision>
  <dc:subject/>
  <dc:title/>
</cp:coreProperties>
</file>