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458B-B3B7-4E65-B65E-89D96A91E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FAD0-DDFB-4162-A30E-7A3D3E11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730A-4CF0-4AB7-BD44-B8974D171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01DE-78E3-4126-9CC0-AC94FD059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EEBB6-A0C2-454A-B947-FBE24250F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CA2E-DBE8-4616-964F-EFF6D9D9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2BC9-2E91-4CCB-9370-AF3434CC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63E2-1E36-4385-9B0E-014DB363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3F129-79E3-4326-B307-5206BB8F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ABA7D-624B-4544-AF3D-448AB10E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77A4-FEC6-48E5-ACB6-7CDCF623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7D39-6BD1-49C7-A00B-2E34E724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5A31-D0D8-4327-B603-CDE11B1C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12950-045E-4579-BD1F-FD7A7B1D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17A1-0BFC-414A-AA1A-E7969B3A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EC22-9577-4AFD-8B5F-6CB312CA7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48895-6964-4D1B-A954-7FADF4D8A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61F4-CAF0-4907-A3C2-3E1E820C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0557-9083-4331-A04B-6D88F21E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145E-5D24-4837-9477-1921307E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83BF-7621-4539-A761-B82EFA77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35A7-9035-4E36-8F45-187C4BEF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F0E5-523A-4E0D-8250-EE8DC10E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76D6-DCD6-42F9-B541-D1AE2F60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63D32-40BA-469D-A607-E45F423A9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62C2E7-F35D-4C6D-90A5-CE299ABD4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n.wikipedia.org/wiki/Fractal_landscape" TargetMode="External"/><Relationship Id="rId3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mathworks.com/products/matlab/" TargetMode="External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8360" y="44280"/>
            <a:ext cx="9070920" cy="66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ización, Discretización, Hardware y Métodos Numér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guntas fundamental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mo modelamos superficies en 3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mo modelamos objetos con volume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mo modelamos funciones matemáticas explicita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mo modelamos aproximaciones/discretizaciones de funciones desconocidas? o conocida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mo visualizamos estos modelo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sualización realist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29920" y="15019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amiento matemático computacional de escenas 2D o 3D (computación gráfica 3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usca  rigurosidad sino impresio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lica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etenimiento (juegos, películ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47640" y="4572000"/>
            <a:ext cx="2552760" cy="1628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29000" y="4600440"/>
            <a:ext cx="2095560" cy="15717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381800" y="2286000"/>
            <a:ext cx="1990800" cy="2295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6448320" y="4800600"/>
            <a:ext cx="2924280" cy="20764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222640" y="6283440"/>
            <a:ext cx="17049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9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ndo frac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sualización científica y visualización realista son técnicas que interactú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ización científica usa elementos de visualización rea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ización realista usa elementos de visualización cientí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utación gráfica 3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ación matemático computacional de una escena 3D que se visualiza en pantalla/dispositivo 2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odelación de la escena y sus objetos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ransformaciones geométr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ransformaciones de proyec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odelo de iliminación que permite pintar en el dispositvo raster (pantalla discretizad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lgoritmos para: eliminar partes de objetos que no se ven, pintar sobre un dispositivo rast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retización: un concepto muy útil y ampli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29920" y="114300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etiz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odelo matemático que aproxima y representa un un objeto continuo en base a un número finito de elementos básicos (puntos, polígonos, pedacitos curv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presentación/modelo computacional asociado al modelo matem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94476b"/>
                </a:solidFill>
                <a:latin typeface="Arial"/>
              </a:rPr>
              <a:t>Distintas alterna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94476b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94476b"/>
                </a:solidFill>
                <a:latin typeface="Arial"/>
              </a:rPr>
              <a:t>Cómo elegir el mejor? (depende de los requerimien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276800" y="4705200"/>
            <a:ext cx="2124000" cy="2152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7086600" y="48006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905040" y="4751280"/>
            <a:ext cx="2525400" cy="20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ómo modelamos/discretizamos objetos 3D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Depende de los requerimientos de la apl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erficie: triángulos, cuadriláteros (ambo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ás estricta en aplicaciones científicas: restricciones de ángulos (mínimo y máximo), área, et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ás relajada en entretenimientos (juegos, cine):   basta que se vea bi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752480" y="48006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705200" y="4505400"/>
            <a:ext cx="2152800" cy="212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ómo modelamos/discretizamos objetos 3D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29920" y="12733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to en tres dimensiones (sólido):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tetraedros, hexaedros,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irámides, prismas (todo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esa el volumen (interior de los objet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aplicaciones científicas: temperatura, fluidos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657600" y="2971800"/>
            <a:ext cx="5664240" cy="1828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646200" y="4800600"/>
            <a:ext cx="4840200" cy="251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jemplos de discretizacio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retizar una placa cuadrada (geometría simp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untos equidistribuído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 le asocia una grilla y se estructura la información en una matriz. </a:t>
            </a:r>
            <a:r>
              <a:rPr b="0" lang="en-US" sz="2400" spc="-1" strike="noStrike">
                <a:solidFill>
                  <a:srgbClr val="94476b"/>
                </a:solidFill>
                <a:latin typeface="Arial"/>
              </a:rPr>
              <a:t>Datos: conjunto de puntos; aproximación no contin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alla uniforme de polígonos( triángulos o cuadriláteros):</a:t>
            </a:r>
            <a:r>
              <a:rPr b="0" lang="en-US" sz="2400" spc="-1" strike="noStrike">
                <a:solidFill>
                  <a:srgbClr val="314004"/>
                </a:solidFill>
                <a:latin typeface="Arial"/>
              </a:rPr>
              <a:t> permite manejar además  información de una superfici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normales, área, etc). </a:t>
            </a:r>
            <a:r>
              <a:rPr b="0" lang="en-US" sz="2400" spc="-1" strike="noStrike">
                <a:solidFill>
                  <a:srgbClr val="94476b"/>
                </a:solidFill>
                <a:latin typeface="Arial"/>
              </a:rPr>
              <a:t>Aproximación continua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457280" y="4876920"/>
            <a:ext cx="1743120" cy="17524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000680" y="5029200"/>
            <a:ext cx="4457520" cy="150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jemplos de Discretizacio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retizar placa 2D con forma de 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untos Equidistribuído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 puede asociar una grilla. Matriz? Si, con cuid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alla de polígonos: </a:t>
            </a:r>
            <a:r>
              <a:rPr b="0" lang="en-US" sz="2400" spc="-1" strike="noStrike">
                <a:solidFill>
                  <a:srgbClr val="314004"/>
                </a:solidFill>
                <a:latin typeface="Arial"/>
              </a:rPr>
              <a:t>permite obtener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14004"/>
                </a:solidFill>
                <a:latin typeface="Arial"/>
              </a:rPr>
              <a:t> información de superficie (normales, área, et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657600" y="43434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6705720" y="4334040"/>
            <a:ext cx="2209680" cy="2066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914400" y="4514760"/>
            <a:ext cx="1874880" cy="18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jemplos de Discretizacio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retizar superficie de un terreno. Inpu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juntos de puntos equidistribuidos (satélite)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osición, altura. </a:t>
            </a:r>
            <a:r>
              <a:rPr b="0" lang="en-US" sz="2400" spc="-1" strike="noStrike">
                <a:solidFill>
                  <a:srgbClr val="314004"/>
                </a:solidFill>
                <a:latin typeface="Arial"/>
              </a:rPr>
              <a:t>Se asocia grilla y estructura de tipo matr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14004"/>
                </a:solidFill>
                <a:latin typeface="Arial"/>
              </a:rPr>
              <a:t>Cómo visualizar la topografía del terren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14004"/>
                </a:solidFill>
                <a:latin typeface="Arial"/>
              </a:rPr>
              <a:t>Malla de polígonos: cuadrilateros y triángu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61960" y="4267080"/>
            <a:ext cx="2409840" cy="1905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3429000" y="43434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6629400" y="4343400"/>
            <a:ext cx="2743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sualización científica versus Visualización reali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os discreto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retización de obje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retización en hardware gráf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retización y métodos numéri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retización en hardware gráfic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29920" y="12733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ntalla raster: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El modelo es un arreglo rectangular de pixe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Pixe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(picture element): </a:t>
            </a: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Elemento más pequeño (con área distinta de cero) accesible para pintar en el dispositivo ras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Resolución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Número total de puntos en cada dirección.</a:t>
            </a: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 Ejes alineados con la pantalla. Normalmente se especifica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ancho x alto</a:t>
            </a: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. Ejemplo 1920x108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029200" y="3886200"/>
            <a:ext cx="4343400" cy="2781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1285920" y="4267080"/>
            <a:ext cx="214308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retización: Pantalla rast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cnologías de hard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ubo de rayos catódicos (C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antallas de cristal líqu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14004"/>
                </a:solidFill>
                <a:latin typeface="Arial"/>
              </a:rPr>
              <a:t>C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Cada pixel se enciende/pinta por corto tiemp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Haz de electrones golpea al pixel (fósforo) y se encien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Tasa de refresco: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Tiempo necesario para encender la imagen nuevamen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Refresco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Barrido </a:t>
            </a: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 según líneas horizontales, de arriba hacia abaj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715000" y="914400"/>
            <a:ext cx="2552760" cy="1790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7305840" y="2809800"/>
            <a:ext cx="2295360" cy="199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ame buffer/ buffer de refresc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4600" y="12711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Frame buffer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área de memoria (arreglo) donde  se almacena la imagen (e información de ésta) asociada a la pantalla compl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magen blanco y negr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 bit por 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magen a color RG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d-green-blue): 24 bits/pixel, por ejempl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429000" y="3429000"/>
            <a:ext cx="3886200" cy="342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rdware gráfico actu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sador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 (uno má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ador gráfico GPU (Graphic process unit). Acelera proceso gráfico realizando muchas operaciones por hardware y en paral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000" y="36000"/>
            <a:ext cx="907092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retización y métodos numéricos: solución numérica de una ecuación diferencial orfdinaria (EDO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y' = dy/dt = f(t,y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n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y(0) = 0   (problema de valor inici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14004"/>
                </a:solidFill>
                <a:latin typeface="Arial"/>
              </a:rPr>
              <a:t>Problema: Encontrar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y(t) </a:t>
            </a:r>
            <a:r>
              <a:rPr b="0" lang="en-US" sz="2600" spc="-1" strike="noStrike">
                <a:solidFill>
                  <a:srgbClr val="314004"/>
                </a:solidFill>
                <a:latin typeface="Arial"/>
              </a:rPr>
              <a:t>tal que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 y </a:t>
            </a:r>
            <a:r>
              <a:rPr b="0" lang="en-US" sz="2600" spc="-1" strike="noStrike">
                <a:solidFill>
                  <a:srgbClr val="314004"/>
                </a:solidFill>
                <a:latin typeface="Arial"/>
              </a:rPr>
              <a:t>pase por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 (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,y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) = (0,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94476b"/>
                </a:solidFill>
                <a:latin typeface="Arial"/>
              </a:rPr>
              <a:t>No siempre existe una solución explícita (no es posible hay una fórmula que represente la solución de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y(t)</a:t>
            </a:r>
            <a:r>
              <a:rPr b="0" lang="en-US" sz="2200" spc="-1" strike="noStrike">
                <a:solidFill>
                  <a:srgbClr val="94476b"/>
                </a:solidFill>
                <a:latin typeface="Arial"/>
              </a:rPr>
              <a:t>) entonces podemos encontrar una solución aproxim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étodo de Eul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contraremos un número finito de punto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(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,y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Cómo encontrar estos puntos en el intervalo [a,b]  </a:t>
            </a:r>
            <a:r>
              <a:rPr b="0" lang="en-US" sz="2600" spc="-1" strike="noStrike">
                <a:solidFill>
                  <a:srgbClr val="314004"/>
                </a:solidFill>
                <a:latin typeface="Arial"/>
              </a:rPr>
              <a:t>  (a = 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314004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314004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= a +kh  para k = 0, 1, …m donde h = (b-a)/m =b/m</a:t>
            </a:r>
            <a:r>
              <a:rPr b="0" lang="en-US" sz="2600" spc="-1" strike="noStrike">
                <a:solidFill>
                  <a:srgbClr val="314004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314004"/>
                </a:solidFill>
                <a:latin typeface="Arial"/>
              </a:rPr>
              <a:t>k+1</a:t>
            </a:r>
            <a:r>
              <a:rPr b="0" lang="en-US" sz="2600" spc="-1" strike="noStrike">
                <a:solidFill>
                  <a:srgbClr val="314004"/>
                </a:solidFill>
                <a:latin typeface="Arial"/>
              </a:rPr>
              <a:t> = t</a:t>
            </a:r>
            <a:r>
              <a:rPr b="0" lang="en-US" sz="1400" spc="-1" strike="noStrike">
                <a:solidFill>
                  <a:srgbClr val="314004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314004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+ h</a:t>
            </a:r>
            <a:r>
              <a:rPr b="0" lang="en-US" sz="2600" spc="-1" strike="noStrike">
                <a:solidFill>
                  <a:srgbClr val="314004"/>
                </a:solidFill>
                <a:latin typeface="Arial"/>
              </a:rPr>
              <a:t>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6400800"/>
            <a:ext cx="32004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cretización y métodos numéric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oniendo qu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y(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y'(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y''(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n continuas y usando el teorema de Taylor para desarrollar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y(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rededor d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=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ra cada punto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e un punto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re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al q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y(t) = y(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) + y'(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)(t-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) + y''(c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)(t-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)² /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Al sustituir 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y'(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) = f(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,y(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))</a:t>
            </a: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 y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h = 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-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y(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) = y(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) + f(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,y(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))h + y''(c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)h² /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Si h es suficientemente pequeño podemos despreciar el término que contiene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h² </a:t>
            </a: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y obte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y(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 =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y(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) + f(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,y(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))h    </a:t>
            </a: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(aproximación de Eul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Repitiendo el proceso podemos formular el paso ge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y(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k+1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 =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y(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) + f(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,y(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))h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uaciones diferenciales parciales (EDP) elípticas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chos problemas en física e ingeniería se modelan matemáticamente con ecuaciones diferenciales parci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a ecuación diferencial en donde aparecen dos o más variables independiente se llama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cuación en derivadas parci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Ejemplo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cuación de Lapla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                        </a:t>
            </a:r>
            <a:r>
              <a:rPr b="0" lang="en-US" sz="2200" spc="-1" strike="noStrike">
                <a:solidFill>
                  <a:srgbClr val="314004"/>
                </a:solidFill>
                <a:latin typeface="Arial"/>
              </a:rPr>
              <a:t>en </a:t>
            </a:r>
            <a:r>
              <a:rPr b="0" lang="en-US" sz="2200" spc="-1" strike="noStrike">
                <a:solidFill>
                  <a:srgbClr val="314004"/>
                </a:solidFill>
                <a:latin typeface="DejaVu Sans"/>
                <a:ea typeface="DejaVu Sans"/>
              </a:rPr>
              <a:t>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14004"/>
                </a:solidFill>
                <a:latin typeface="DejaVu Sans"/>
                <a:ea typeface="DejaVu Sans"/>
              </a:rPr>
              <a:t>Condiciones de bor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314004"/>
                </a:solidFill>
                <a:latin typeface="DejaVu Sans"/>
                <a:ea typeface="DejaVu Sans"/>
              </a:rPr>
              <a:t>Dirich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314004"/>
                </a:solidFill>
                <a:latin typeface="DejaVu Sans"/>
                <a:ea typeface="DejaVu Sans"/>
              </a:rPr>
              <a:t>Neuma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14004"/>
                </a:solidFill>
                <a:latin typeface="DejaVu Sans"/>
                <a:ea typeface="DejaVu Sans"/>
              </a:rPr>
              <a:t>Modela fenómenos estacionarios: potencial electrostático o distribución de temperatu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752480" y="3782880"/>
                <a:ext cx="13050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3135600" y="3878280"/>
            <a:ext cx="23234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00040" y="3971880"/>
            <a:ext cx="3160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00040" y="4394160"/>
            <a:ext cx="3160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50960" y="4300560"/>
            <a:ext cx="45212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243240" y="4740120"/>
                <a:ext cx="102888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200400" y="5173560"/>
                <a:ext cx="11700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n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étodos numéricos para EDP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erencias fini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os fini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úmenes fini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étodos de diferencias finitas para ecuación de Laplace 2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inio de aproxima por una gri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3429000" y="3276720"/>
            <a:ext cx="3200400" cy="289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ferencias Finita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ple e intuiti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ado en aproximar operadores diferenciales mediante operadores de difere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O(h²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u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ij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proxima el valor de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u(x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,y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j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500120" y="3516480"/>
            <a:ext cx="7056360" cy="78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sualización científica versus Visualización Realist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7305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sualización científica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 técnicas de visualización para ilustrar graficamente datos científicos de tal manera de facilitar  la comprensión de éstos (grandes volumenes de dat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jemplos en:</a:t>
            </a:r>
            <a:r>
              <a:rPr b="0" lang="en-US" sz="2000" spc="-1" strike="noStrike">
                <a:solidFill>
                  <a:srgbClr val="94476b"/>
                </a:solidFill>
                <a:latin typeface="Arial"/>
              </a:rPr>
              <a:t> http://en.wikipedia.org/wiki/Scientific_visu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sualización realista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técnicas para visualizar escenas generadas por el computador de modo que parezcan re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jemplos en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en.wikipedia.org/wiki/Fractal_land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ución numér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41000" y="14065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olución numéric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4476b"/>
                </a:solidFill>
                <a:latin typeface="Arial"/>
              </a:rPr>
              <a:t>es la aproximación de la solución exacta el el conjunto de puntos del domin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 escribe una ecuación de diferencias por cada punto de la gril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 agregan ecuaciones asociadas a las condiciones de bor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 obtiene un sistema lineal de ecuaciones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ũ=b </a:t>
            </a:r>
            <a:r>
              <a:rPr b="0" lang="en-US" sz="2200" spc="-1" strike="noStrike">
                <a:solidFill>
                  <a:srgbClr val="314004"/>
                </a:solidFill>
                <a:latin typeface="DejaVu Sans"/>
                <a:ea typeface="DejaVu Sans"/>
              </a:rPr>
              <a:t>en las variables </a:t>
            </a:r>
            <a:r>
              <a:rPr b="0" lang="en-US" sz="2200" spc="-1" strike="noStrike">
                <a:solidFill>
                  <a:srgbClr val="0000ff"/>
                </a:solidFill>
                <a:latin typeface="DejaVu Sans"/>
                <a:ea typeface="DejaVu Sans"/>
              </a:rPr>
              <a:t>u</a:t>
            </a:r>
            <a:r>
              <a:rPr b="0" lang="en-US" sz="1400" spc="-1" strike="noStrike">
                <a:solidFill>
                  <a:srgbClr val="0000ff"/>
                </a:solidFill>
                <a:latin typeface="DejaVu Sans"/>
                <a:ea typeface="DejaVu Sans"/>
              </a:rPr>
              <a:t>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8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314004"/>
                </a:solidFill>
                <a:latin typeface="DejaVu Sans"/>
                <a:ea typeface="DejaVu Sans"/>
              </a:rPr>
              <a:t>Se resuelve por métdodos iterativos o direc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94476b"/>
                </a:solidFill>
                <a:latin typeface="DejaVu Sans"/>
                <a:ea typeface="DejaVu Sans"/>
              </a:rPr>
              <a:t>La solución exacta de la EDP es una superficie definida sobre el domi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94476b"/>
                </a:solidFill>
                <a:latin typeface="DejaVu Sans"/>
                <a:ea typeface="DejaVu Sans"/>
              </a:rPr>
              <a:t>La solución numérica es una función discreta definida sobre el domi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rramienta a usar para obtner soluciones numéric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at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ftware matemát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nguaje técnico de alto nivel procedural, basado en matr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licaciones numéricas, análisis de datos, visualización de da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resa:  mathswork.com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io de matlab: (demo y tutori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mathworks.com/products/matlab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Ámbitos de uso de visualización científ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39400" y="12171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os capturados/medidos por instrumentos/satélites: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datos meteorológicos, terrestres, astronómico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os generados por simulaciones computacion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nciones matemáticas explícit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jemplo: Visualizar una esfera x²+y²+z² = r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514520" y="40291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410080" y="4029120"/>
            <a:ext cx="2133720" cy="21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Ámbitos de uso de visualización científ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39400" y="12171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licaciones 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encias natural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formación de estrellas, moléculas, 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grafía y Ecología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representación de la topografía,  simulación del clima, contaminación atmosférica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encia aplicada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diseño de aviones, visualización de ciudades, diseño de semiconductore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logía y minerí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visualización de sitios de exploración minera, yacimientos explotado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logía y medicina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poyo a la cirugía, estudio de estructuras biológ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sualización científica: Problemas básic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izar un terreno para x,y en un cuad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izar la solución de una EDP en un domino 2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76120" y="29527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971800" y="4610160"/>
            <a:ext cx="2257560" cy="2019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5448240" y="2695680"/>
            <a:ext cx="2324160" cy="18763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7048440" y="4800600"/>
            <a:ext cx="2324160" cy="197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sualización científica: Problemas básic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é tiene en común  la visualización de los problemas anteriores?  Es fácil? En qué se diferencia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sualización científica: clasificación de problemas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ización de superficies (2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ización de superficies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erta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rad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619600" y="1828800"/>
            <a:ext cx="4210200" cy="2085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914400" y="4791240"/>
            <a:ext cx="2486160" cy="1838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886360" y="4695840"/>
            <a:ext cx="2114640" cy="216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sualización científica: clasificación de problem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ización de datos de Volumen: ejemplo temperatura en un objeto 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210440" y="3200400"/>
            <a:ext cx="2619360" cy="2143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876400" cy="2124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831960" y="3060720"/>
            <a:ext cx="2825640" cy="311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mputación Gráfica,  Visualización y Modelación para Ingenieros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7T14:09:29Z</dcterms:created>
  <dc:creator/>
  <dc:description/>
  <dc:language>en-US</dc:language>
  <cp:lastModifiedBy/>
  <dcterms:modified xsi:type="dcterms:W3CDTF">2012-03-13T15:19:14Z</dcterms:modified>
  <cp:revision>34</cp:revision>
  <dc:subject/>
  <dc:title/>
</cp:coreProperties>
</file>