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E30-B8C3-45A4-8CC5-CC568FB9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EC5-BC21-4ADC-8E05-0BF9F14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7A0-2F09-4DCF-A63B-08492616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E76-3D1D-4838-85B3-016572BB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3F16-06FF-470B-9093-E6048897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231-B578-49BB-898D-5F400E5E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AF16-EAA0-4F52-B89D-C97ACEF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3CF5-7F0C-4AA8-B499-4DCE6D64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1C7-8FF3-4A6E-8780-34BFE82E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5DC6-114A-48A2-B57C-FEC86DA2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383D-236F-4965-9B19-6A9921C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979-E312-45C0-B2EC-F017006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A9A6-2F58-4794-9C58-2ED5757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0F6-0B5C-4EEA-BCB0-D9C5793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7851-6982-4AED-8E0F-58B9A103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2E8-C4CB-4E5F-BAED-64F135E4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A814-2E92-4514-9082-5BDBA1FD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857-F680-4496-AC24-FD65627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FE9-B69D-4EC3-B764-18DD56C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D3C-CEF1-4460-9025-0774F231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BA4-D6D0-4F98-AA1E-A089CC0F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C48-6D16-4CB3-A396-938DE08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53D-A1B5-4F07-8D64-F946FFA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8FF-4C45-41CC-A377-AC5ADD4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33353-B2EE-48AD-82D8-A358DBB06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B07A8-A048-49BF-8E58-51607FBE7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ractal_landscape" TargetMode="External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works.com/products/matlab/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ción, Discretización, Hardware y Método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guntas fundament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superficies en 3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objetos con volum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funciones matemáticas explicit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aproximaciones/discretizaciones de funciones desconocidas? o conocid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visualizamos estos mode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ación reali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992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amiento matemático computacional de escenas 2D o 3D (computación gráfica 3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sca  rigurosidad sino impres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tenimiento (juegos, pelícu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47640" y="4572000"/>
            <a:ext cx="255276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29000" y="46004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81800" y="2286000"/>
            <a:ext cx="1990800" cy="229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48320" y="4800600"/>
            <a:ext cx="2924280" cy="207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22640" y="6283440"/>
            <a:ext cx="1704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ndo frac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 y visualización realista son técnicas que interactú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científica usa elementos de visualización re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realista usa elementos de visualiz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ación gráfica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matemático computacional de una escena 3D que se visualiza en pantalla/dispositivo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ación de la escena y sus objetos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ge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de proy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o de iliminación que permite pintar en el dispositvo raster (pantalla discretizad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goritmos para: eliminar partes de objetos que no se ven, pintar sobre un dispositivo rast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ización: un concepto muy útil y ampl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920" y="1143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o matemático que aproxima y representa un un objeto continuo en base a un número finito de elementos básicos (puntos, polígonos, pedacitos cur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resentación/modelo computacional asociado al modelo ma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Distint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Cómo elegir el mejor? (depende de los requer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76800" y="470520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8660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05040" y="4751280"/>
            <a:ext cx="2525400" cy="20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modelamos/discretizamos objetos 3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pende de los requerimientos de la apl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ficie: triángulos, cuadriláteros (amb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ás estricta en aplicaciones científicas: restricciones de ángulos (mínimo y máximo), área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ás relajada en entretenimientos (juegos, cine):   basta que se vea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05200" y="45054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modelamos/discretizamos objetos 3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9920" y="1273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o en tres dimensiones (sólido)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traedros, hexaedros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irámides, prismas (tod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esa el volumen (interior de los obje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aplicaciones científicas: temperatura, fluido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566424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6200" y="4800600"/>
            <a:ext cx="48402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una placa cuadrada (geometría simp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ntos equidistribuí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le asocia una grilla y se estructura la información en una matriz.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Datos: conjunto de puntos; aproximación no conti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lla uniforme de polígonos( triángulos o cuadriláteros):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 permite manejar además  información de una superfici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normales, área, etc).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Aproximación continu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57280" y="48769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00680" y="5029200"/>
            <a:ext cx="445752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placa 2D con forma de 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ntos Equidistribuí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puede asociar una grilla. Matriz? Si, con cui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lla de polígonos: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permite obten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 información de superficie (normales, área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05720" y="433404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14400" y="4514760"/>
            <a:ext cx="187488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superficie de un terreno. Inp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s de puntos equidistribuidos (satélite)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sición, altura.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Se asocia grilla y estructura de tipo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Cómo visualizar la topografía del terre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Malla de polígonos: cuadrilateros y triáng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4267080"/>
            <a:ext cx="2409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 versus Visualización re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iscre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de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en hardware gráf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y métodos numé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ización en hardware gráf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9920" y="1273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raster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odelo es un arreglo rectangular de pix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picture element):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lemento más pequeño (con área distinta de cero) accesible para pintar en el dispositivo r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solución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úmero total de puntos en cada dirección.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Ejes alineados con la pantalla. Normalmente se especific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ncho x alto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. Ejemplo 1920x108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434340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285920" y="426708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ización: Pantalla ras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de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ubo de rayos catódicos (C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ntallas de cristal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C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da pixel se enciende/pinta por cort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z de electrones golpea al pixel (fósforo) y se enc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asa de refresco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iempo necesario para encender la imagen nuev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fresc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Barrido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según líneas horizontales, de arriba hacia 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15000" y="9144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305840" y="2809800"/>
            <a:ext cx="229536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me buffer/ buffer de refres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271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 de memoria (arreglo) donde  se almacena la imagen (e información de ésta) asociada a la pantall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n blanco y negr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bit por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n a color RG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d-green-blue): 24 bits/pixel, por ejemp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gráfico act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ado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(uno m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dor gráfico GPU (Graphic process unit). Acelera proceso gráfico realizando muchas operaciones por hardware y en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6000"/>
            <a:ext cx="90709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ización y métodos numéricos: solución numérica de una ecuación diferencial orfdinaria (ED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' = dy/dt = f(t,y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(0) = 0   (problema de valor ini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Problema: Encontrar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(t)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tal qu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y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pase por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 = (0,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94476b"/>
                </a:solidFill>
                <a:latin typeface="Arial"/>
              </a:rPr>
              <a:t>No siempre existe una solución explícita (no es posible hay una fórmula que represente la solución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)</a:t>
            </a:r>
            <a:r>
              <a:rPr b="0" lang="en-US" sz="2200" spc="-1" strike="noStrike">
                <a:solidFill>
                  <a:srgbClr val="94476b"/>
                </a:solidFill>
                <a:latin typeface="Arial"/>
              </a:rPr>
              <a:t>) entonces podemos encontrar una solución aproxim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todo de Eu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ntraremos un número finito de pun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Cómo encontrar estos puntos en el intervalo [a,b] 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(a = 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= a +kh  para k = 0, 1, …m donde h = (b-a)/m =b/m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+1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= 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+ h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640080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retización y métodos numér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niendo qu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'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''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 continuas y usando el teorema de Taylor para desarroll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y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dedor 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=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a cada pu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pu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al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) =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y'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(t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y''(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(t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² /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Al sustituir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'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=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 = 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=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+ y''(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h² /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Si h es suficientemente pequeño podemos despreciar el término que contien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²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y obte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  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aproximación de Eul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pitiendo el proceso podemos formular el paso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+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uaciones diferenciales parciales (EDP) elípticas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os problemas en física e ingeniería se modelan matemáticamente con ecuaciones diferenciales pa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ecuación diferencial en donde aparecen dos o más variables independiente se llam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cuación en derivadas pa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cuación de Lapl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n </a:t>
            </a: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Condiciones de bor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14004"/>
                </a:solidFill>
                <a:latin typeface="DejaVu Sans"/>
                <a:ea typeface="DejaVu Sans"/>
              </a:rPr>
              <a:t>Dirich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14004"/>
                </a:solidFill>
                <a:latin typeface="DejaVu Sans"/>
                <a:ea typeface="DejaVu Sans"/>
              </a:rPr>
              <a:t>Neu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Modela fenómenos estacionarios: potencial electrostático o distribución de 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52480" y="3782880"/>
                <a:ext cx="1305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135600" y="3878280"/>
            <a:ext cx="232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0040" y="3971880"/>
            <a:ext cx="316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0040" y="4394160"/>
            <a:ext cx="316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50960" y="4300560"/>
            <a:ext cx="4521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243240" y="4740120"/>
                <a:ext cx="1028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200400" y="5173560"/>
                <a:ext cx="1170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ED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fin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o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úmene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de diferencias finitas para ecuación de Laplace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io de aproxima por una gr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erencias Fini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e intui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ado en aproximar operadores diferenciales mediante operadores de di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roxima el valor de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(x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00120" y="3516480"/>
            <a:ext cx="7056360" cy="78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ización científica versus Visualización Reali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écnicas de visualización para ilustrar graficamente datos científicos de tal manera de facilitar  la comprensión de éstos (grandes volumenes de da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s en:</a:t>
            </a:r>
            <a:r>
              <a:rPr b="0" lang="en-US" sz="2000" spc="-1" strike="noStrike">
                <a:solidFill>
                  <a:srgbClr val="94476b"/>
                </a:solidFill>
                <a:latin typeface="Arial"/>
              </a:rPr>
              <a:t> http://en.wikipedia.org/wiki/Scientific_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realista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écnicas para visualizar escenas generadas por el computador de modo que parezcan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s en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Fractal_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ción numé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1000" y="1406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lución numéric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es la aproximación de la solución exacta el el conjunto de puntos d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escribe una ecuación de diferencias por cada punto de la gr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agregan ecuaciones asociadas a las condiciones de bor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obtiene un sistema lineal de ecuacione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ũ=b </a:t>
            </a: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en las variables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Se resuelve por métdodos iterativos o 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DejaVu Sans"/>
                <a:ea typeface="DejaVu Sans"/>
              </a:rPr>
              <a:t>La solución exacta de la EDP es una superficie definida sobr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DejaVu Sans"/>
                <a:ea typeface="DejaVu Sans"/>
              </a:rPr>
              <a:t>La solución numérica es una función discreta definida sobr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ramienta a usar para obtner soluciones numér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matemá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uaje técnico de alto nivel procedural, basado en mat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ciones numéricas, análisis de datos, visualización de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:  mathswork.co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io de matlab: (demo y tuto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mathworks.com/products/matla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 de uso de visualización cientí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9400" y="1217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capturados/medidos por instrumentos/satélit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atos meteorológicos, terrestres, astronómico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generados por simulaciones comput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iones matemáticas explíci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Visualizar una esfera x²+y²+z² = r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14520" y="4029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10080" y="4029120"/>
            <a:ext cx="213372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 de uso de visualización cientí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9400" y="1217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 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ncias natura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rmación de estrellas, moléculas, 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fía y Ecologí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presentación de la topografía,  simulación del clima, contaminación atmosférica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ncia aplicad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seño de aviones, visualización de ciudades, diseño de semiconductor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y minerí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isualización de sitios de exploración minera, yacimientos explotado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ía y medicina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oyo a la cirugía, estudio de estructuras bi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Problemas bás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un terreno para x,y en un 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la solución de una EDP en un domin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6120" y="2952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971800" y="4610160"/>
            <a:ext cx="2257560" cy="2019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48240" y="2695680"/>
            <a:ext cx="2324160" cy="187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048440" y="4800600"/>
            <a:ext cx="2324160" cy="19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Problemas bás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iene en común  la visualización de los problemas anteriores?  Es fácil? En qué se diferenci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clasificación de problema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de superficies (2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de superficies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rt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r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19600" y="1828800"/>
            <a:ext cx="4210200" cy="20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479124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886360" y="469584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clasificación de probl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ción de datos de Volumen: ejemplo temperatura en un objeto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10440" y="3200400"/>
            <a:ext cx="261936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876400" cy="212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831960" y="3060720"/>
            <a:ext cx="282564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4:09:29Z</dcterms:created>
  <dc:creator/>
  <dc:description/>
  <dc:language>en-US</dc:language>
  <cp:lastModifiedBy/>
  <dcterms:modified xsi:type="dcterms:W3CDTF">2012-03-13T15:19:14Z</dcterms:modified>
  <cp:revision>34</cp:revision>
  <dc:subject/>
  <dc:title/>
</cp:coreProperties>
</file>