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978-13B4-417F-B500-DF92D752D178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F10B-1BB6-416A-8DA2-930195F760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AC37-1C78-4311-B81E-E1B68CE98A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35B-D6FC-4FD4-9ACF-7964845987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3CE-7B1D-43E0-9B5D-E1B9FC7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942-2EE5-428D-B18F-A232C12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E35-4F85-44B4-ADF3-895C7D6D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860-86F8-4D8F-902C-27228412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E6C-D4D9-4ADC-BF29-D7950E3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C2F-3999-4B9A-A3E1-4C38B7E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225-2DB0-4E7C-B026-C132532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0CA-07C3-42F6-B85F-47652E6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EDF-78AE-4EAA-896D-1F1B454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E67-3FA1-4DF3-8706-32F3A672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D0B-626C-4169-A44F-DC13EB5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414-6CC7-434D-8F3B-244C536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AF33-9A01-4D2F-A435-6B26950C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-3003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3429000"/>
            <a:ext cx="7777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CC, FCFM, 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través de U-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NE: nota de ejercicios de aprendiza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18 mej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solo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os 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16280"/>
            <a:ext cx="81342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utació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lig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primer sem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utación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roducción al diseño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rácter y ubicación lo deciden los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tación I: 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arrollar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zonamiento algorítmic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y lógico como dimensiones de habilidad gral para resolver problemas de ing y ci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centivar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so 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acion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 sintaxis y semántica bien defin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mover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so 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(T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tación I: 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Resolver problemas valiéndose de notaciones, principios, técnicas y métodos de la disciplina de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resolver problemas a través de programas escritos en dos lenguaj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Java/Python (de propósito gener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TLAB (orientado a ingeniería y cienci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tación I: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134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de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troducción a la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tación II: 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arrollar capacidad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, modelami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 implementación comput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 problemas de mediana envergadura con requerimientos comunes a varias espe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tación II: 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ar y desarrollar sistemas computacionales de mediana enverg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gran volumen de datos o cómputo intens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tilizando software apropi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utación II: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digma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utación Intens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putación concurrente y distribuí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s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BD y uso de  SABD (c/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odología unificada (incluye 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95280" y="83664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71640" y="4005360"/>
          <a:ext cx="6985080" cy="223200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17:50:38Z</dcterms:created>
  <dc:creator>jalvarez</dc:creator>
  <dc:description/>
  <dc:language>en-US</dc:language>
  <cp:lastModifiedBy>jalvarez</cp:lastModifiedBy>
  <cp:lastPrinted>2006-08-14T18:23:31Z</cp:lastPrinted>
  <dcterms:modified xsi:type="dcterms:W3CDTF">2012-03-13T14:49:40Z</dcterms:modified>
  <cp:revision>26</cp:revision>
  <dc:subject/>
  <dc:title>Clases orientadas al aprendizaje en la primera asignatura  de Computación</dc:title>
</cp:coreProperties>
</file>