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000-2CF2-49A2-9083-ABA3E8B2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91F-F8F7-4205-80EF-671A5F2C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6DF-0F77-45C7-88A2-A6F0454B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20D-32DE-4780-8929-1CABCA18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8E5-940D-4258-9485-8BFB84C1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E57-4EDE-48CD-B653-A5015FD2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222-B83F-4B7B-AE41-694C7337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3EF-6420-4D40-B9B7-A94B6647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313-0583-422E-98DA-9F7BE4AB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C3A-E515-4E2F-9760-DF73B14D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69B-A9FE-48CB-BAF2-FE621B5A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16E-010C-4546-BBC0-6B623F3A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7EE8-D7D0-4955-945E-DBDBDBCF0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636480" y="480960"/>
          <a:ext cx="7917120" cy="6667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480" y="480960"/>
                    <a:ext cx="791712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25320" y="428760"/>
          <a:ext cx="80154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628560" y="387360"/>
          <a:ext cx="808992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387360"/>
                    <a:ext cx="808992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06440" y="498600"/>
          <a:ext cx="8626320" cy="58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98600"/>
                    <a:ext cx="8626320" cy="58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179280" y="18900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alcular puntajes de cada alum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ond=[0.5,0.1,0.2,0.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ntos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ntos += pond[i]*alumno[i+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[puntos,alumno[0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rdenar por puntaje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rever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ostrar primero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L[i][1],L[i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403200" y="469800"/>
          <a:ext cx="8427960" cy="57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379440" y="304920"/>
          <a:ext cx="861696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304920"/>
                    <a:ext cx="861696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03200" y="477720"/>
          <a:ext cx="851868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77720"/>
                    <a:ext cx="85186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71440" y="247680"/>
          <a:ext cx="86090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7680"/>
                    <a:ext cx="86090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69800"/>
          <a:ext cx="8427960" cy="683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"/>
          <p:cNvGraphicFramePr/>
          <p:nvPr/>
        </p:nvGraphicFramePr>
        <p:xfrm>
          <a:off x="452520" y="304920"/>
          <a:ext cx="8066160" cy="80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52520" y="304920"/>
          <a:ext cx="8066160" cy="80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03200" y="469800"/>
          <a:ext cx="8427960" cy="68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2-05-08T17:21:58Z</dcterms:modified>
  <cp:revision>124</cp:revision>
  <dc:subject/>
  <dc:title>Sin título de diapositiva</dc:title>
</cp:coreProperties>
</file>