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BB4-A573-46E8-962B-141ACC20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B25-5B20-4C3A-9E52-3B9BDA78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B2E-16E4-4A19-9691-9ABA78F8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E21-8217-400C-924D-8841CBB2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990-E90F-4C02-85FE-B5F0B13A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BE8-A0E0-4A19-AB66-8A81BE7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7A1-2B28-4B84-89FA-420B2610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EEB-33A9-4D4E-9A0B-57F5C576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E14-758D-4127-B712-091D47C9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D33-64E0-4E6D-B961-D0AF54E7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063-939F-49D3-9145-F44EE4F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E2C-D095-4CEC-A3B8-A4C2194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9FEC-44A3-4A58-9F0C-96BC9061E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6480" y="480960"/>
          <a:ext cx="7917120" cy="666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480" y="480960"/>
                    <a:ext cx="791712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8560" y="387360"/>
          <a:ext cx="808992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387360"/>
                    <a:ext cx="808992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06440" y="498600"/>
          <a:ext cx="8626320" cy="58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98600"/>
                    <a:ext cx="862632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puntajes de cada 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nd=[0.5,0.1,0.2,0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nto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ntos += pond[i]*alumno[i+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[puntos,alumno[0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por puntaje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rever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ostrar primero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L[i][1],L[i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090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090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83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2-05-08T17:21:58Z</dcterms:modified>
  <cp:revision>124</cp:revision>
  <dc:subject/>
  <dc:title>Sin título de diapositiva</dc:title>
</cp:coreProperties>
</file>