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8321-9546-4C60-934D-AC828732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046A-5E72-4782-9322-ECFB120F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5A2-487F-45B5-9CAF-59687962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D679-4EE0-45BC-84C7-6A2F448D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FE1-04A2-417A-B611-E587E8BE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E6B3-1812-45A6-80A7-BF04A58D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B61-0488-4C30-89E8-A60C1B86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229-12DE-4A37-A083-E9916840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BB4-41F6-4679-BB4B-1B67CD02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5E2-4C74-4810-85E1-EC735CF0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E6C6-AA28-49EB-8415-CBD978AF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6475-26C5-47E9-BE30-30B2B923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A77A-96F7-4DA8-88A0-52F7E4F01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636480" y="480960"/>
          <a:ext cx="7917120" cy="6667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6480" y="480960"/>
                    <a:ext cx="7917120" cy="66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625320" y="428760"/>
          <a:ext cx="80154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625320" y="428760"/>
          <a:ext cx="8015400" cy="65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628560" y="387360"/>
          <a:ext cx="808992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387360"/>
                    <a:ext cx="808992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406440" y="498600"/>
          <a:ext cx="8626320" cy="586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498600"/>
                    <a:ext cx="8626320" cy="58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Rectángulo"/>
          <p:cNvSpPr/>
          <p:nvPr/>
        </p:nvSpPr>
        <p:spPr>
          <a:xfrm>
            <a:off x="179280" y="189000"/>
            <a:ext cx="878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alcular puntajes de cada alum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nd=[0.5,0.1,0.2,0.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=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umno in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ntos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ntos += pond[i]*alumno[i+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append([puntos,alumno[0]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rdenar por puntaje desc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sor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rever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ostrar primero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L[i][1],L[i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403200" y="469800"/>
          <a:ext cx="8427960" cy="57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4"/>
          <p:cNvGraphicFramePr/>
          <p:nvPr/>
        </p:nvGraphicFramePr>
        <p:xfrm>
          <a:off x="379440" y="304920"/>
          <a:ext cx="8616960" cy="62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304920"/>
                    <a:ext cx="861696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03200" y="477720"/>
          <a:ext cx="851868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77720"/>
                    <a:ext cx="85186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271440" y="247680"/>
          <a:ext cx="8609040" cy="672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247680"/>
                    <a:ext cx="8609040" cy="67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403200" y="469800"/>
          <a:ext cx="8427960" cy="683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83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4"/>
          <p:cNvGraphicFramePr/>
          <p:nvPr/>
        </p:nvGraphicFramePr>
        <p:xfrm>
          <a:off x="452520" y="304920"/>
          <a:ext cx="8066160" cy="80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452520" y="304920"/>
          <a:ext cx="8066160" cy="80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03200" y="469800"/>
          <a:ext cx="8427960" cy="689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89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12-05-08T17:21:58Z</dcterms:modified>
  <cp:revision>124</cp:revision>
  <dc:subject/>
  <dc:title>Sin título de diapositiva</dc:title>
</cp:coreProperties>
</file>