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8F7-364B-4A8C-BAA1-F1B0F587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319E-F178-40AB-B65F-14E448BE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3F9-03AD-4947-9F24-0E7A487A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191-E620-4918-9D98-751FE108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6FF-A53A-4195-A6A0-025C94BA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9FB2-D63F-421D-AE97-B55491EB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807-D609-4ED2-BB2F-91DA9A11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F90-F9CB-4B83-B5BD-440F85A4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01F-ACF8-47E6-94FE-E44EC438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BEF-A1F2-4F06-B550-181185E0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59B-A016-4AF9-A5BB-3372530C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1DA-6674-4F29-AA26-B5E81D3D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7CDC-EFFD-461D-89FC-C3CF1B2C1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636480" y="480960"/>
          <a:ext cx="7917120" cy="6667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480" y="480960"/>
                    <a:ext cx="791712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625320" y="428760"/>
          <a:ext cx="80154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625320" y="428760"/>
          <a:ext cx="8015400" cy="65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628560" y="387360"/>
          <a:ext cx="808992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387360"/>
                    <a:ext cx="808992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406440" y="498600"/>
          <a:ext cx="8626320" cy="586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498600"/>
                    <a:ext cx="8626320" cy="58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Rectángulo"/>
          <p:cNvSpPr/>
          <p:nvPr/>
        </p:nvSpPr>
        <p:spPr>
          <a:xfrm>
            <a:off x="179280" y="18900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alcular puntajes de cada alum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nd=[0.5,0.1,0.2,0.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ntos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ntos += pond[i]*alumno[i+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[puntos,alumno[0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rdenar por puntaje de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so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rever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ostrar primero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L[i][1],L[i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403200" y="469800"/>
          <a:ext cx="8427960" cy="57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"/>
          <p:cNvGraphicFramePr/>
          <p:nvPr/>
        </p:nvGraphicFramePr>
        <p:xfrm>
          <a:off x="379440" y="304920"/>
          <a:ext cx="861696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304920"/>
                    <a:ext cx="861696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03200" y="477720"/>
          <a:ext cx="851868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77720"/>
                    <a:ext cx="85186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271440" y="247680"/>
          <a:ext cx="8609040" cy="67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247680"/>
                    <a:ext cx="860904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403200" y="469800"/>
          <a:ext cx="8427960" cy="683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8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4"/>
          <p:cNvGraphicFramePr/>
          <p:nvPr/>
        </p:nvGraphicFramePr>
        <p:xfrm>
          <a:off x="452520" y="304920"/>
          <a:ext cx="8066160" cy="80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452520" y="304920"/>
          <a:ext cx="8066160" cy="80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03200" y="469800"/>
          <a:ext cx="8427960" cy="68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8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2-05-08T17:21:58Z</dcterms:modified>
  <cp:revision>124</cp:revision>
  <dc:subject/>
  <dc:title>Sin título de diapositiva</dc:title>
</cp:coreProperties>
</file>