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E45AE9-0C83-4C13-88A7-5B8C3C5F4F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9BD6F2-EA7E-4F27-B46C-C5485E2E96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F1A-1F85-49EB-8231-94D0AE4B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124-63D3-400D-A278-BF721941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397-0F5B-449B-82E2-AE731E7A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2BB-E591-45B2-BAF5-74B0D1FA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0E8-325D-4A0A-B84F-A770E55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984-DCD2-47D9-85BD-93D55AA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117-B5DF-4B26-928D-44EDB63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705-C52B-4A85-BC7C-C6AC9F3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369-C5AB-46E2-A8C0-EEE5FE38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ADC-2BED-4E58-B147-8398739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622-211B-4D21-B58B-B616E1B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BDE-4C3B-4940-8293-AD4C5C0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3370-137A-4E48-8FC8-65D4F57C1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6040" y="255600"/>
          <a:ext cx="8583840" cy="58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55600"/>
                    <a:ext cx="858384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2920" y="128520"/>
          <a:ext cx="812160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28520"/>
                    <a:ext cx="812160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088480" cy="683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088480" cy="68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2-05-03T15:32:19Z</dcterms:modified>
  <cp:revision>64</cp:revision>
  <dc:subject/>
  <dc:title>Sin título de diapositiva</dc:title>
</cp:coreProperties>
</file>