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5409F7-97F3-438A-BE7E-28C930A163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F71425-46E0-4AC1-928D-A148FC5F5F8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A01-22E2-4276-A499-10E1AEEF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D54-6F4D-4830-80F2-D26458F9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681-C053-4259-89D2-2A540341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F86-0A8E-4BA6-A397-369A4CB6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E71-AB34-4371-9496-D35A6928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951-F32A-4596-8A7D-9B2B3597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1A9-E100-48A0-9D76-5381DB40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CD3-0E16-46A5-9083-EF371B8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D72-4943-4E71-8D3A-02E4DC5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176-ADE7-47A8-BD50-063CE43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5E0-BB2C-4B47-82CD-0DC34B3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D7C-F689-4A22-886E-39C31B58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CECC-8033-403E-9BD2-A18ACA2C9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6040" y="255600"/>
          <a:ext cx="8583840" cy="58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255600"/>
                    <a:ext cx="858384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2920" y="128520"/>
          <a:ext cx="8121600" cy="66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28520"/>
                    <a:ext cx="812160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74680" y="266760"/>
          <a:ext cx="876312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74680" y="266760"/>
          <a:ext cx="876312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088480" cy="683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088480" cy="683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2-05-03T15:32:19Z</dcterms:modified>
  <cp:revision>64</cp:revision>
  <dc:subject/>
  <dc:title>Sin título de diapositiva</dc:title>
</cp:coreProperties>
</file>