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C04507-DDD0-4E94-B13A-D2B40623DE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5FC54F-BB7A-4926-AC2B-88EE129F2D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78A-9D4A-4F4A-9CF6-79867475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725-D92F-41EB-9E30-5D118357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5F6-08E7-4AC0-9035-DE3D4609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CCF-16B6-4429-87A9-2E91BDD2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ABE-0F2F-4D7B-8A7F-1E24B48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4C51-3A22-4BD8-A82C-2CBF1110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56E-CA7B-42DD-B1C1-4E42ACE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1D2-1132-463A-961F-879D02E5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4A8-AD05-40E4-8733-70216E8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AE5-95F6-4AAA-B1B3-D868B983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F6A-A4B7-41B7-83F3-996B9AA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960-86CF-443D-87AE-CE3E8F0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3D17-2D53-4E54-98B9-34AB0596E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6040" y="255600"/>
          <a:ext cx="8583840" cy="58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55600"/>
                    <a:ext cx="858384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2920" y="128520"/>
          <a:ext cx="8121600" cy="66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28520"/>
                    <a:ext cx="812160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274680" y="266760"/>
          <a:ext cx="8763120" cy="679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088480" cy="683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088480" cy="683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2-05-03T15:32:19Z</dcterms:modified>
  <cp:revision>64</cp:revision>
  <dc:subject/>
  <dc:title>Sin título de diapositiva</dc:title>
</cp:coreProperties>
</file>