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C2B7-BDE9-49AB-8122-8047ADDDE7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63B5-1E56-4A82-B8A1-E7024EEAD7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B0C-F8E8-404C-A3D2-ED75C652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43C-1F45-4440-B7CD-6D36D0E8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281-70E0-488C-8EEC-7D2F1106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078-52ED-4867-ACAA-1731B7CC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9C0-B283-4DE7-BBE8-8147F101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81D-9B14-4389-B5DF-9EA4637E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D3F-9DF4-449E-A14F-C46D68F8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2D4-F1AA-4257-B85C-76DB6F82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E74-231E-4972-920D-2A9394A3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ED4-20D7-4F43-A85E-7FF9F0D4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AAF-3FD9-4272-A3B4-C663908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013-A6E6-426D-944B-36039523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5A4A-99E2-4E54-9630-D1012187923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troducción a la programación Orientada a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1557360"/>
            <a:ext cx="82947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os y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5"/>
          <p:cNvGraphicFramePr/>
          <p:nvPr/>
        </p:nvGraphicFramePr>
        <p:xfrm>
          <a:off x="419040" y="343080"/>
          <a:ext cx="8086680" cy="577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0866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19040" y="343080"/>
          <a:ext cx="8543880" cy="66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90600" y="399960"/>
          <a:ext cx="8658000" cy="674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99960"/>
                    <a:ext cx="8658000" cy="67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250920" y="115920"/>
            <a:ext cx="889308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1,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nu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X(1-100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=Entry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.bind("&lt;Return&gt;",obtenerNu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spuesta y botón en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Label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entana,text="me rindo",command=ren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419040" y="485640"/>
          <a:ext cx="84391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5640"/>
                    <a:ext cx="84391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179280" y="189000"/>
          <a:ext cx="8648640" cy="74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648640" cy="74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142920" y="142920"/>
          <a:ext cx="8839080" cy="73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8839080" cy="73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7640" y="1125000"/>
            <a:ext cx="928836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=200; H=200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Acu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=Frame(V); m.pa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(m,text="avanzar",command=self.avanzar)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vance=Entry(m); self.avance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(m,text="girar",command=self.girar)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giro=Entry(m); self.giro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(m,text="clear",command=self.clear).pack(side=LEF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,width=H,height=H); self.cv.pa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le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lear(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0,0,W,H,fill="whit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T=Tortuga(W/2,H/2,self.c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avanzar(self):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T.avanzar(int(self.avance.get(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irar(self):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T.girar(int(self.giro.get(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; Acuario(V); V.mainloop() #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5046840" y="0"/>
            <a:ext cx="3485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99960" y="257040"/>
          <a:ext cx="8267760" cy="626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6776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inverso(“roma”)=“a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=“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c in x: s=c+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 #recur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x==“”: return “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capicua(“reconocer”)=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se=raw_input(“frase?”).replace(“ “,””).lower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50920" y="144000"/>
            <a:ext cx="87138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nombre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9280" y="733680"/>
            <a:ext cx="878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#T1.__str__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5"/>
          <p:cNvGraphicFramePr/>
          <p:nvPr/>
        </p:nvGraphicFramePr>
        <p:xfrm>
          <a:off x="419040" y="343080"/>
          <a:ext cx="841068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19040" y="343080"/>
          <a:ext cx="842976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2-04-30T14:51:58Z</dcterms:modified>
  <cp:revision>115</cp:revision>
  <dc:subject/>
  <dc:title>Diapositiva 1</dc:title>
</cp:coreProperties>
</file>