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ABED-84DC-4730-B9DB-29B63DDA93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C2F9-AFDB-46DC-85E4-23E2BBAA09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446-D507-43CB-B162-23AE412B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81E-BFF3-4856-BBE4-2A22E8D2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11C-ABC0-4CE3-94E2-A99E6D9F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8D6-EC7D-48F6-BAC9-5B1E13A7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9EF-319A-4FCE-80B2-C9481533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349-BD94-4D92-BF06-6596C5FF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EA1-BDEC-4664-B441-394AE06B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D55-2112-4EBE-869E-A3374E3C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7C1-362C-4F26-A978-36DE5D21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865-C461-495F-A064-6E6CD66D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C6E-C6BB-45C4-9CE2-9E457AAA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F38-2BE0-476B-AB7F-99AEA7C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5714-FA33-4139-BC05-DB9CBE87165F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troducción a la programación Orientada a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1557360"/>
            <a:ext cx="829476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os y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5"/>
          <p:cNvGraphicFramePr/>
          <p:nvPr/>
        </p:nvGraphicFramePr>
        <p:xfrm>
          <a:off x="419040" y="343080"/>
          <a:ext cx="8086680" cy="577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0866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19040" y="343080"/>
          <a:ext cx="8543880" cy="66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90600" y="399960"/>
          <a:ext cx="8658000" cy="674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99960"/>
                    <a:ext cx="8658000" cy="67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250920" y="115920"/>
            <a:ext cx="889308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1,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nu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X(1-100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=Entry(mar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.bind("&lt;Return&gt;",obtenerNum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spuesta y botón en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Label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entana,text="me rindo",command=ren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419040" y="485640"/>
          <a:ext cx="8439120" cy="665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5640"/>
                    <a:ext cx="8439120" cy="66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179280" y="189000"/>
          <a:ext cx="8648640" cy="74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648640" cy="74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142920" y="142920"/>
          <a:ext cx="8839080" cy="73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8839080" cy="73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7640" y="1125000"/>
            <a:ext cx="928836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=200; H=200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Acu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=Frame(V); m.pa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(m,text="avanzar",command=self.avanzar)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vance=Entry(m); self.avance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(m,text="girar",command=self.girar)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giro=Entry(m); self.giro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(m,text="clear",command=self.clear).pack(side=LEF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,width=H,height=H); self.cv.pa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le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lear(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0,0,W,H,fill="whit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T=Tortuga(W/2,H/2,self.c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avanzar(self):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T.avanzar(int(self.avance.get(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irar(self):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T.girar(int(self.giro.get(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; Acuario(V); V.mainloop() #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5046840" y="0"/>
            <a:ext cx="3485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99960" y="257040"/>
          <a:ext cx="8267760" cy="626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6776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inverso(“roma”)=“a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=“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c in x: s=c+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 #recur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x==“”: return “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capicua(“reconocer”)=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se=raw_input(“frase?”).replace(“ “,””).lower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50920" y="144000"/>
            <a:ext cx="87138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nombre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9280" y="733680"/>
            <a:ext cx="878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#T1.__str__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5"/>
          <p:cNvGraphicFramePr/>
          <p:nvPr/>
        </p:nvGraphicFramePr>
        <p:xfrm>
          <a:off x="419040" y="343080"/>
          <a:ext cx="841068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19040" y="343080"/>
          <a:ext cx="842976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2-04-30T14:51:58Z</dcterms:modified>
  <cp:revision>115</cp:revision>
  <dc:subject/>
  <dc:title>Diapositiva 1</dc:title>
</cp:coreProperties>
</file>