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0072-BD08-480F-B164-9A133E45A1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7BC0-35CD-4FDD-B330-A49662CD9C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6480" y="4689360"/>
            <a:ext cx="498456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D8F-F885-4ED5-ABA4-EE756509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BB5-C023-4F9D-B5B1-A5494BA0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F60-989D-4811-B0A4-0F5070B6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266-A5B2-460C-A835-C672CD06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C34-832D-4D43-8B55-F6D7B94E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474-B10C-40CE-B4D0-BB44FB7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4F1-828D-42A7-A8B1-24B335B4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E33-286D-4773-86E0-3AB031A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2F3-2D53-47FB-B5F8-C3697C85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4FF-1441-4174-8962-95AA6685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252-B44C-48FD-8B14-01FCBE77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70C-FB36-4274-89F9-8DD8D61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840-4DF6-4780-B3FA-7D3E6EEE51B5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troducción a la programación Orientada a Ob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1557360"/>
            <a:ext cx="82947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os y 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5"/>
          <p:cNvGraphicFramePr/>
          <p:nvPr/>
        </p:nvGraphicFramePr>
        <p:xfrm>
          <a:off x="419040" y="343080"/>
          <a:ext cx="8086680" cy="577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0866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19040" y="343080"/>
          <a:ext cx="8543880" cy="66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543880" cy="66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419040" y="371520"/>
          <a:ext cx="8496360" cy="65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71520"/>
                    <a:ext cx="8496360" cy="65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390600" y="399960"/>
          <a:ext cx="8658000" cy="674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99960"/>
                    <a:ext cx="8658000" cy="67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250920" y="115920"/>
            <a:ext cx="889308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random.randint(1,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nu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X(1-100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=Entry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.bind("&lt;Return&gt;",obtenerNum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spuesta y botón en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Label(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=Button(ventana,text="me rindo",command=rendi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.pac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19040" y="485640"/>
          <a:ext cx="84391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5640"/>
                    <a:ext cx="84391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179280" y="189000"/>
          <a:ext cx="8648640" cy="74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648640" cy="74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142920" y="142920"/>
          <a:ext cx="8839080" cy="73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8839080" cy="73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07640" y="1125000"/>
            <a:ext cx="928836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=200; H=200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Acu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=Frame(V); m.pa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(m,text="avanzar",command=self.avanzar)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avance=Entry(m); self.avance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(m,text="girar",command=self.girar)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giro=Entry(m); self.giro.pack(side=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(m,text="clear",command=self.clear).pack(side=LEF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=Canvas(V,width=H,height=H); self.cv.pa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le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lear(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cv.create_rectangle(0,0,W,H,fill="white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T=Tortuga(W/2,H/2,self.c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avanzar(self):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T.avanzar(int(self.avance.get(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irar(self):</a:t>
            </a:r>
            <a:r>
              <a:rPr b="0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T.girar(int(self.giro.get(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=Tk(); Acuario(V); V.mainloop() #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046840" y="0"/>
            <a:ext cx="34858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399960" y="257040"/>
          <a:ext cx="8267760" cy="626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57040"/>
                    <a:ext cx="8267760" cy="62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inverso(“roma”)=“am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=“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or c in x: s=c+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x): #recurs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x==“”: return “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return inverso(x[1:])+x[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capicua(“reconocer”)=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ef capicua(x): return x==inverso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#determinar si una frase es capic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rase=raw_input(“frase?”).replace(“ “,””).lower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 capicua(fras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print “no es capicu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50920" y="144000"/>
            <a:ext cx="871380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grabar líneas con información correc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nombre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abrir archivos de lectura y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open(“notas.txt”,”r”)  #para l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open(“notas1.txt”,”w”) #para escr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todas las lin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si nombre es alfabético y nota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linea[0:20].replace(“ “,””).isalpha() 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nd linea[20:22].replace(“ “,””).is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grabar en arch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write(li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err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b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733680"/>
            <a:ext cx="878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promedio de notas y % de aprob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alumnos=aprobados=0 #asignación “múltip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 #2º parámetro “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lumnos += 1 #alumnos=alumnos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 #conversión a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 +=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probados +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promedio”,suma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% aprobados=“, 100.0*aprobados/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79280" y="460800"/>
            <a:ext cx="827892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“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=open(“notas1.tx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obtener nombre y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mbre=linea[0:2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ota=int(linea[20:2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mantener alumnos con mejor 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nota&gt;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Nota=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=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lif nota==mejorN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mejores += “\n” +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“mejores alumnos:\n”+mej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97080" y="124200"/>
            <a:ext cx="6581520" cy="58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logo del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1(HH:MM)?XX:XX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ante2(HH:MM)?XX: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ia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= HH: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1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=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empo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raw_input(“Instante2(HH:MM)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“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m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+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#T1.__add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Diferencia=“,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-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T1.__sub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 &gt; T2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               #T1.__gt__(T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1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#T1.__str__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Mayor=“,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5"/>
          <p:cNvGraphicFramePr/>
          <p:nvPr/>
        </p:nvGraphicFramePr>
        <p:xfrm>
          <a:off x="419040" y="343080"/>
          <a:ext cx="8410680" cy="62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10680" cy="62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19040" y="343080"/>
          <a:ext cx="842976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43080"/>
                    <a:ext cx="842976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2-04-30T14:51:58Z</dcterms:modified>
  <cp:revision>115</cp:revision>
  <dc:subject/>
  <dc:title>Diapositiva 1</dc:title>
</cp:coreProperties>
</file>