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F7C-0041-4250-8FCA-353A4192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3D7-263C-49F1-BA11-73FE2A46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C49-E82E-4885-9A21-C005D174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55E-665C-430E-A8B4-50E104A2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3D1-6733-4058-AF45-3787C736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38B-AD25-4C1B-B8AE-8EAAF452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4D1-DB49-4D9A-A2D2-FD183E43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2AD-CCE4-4FA5-9839-70116835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67F-3EAB-4ED8-ADEB-A7273491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C0D-453C-4AEB-B948-C37D8C4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AD9-F536-48A6-92D6-3B977519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AA8-AA05-45DB-80C0-384ED6FF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73DF-4468-43F4-AAB8-D0A64786F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45960" y="284040"/>
          <a:ext cx="818532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84040"/>
                    <a:ext cx="818532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372960" y="399960"/>
          <a:ext cx="8194680" cy="62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9960"/>
                    <a:ext cx="819468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Rectángulo"/>
          <p:cNvSpPr/>
          <p:nvPr/>
        </p:nvSpPr>
        <p:spPr>
          <a:xfrm>
            <a:off x="0" y="2852640"/>
            <a:ext cx="925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179280" y="2997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00016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an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min(alto,ancho)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,text="circunferencia",command=dibuj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to=200; 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,width=ancho,height=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=input("ancho?"); H=input("alto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W,height=H,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191160"/>
            <a:ext cx="8893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1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324000" y="26028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 usando n puntos de [a,b]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12-04-27T16:55:36Z</dcterms:modified>
  <cp:revision>102</cp:revision>
  <dc:subject/>
  <dc:title>Sin título de diapositiva</dc:title>
</cp:coreProperties>
</file>