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B87D-716F-4E35-ACE1-2FA7205D9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C16F-2B83-4998-B9FC-4487442D6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8A15-612B-4292-86C0-157536944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BCE7-EAE5-4A72-95C7-5F46EA937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EA8F-B5D4-4E3E-A79A-F78D9CAD3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51F7-F47A-4446-941B-5EEC58A37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EA6F-6906-41EE-9B3D-F93918E3C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BD99-2271-4CED-90F8-4BA7C0E4D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E269-A9B0-45C0-85B1-7209E791B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C2F3-0C5D-4F2B-AA63-E1BFD7295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EFC7-E82E-4698-8931-DCA3418ED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DBFF-A113-448E-8B1F-CA693CDFF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455A4-3C00-49F4-A342-EE427B83D9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2"/>
          <p:cNvGraphicFramePr/>
          <p:nvPr/>
        </p:nvGraphicFramePr>
        <p:xfrm>
          <a:off x="345960" y="284040"/>
          <a:ext cx="8185320" cy="6249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5960" y="284040"/>
                    <a:ext cx="8185320" cy="624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1 Rectángulo"/>
          <p:cNvSpPr/>
          <p:nvPr/>
        </p:nvSpPr>
        <p:spPr>
          <a:xfrm>
            <a:off x="179280" y="333360"/>
            <a:ext cx="8713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graficar fun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0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0=H-coordenadaPixel(f(a),minimo,maximo,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=a+del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x&lt;=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=coordenadaPixel(x,a,b,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=H-coordenadaPixel(f(x),minimo,maximo,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v.create_line(h0,v0,h,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0=h; v0=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=x+del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convertir x en [y,z] a coord [0,w] de pixel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coordenadaPixel(x,y,z,w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int(w*(x-y)/(z-y)+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4"/>
          <p:cNvGraphicFramePr/>
          <p:nvPr/>
        </p:nvGraphicFramePr>
        <p:xfrm>
          <a:off x="372960" y="399960"/>
          <a:ext cx="8194680" cy="624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2960" y="399960"/>
                    <a:ext cx="8194680" cy="624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4"/>
          <p:cNvGraphicFramePr/>
          <p:nvPr/>
        </p:nvGraphicFramePr>
        <p:xfrm>
          <a:off x="230040" y="141120"/>
          <a:ext cx="8523360" cy="697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040" y="141120"/>
                    <a:ext cx="8523360" cy="697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Object 4"/>
          <p:cNvGraphicFramePr/>
          <p:nvPr/>
        </p:nvGraphicFramePr>
        <p:xfrm>
          <a:off x="177840" y="195120"/>
          <a:ext cx="8825040" cy="6863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40" y="195120"/>
                    <a:ext cx="8825040" cy="686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250920" y="299520"/>
            <a:ext cx="8713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actualizar angulo: sumar x (en radian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girar(self,x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adianes=x*math.pi/18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angulo += radia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dibujar línea y reubicar tortu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avanzar(self,x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calcular nuevas coordenad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f = self.h + int(x*math.cos(self.angulo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f = self.v - int(x*math.sin(self.angulo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dibujar lín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cv.create_line(self.h,self.v,hf,v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actualizar ubicación de tortu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h=h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v=v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99640" y="-360"/>
            <a:ext cx="755676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olígono regular de N lados de tamaño L (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¿L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0 y N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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4000" y="3141720"/>
            <a:ext cx="701676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repetir n ve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i&lt;=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=i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avanzar tortuga en L(dibujando line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.avanzar(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girar tortu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.girar(360.0/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1187280" y="765000"/>
            <a:ext cx="203868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611280" y="549360"/>
          <a:ext cx="7846920" cy="5935680"/>
        </p:xfrm>
        <a:graphic>
          <a:graphicData uri="http://schemas.openxmlformats.org/drawingml/2006/table">
            <a:tbl>
              <a:tblPr/>
              <a:tblGrid>
                <a:gridCol w="1512720"/>
                <a:gridCol w="1656000"/>
                <a:gridCol w="1512720"/>
                <a:gridCol w="1584360"/>
                <a:gridCol w="15811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tt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t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tt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t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tt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vanz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r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e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rtuga 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rizontal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rtical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tt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b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t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b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t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1 Rectángulo"/>
          <p:cNvSpPr/>
          <p:nvPr/>
        </p:nvSpPr>
        <p:spPr>
          <a:xfrm>
            <a:off x="395280" y="476280"/>
            <a:ext cx="7993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Nota. Existe clase predefinida en Phy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turtle import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=Turtl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.left(4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i&lt;=4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.forward(1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.left(9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=i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2"/>
          <p:cNvGraphicFramePr/>
          <p:nvPr/>
        </p:nvGraphicFramePr>
        <p:xfrm>
          <a:off x="539640" y="147600"/>
          <a:ext cx="7564680" cy="671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47600"/>
                    <a:ext cx="7564680" cy="671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3 Rectángulo"/>
          <p:cNvSpPr/>
          <p:nvPr/>
        </p:nvSpPr>
        <p:spPr>
          <a:xfrm>
            <a:off x="0" y="2852640"/>
            <a:ext cx="925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Tkinter import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=T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v=Canvas(ventana,width=200,height=2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v.pa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v.create_rectangle(20,40,100,1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v.create_rectangle(100,100,200,200,fill="black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.mainloop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3059280" y="404640"/>
            <a:ext cx="201924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3132000" y="189000"/>
            <a:ext cx="2019600" cy="2276280"/>
          </a:xfrm>
          <a:prstGeom prst="rect">
            <a:avLst/>
          </a:prstGeom>
          <a:ln w="0">
            <a:noFill/>
          </a:ln>
        </p:spPr>
      </p:pic>
      <p:sp>
        <p:nvSpPr>
          <p:cNvPr id="46" name="2 Rectángulo"/>
          <p:cNvSpPr/>
          <p:nvPr/>
        </p:nvSpPr>
        <p:spPr>
          <a:xfrm>
            <a:off x="179280" y="2997360"/>
            <a:ext cx="8496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Tkinter import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=T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v=Canvas(ventana,width=200,height=2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v.pa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v.create_oval(20,40,100,1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v.create_oval(100,100,200,200,fill="black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.mainloop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5940360" y="189000"/>
            <a:ext cx="2000160" cy="2485800"/>
          </a:xfrm>
          <a:prstGeom prst="rect">
            <a:avLst/>
          </a:prstGeom>
          <a:ln w="0">
            <a:noFill/>
          </a:ln>
        </p:spPr>
      </p:pic>
      <p:sp>
        <p:nvSpPr>
          <p:cNvPr id="48" name="2 Rectángulo"/>
          <p:cNvSpPr/>
          <p:nvPr/>
        </p:nvSpPr>
        <p:spPr>
          <a:xfrm>
            <a:off x="0" y="692280"/>
            <a:ext cx="9144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circunferencias al az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Tkinter import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mport rand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dibujar(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=random.randint(0,anc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y=random.randint(0,al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=random.randint(1,min(alto,ancho))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v.create_oval(x-r,y-r,x+r,y+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=T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=Button(v,text="circunferencia",command=dibuj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to=200; ancho=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v=Canvas(v,width=ancho,height=alto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.pack(); cv.pa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.mainloop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Object 4"/>
          <p:cNvGraphicFramePr/>
          <p:nvPr/>
        </p:nvGraphicFramePr>
        <p:xfrm>
          <a:off x="293760" y="160200"/>
          <a:ext cx="7881840" cy="6631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3760" y="160200"/>
                    <a:ext cx="7881840" cy="663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1 Rectángulo"/>
          <p:cNvSpPr/>
          <p:nvPr/>
        </p:nvSpPr>
        <p:spPr>
          <a:xfrm>
            <a:off x="250920" y="260280"/>
            <a:ext cx="87138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Tkinter import 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=T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=input("ancho?"); H=input("alto?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v=Canvas(ventana,width=W,height=H,bg="white")#fo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v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dibujar ej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v.create_line(0,H-1,W,H-1) #horizo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v.create_line(W/2,0,W/2,H) #vert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0=0; v0=0 #coordenadas comienzo primera lin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iterar con x=-100,-90,…,-10,0,10,…,90,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-100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x&lt;=100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y=x*x #valor de la fun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 = int(W*(x+100)/200 + 0.5) #coord horizo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 = H - int(H*y/10000 + 0.5) #coord vert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v.create_line(h0,v0,h,v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0=h; v0=v #actualizar coordenadas comienzo lín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x +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.mainloop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4"/>
          <p:cNvGraphicFramePr/>
          <p:nvPr/>
        </p:nvGraphicFramePr>
        <p:xfrm>
          <a:off x="399960" y="417600"/>
          <a:ext cx="8487000" cy="7199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417600"/>
                    <a:ext cx="8487000" cy="719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"/>
          <p:cNvSpPr/>
          <p:nvPr/>
        </p:nvSpPr>
        <p:spPr>
          <a:xfrm>
            <a:off x="250920" y="191160"/>
            <a:ext cx="8893080" cy="66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graficar seno con 20 ptos entre 0 y 2*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Tkinter import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mport m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=T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v=Canvas(ventana,width=200,height=100,bg="white"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v.pa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raficar(math.sin,20,0,2*math.pi,cv,200,1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entana.mainloop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graficar x*x con 20 ptos entre -100 y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uadrad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x): return x*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Tkinter import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=T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v=Canvas(ventana,width=200,height=200,bg="white"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v.pa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ficar(cuadrado,20,-100,100,cv,200,2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.mainloop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1 Rectángulo"/>
          <p:cNvSpPr/>
          <p:nvPr/>
        </p:nvSpPr>
        <p:spPr>
          <a:xfrm>
            <a:off x="324000" y="260280"/>
            <a:ext cx="8712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Tkinter import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graficar f usando n puntos de [a,b] en canvas cv de WxH pixe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graficar(f,n,a,b,cv,W,H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determinar minimo y maximo de f en [a,b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inimo=f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ximo=f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lta=(b-a)/(n-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=a+del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x &lt;= b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y=f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inimo=min(y,minim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ximo=max(y,maxim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x + del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7T18:17:19Z</dcterms:created>
  <dc:creator>jalvarez</dc:creator>
  <dc:description/>
  <dc:language>en-US</dc:language>
  <cp:lastModifiedBy>jalvarez</cp:lastModifiedBy>
  <cp:lastPrinted>2006-04-21T23:26:38Z</cp:lastPrinted>
  <dcterms:modified xsi:type="dcterms:W3CDTF">2012-04-27T16:55:36Z</dcterms:modified>
  <cp:revision>102</cp:revision>
  <dc:subject/>
  <dc:title>Sin título de diapositiva</dc:title>
</cp:coreProperties>
</file>